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3C4E-612C-4995-81B3-6C438D49D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9979-653A-46B9-B4AA-7ACC94400C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1529-BB72-4B2D-A8D5-B1071871D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8A25-B267-46EF-B686-2673AB471E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0992-BBC0-446F-B797-1EF578399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773E-FF08-4DB4-B3F3-7585FF23F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87C3-E485-4844-BE2A-6490D06DD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0CA4-3F2F-4B44-922A-7CED07FA8C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19CA-A5BF-4541-AB9B-48609B825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EBD8-382B-44DD-BE68-71BD9FD95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7FB1-9DD3-4541-A528-8980DE0DC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5B90-1B9A-47FB-9F18-7E57F34C4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56E1-DD13-4CA4-9716-5D20721675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082F-8099-4ACA-B144-88BCD1A15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826E-79AC-4A0B-BEC0-8553458DA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39EE-7D28-47F7-9EDF-A5F04B0B0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ACC-CE1F-498D-BA29-D786BC2B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993-A558-46BC-94F5-72C3A76B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7D1-7F7A-41DA-A04B-562F9E8E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A6F-83CC-4404-88B8-A8CD5D76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4ADE-22BB-42B4-9377-8D131324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C69C-078A-47CE-9B0F-35249C5D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4A93-EA3E-4C9F-ABB3-A1F37E6A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2476-6838-464E-971F-9557A674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A836-DBA2-40BC-91D8-BF944296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EF8A-3389-4EAE-AE3A-FBA8D3FE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0EE5-5C48-4812-B653-47AF8B16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61C-1428-4EDD-BAAD-A0B9A5EB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F6B7-148A-40A1-97AE-7E6C155F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48EE-B386-4314-80CC-FD8A75AC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18F9-1BFC-44C9-B2DB-96267B14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8EC3-E5B2-40D3-9049-4026C474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46A7-B1CD-4BE3-8D04-F003BEE3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1728-10B3-4106-B110-388EDA81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A6402-4E69-4FF7-92AC-30652BF4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C736-A8F1-4A4B-ABE1-2318074C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32D6-1478-479C-A556-473CE208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16BA-5012-4934-A404-3BD02949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7DF-C223-43C5-BE74-36145478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AD3F-4FA0-40B1-B702-907D29FD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B393-431B-4F06-BACD-5755E445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A55C-B98C-479E-BF7E-7DC38EE3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710A-6487-43A6-A7A3-8EAEE2AB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948B-76A6-45D6-B0C1-DDF959E5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514A-CC56-41A7-840C-480B202E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D987-626C-475C-8308-E198C9B2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55F1A-4B06-4F9E-8E43-B61BB644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C7267-0338-490F-AC03-08D605D4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A4DC-1E7D-4C3F-84D7-2DF953CD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3BD-00AB-4905-9793-B82D2725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B29C-41AE-46B6-9DBE-5063F8DC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D52B3-D3A5-4E1A-83B9-867E18C2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B993E-1EA8-41D6-8552-85C4BA53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73AB1-E733-4326-AAE1-C18ADB0C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9CD9F-B4C0-431E-B24B-C26368D8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2D024-DBB0-4506-96A8-B64D587D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7FC4E-5308-493A-BEC6-81D290CB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F8429-CF55-44A4-A036-8065F18F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28637-C056-4201-B890-432A2810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777-1390-484B-B92D-91D9DE28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D17-A434-4258-BB5F-D8B8280F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227-CCF9-4A1E-8CFE-B27E1CB2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D79-DC2D-46B0-A222-9A5629E9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C8F-FE28-4C3B-ADCA-E2331BA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CF16-12E8-4CCF-9B05-4442C7F050A3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292E-8623-42F9-AAF6-B411C56E7B50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0AA-29DA-4B58-8704-011995C1A949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1E4F-B047-4E69-83BD-2C396B744809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13840" y="928440"/>
            <a:ext cx="8929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в 5 класс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иды предложений по цели высказывания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6 г. Ноябрьск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ская Н.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работы: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- 0 ошибок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-1 ошибка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- 2 ошибки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- 3 и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шибок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3" descr=""/>
          <p:cNvPicPr/>
          <p:nvPr/>
        </p:nvPicPr>
        <p:blipFill>
          <a:blip r:embed="rId1"/>
          <a:stretch/>
        </p:blipFill>
        <p:spPr>
          <a:xfrm>
            <a:off x="231840" y="201600"/>
            <a:ext cx="8759880" cy="30718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8"/>
          <p:cNvSpPr txBox="1"/>
          <p:nvPr/>
        </p:nvSpPr>
        <p:spPr>
          <a:xfrm>
            <a:off x="395280" y="620640"/>
            <a:ext cx="84963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" name="Line 14"/>
          <p:cNvSpPr/>
          <p:nvPr/>
        </p:nvSpPr>
        <p:spPr>
          <a:xfrm flipH="1">
            <a:off x="1692000" y="1628640"/>
            <a:ext cx="143964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15"/>
          <p:cNvSpPr/>
          <p:nvPr/>
        </p:nvSpPr>
        <p:spPr>
          <a:xfrm flipH="1">
            <a:off x="4355640" y="1700280"/>
            <a:ext cx="71640" cy="331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6156360" y="1773360"/>
            <a:ext cx="72072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WordArt 17"/>
          <p:cNvSpPr txBox="1"/>
          <p:nvPr/>
        </p:nvSpPr>
        <p:spPr>
          <a:xfrm>
            <a:off x="250920" y="3213000"/>
            <a:ext cx="388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17b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4617b"/>
              </a:solidFill>
              <a:latin typeface="Arial"/>
              <a:ea typeface="Arial"/>
            </a:endParaRPr>
          </a:p>
        </p:txBody>
      </p:sp>
      <p:sp>
        <p:nvSpPr>
          <p:cNvPr id="219" name="WordArt 18"/>
          <p:cNvSpPr txBox="1"/>
          <p:nvPr/>
        </p:nvSpPr>
        <p:spPr>
          <a:xfrm>
            <a:off x="2500200" y="5429160"/>
            <a:ext cx="357192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  <p:sp>
        <p:nvSpPr>
          <p:cNvPr id="220" name="WordArt 19"/>
          <p:cNvSpPr txBox="1"/>
          <p:nvPr/>
        </p:nvSpPr>
        <p:spPr>
          <a:xfrm>
            <a:off x="5219640" y="3141720"/>
            <a:ext cx="3478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Виды предложений по цели</a:t>
            </a:r>
            <a:br>
              <a:rPr sz="4500"/>
            </a:b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высказыв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8"/>
          <p:cNvSpPr txBox="1"/>
          <p:nvPr/>
        </p:nvSpPr>
        <p:spPr>
          <a:xfrm>
            <a:off x="395280" y="620640"/>
            <a:ext cx="84963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>
            <a:off x="1692000" y="1628640"/>
            <a:ext cx="143964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5"/>
          <p:cNvSpPr/>
          <p:nvPr/>
        </p:nvSpPr>
        <p:spPr>
          <a:xfrm flipH="1">
            <a:off x="4355640" y="1700280"/>
            <a:ext cx="71640" cy="331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6156360" y="1773360"/>
            <a:ext cx="72072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WordArt 17"/>
          <p:cNvSpPr txBox="1"/>
          <p:nvPr/>
        </p:nvSpPr>
        <p:spPr>
          <a:xfrm>
            <a:off x="214200" y="3214800"/>
            <a:ext cx="388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0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вествова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7" name="WordArt 18"/>
          <p:cNvSpPr txBox="1"/>
          <p:nvPr/>
        </p:nvSpPr>
        <p:spPr>
          <a:xfrm>
            <a:off x="2556000" y="5445000"/>
            <a:ext cx="357192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  <p:sp>
        <p:nvSpPr>
          <p:cNvPr id="228" name="WordArt 19"/>
          <p:cNvSpPr txBox="1"/>
          <p:nvPr/>
        </p:nvSpPr>
        <p:spPr>
          <a:xfrm>
            <a:off x="5219640" y="3141720"/>
            <a:ext cx="3478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Виды предложений по цели</a:t>
            </a:r>
            <a:br>
              <a:rPr sz="4500"/>
            </a:b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высказыв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8"/>
          <p:cNvSpPr txBox="1"/>
          <p:nvPr/>
        </p:nvSpPr>
        <p:spPr>
          <a:xfrm>
            <a:off x="395280" y="620640"/>
            <a:ext cx="84963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Line 14"/>
          <p:cNvSpPr/>
          <p:nvPr/>
        </p:nvSpPr>
        <p:spPr>
          <a:xfrm flipH="1">
            <a:off x="1692000" y="1628640"/>
            <a:ext cx="143964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5"/>
          <p:cNvSpPr/>
          <p:nvPr/>
        </p:nvSpPr>
        <p:spPr>
          <a:xfrm flipH="1">
            <a:off x="4355640" y="1700280"/>
            <a:ext cx="71640" cy="331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6156360" y="1773360"/>
            <a:ext cx="72072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WordArt 17"/>
          <p:cNvSpPr txBox="1"/>
          <p:nvPr/>
        </p:nvSpPr>
        <p:spPr>
          <a:xfrm>
            <a:off x="250920" y="3213000"/>
            <a:ext cx="388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17b"/>
                </a:solidFill>
                <a:latin typeface="Arial"/>
              </a:rPr>
              <a:t>повествова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4617b"/>
              </a:solidFill>
              <a:latin typeface="Arial"/>
              <a:ea typeface="Arial"/>
            </a:endParaRPr>
          </a:p>
        </p:txBody>
      </p:sp>
      <p:sp>
        <p:nvSpPr>
          <p:cNvPr id="235" name="WordArt 18"/>
          <p:cNvSpPr txBox="1"/>
          <p:nvPr/>
        </p:nvSpPr>
        <p:spPr>
          <a:xfrm>
            <a:off x="2556000" y="5445000"/>
            <a:ext cx="357192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вопроси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  <p:sp>
        <p:nvSpPr>
          <p:cNvPr id="236" name="WordArt 19"/>
          <p:cNvSpPr txBox="1"/>
          <p:nvPr/>
        </p:nvSpPr>
        <p:spPr>
          <a:xfrm>
            <a:off x="5219640" y="3141720"/>
            <a:ext cx="3478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Виды предложений по цели</a:t>
            </a:r>
            <a:br>
              <a:rPr sz="4500"/>
            </a:b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высказыв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8"/>
          <p:cNvSpPr txBox="1"/>
          <p:nvPr/>
        </p:nvSpPr>
        <p:spPr>
          <a:xfrm>
            <a:off x="395280" y="620640"/>
            <a:ext cx="84963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Line 14"/>
          <p:cNvSpPr/>
          <p:nvPr/>
        </p:nvSpPr>
        <p:spPr>
          <a:xfrm flipH="1">
            <a:off x="1692000" y="1628640"/>
            <a:ext cx="143964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5"/>
          <p:cNvSpPr/>
          <p:nvPr/>
        </p:nvSpPr>
        <p:spPr>
          <a:xfrm flipH="1">
            <a:off x="4355640" y="1700280"/>
            <a:ext cx="71640" cy="331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6156360" y="1773360"/>
            <a:ext cx="72072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WordArt 17"/>
          <p:cNvSpPr txBox="1"/>
          <p:nvPr/>
        </p:nvSpPr>
        <p:spPr>
          <a:xfrm>
            <a:off x="0" y="3000240"/>
            <a:ext cx="388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17b"/>
                </a:solidFill>
                <a:latin typeface="Times New Roman"/>
              </a:rPr>
              <a:t>повествова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243" name="WordArt 18"/>
          <p:cNvSpPr txBox="1"/>
          <p:nvPr/>
        </p:nvSpPr>
        <p:spPr>
          <a:xfrm>
            <a:off x="2556000" y="5445000"/>
            <a:ext cx="357192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проси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4" name="WordArt 19"/>
          <p:cNvSpPr txBox="1"/>
          <p:nvPr/>
        </p:nvSpPr>
        <p:spPr>
          <a:xfrm>
            <a:off x="4356000" y="3141720"/>
            <a:ext cx="3478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будительн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иды предложений по цели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сказыв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971640" y="2924280"/>
            <a:ext cx="72723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 он в море закинул не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Line 5"/>
          <p:cNvSpPr/>
          <p:nvPr/>
        </p:nvSpPr>
        <p:spPr>
          <a:xfrm flipH="1">
            <a:off x="8604360" y="2708280"/>
            <a:ext cx="28872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WordArt 6"/>
          <p:cNvSpPr txBox="1"/>
          <p:nvPr/>
        </p:nvSpPr>
        <p:spPr>
          <a:xfrm>
            <a:off x="826920" y="4437000"/>
            <a:ext cx="74901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шел невод с одною ти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Line 7"/>
          <p:cNvSpPr/>
          <p:nvPr/>
        </p:nvSpPr>
        <p:spPr>
          <a:xfrm flipV="1">
            <a:off x="900000" y="2349000"/>
            <a:ext cx="763272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900000" y="3716280"/>
            <a:ext cx="7417080" cy="576360"/>
          </a:xfrm>
          <a:prstGeom prst="line">
            <a:avLst/>
          </a:prstGeom>
          <a:ln w="25560">
            <a:solidFill>
              <a:srgbClr val="0f6f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8604000" y="4143240"/>
            <a:ext cx="253800" cy="87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8786520" y="4143240"/>
            <a:ext cx="2509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WordArt 14"/>
          <p:cNvSpPr txBox="1"/>
          <p:nvPr/>
        </p:nvSpPr>
        <p:spPr>
          <a:xfrm>
            <a:off x="755640" y="404640"/>
            <a:ext cx="79200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вествовательные предло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5"/>
          <p:cNvSpPr txBox="1"/>
          <p:nvPr/>
        </p:nvSpPr>
        <p:spPr>
          <a:xfrm>
            <a:off x="2143080" y="189000"/>
            <a:ext cx="49212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4617b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изнеси правильно</a:t>
            </a:r>
            <a:endParaRPr b="0" lang="en-US" sz="6000" spc="1" strike="noStrike">
              <a:ln w="9360">
                <a:solidFill>
                  <a:srgbClr val="04617b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55" name="WordArt 6" descr=""/>
          <p:cNvPicPr/>
          <p:nvPr/>
        </p:nvPicPr>
        <p:blipFill>
          <a:blip r:embed="rId1"/>
          <a:stretch/>
        </p:blipFill>
        <p:spPr>
          <a:xfrm>
            <a:off x="1060560" y="987480"/>
            <a:ext cx="6883200" cy="469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1.Ветер по морю гуляет    и кораблик подгоняет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2.Снова князь у моря ходит     с синя моря глаз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не своди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синем небе звезды блещут     в синем мор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олны хлещу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Line 9"/>
          <p:cNvSpPr/>
          <p:nvPr/>
        </p:nvSpPr>
        <p:spPr>
          <a:xfrm flipV="1">
            <a:off x="468360" y="1844280"/>
            <a:ext cx="3959280" cy="289080"/>
          </a:xfrm>
          <a:prstGeom prst="line">
            <a:avLst/>
          </a:prstGeom>
          <a:ln w="38160">
            <a:solidFill>
              <a:srgbClr val="0bd0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5076720" y="1844640"/>
            <a:ext cx="3527640" cy="289080"/>
          </a:xfrm>
          <a:prstGeom prst="line">
            <a:avLst/>
          </a:prstGeom>
          <a:ln w="38160">
            <a:solidFill>
              <a:srgbClr val="0bd0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1"/>
          <p:cNvSpPr/>
          <p:nvPr/>
        </p:nvSpPr>
        <p:spPr>
          <a:xfrm flipV="1">
            <a:off x="684360" y="2997000"/>
            <a:ext cx="4464000" cy="360360"/>
          </a:xfrm>
          <a:prstGeom prst="line">
            <a:avLst/>
          </a:prstGeom>
          <a:ln w="38160">
            <a:solidFill>
              <a:srgbClr val="0bd0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5508720" y="2997360"/>
            <a:ext cx="3095640" cy="358560"/>
          </a:xfrm>
          <a:prstGeom prst="line">
            <a:avLst/>
          </a:prstGeom>
          <a:ln w="38160">
            <a:solidFill>
              <a:srgbClr val="0bd0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3"/>
          <p:cNvSpPr/>
          <p:nvPr/>
        </p:nvSpPr>
        <p:spPr>
          <a:xfrm flipV="1">
            <a:off x="755640" y="4508280"/>
            <a:ext cx="5040360" cy="433080"/>
          </a:xfrm>
          <a:prstGeom prst="line">
            <a:avLst/>
          </a:prstGeom>
          <a:ln w="38160">
            <a:solidFill>
              <a:srgbClr val="0bd0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6156360" y="4508640"/>
            <a:ext cx="2303280" cy="360360"/>
          </a:xfrm>
          <a:prstGeom prst="line">
            <a:avLst/>
          </a:prstGeom>
          <a:ln w="38160">
            <a:solidFill>
              <a:srgbClr val="0bd0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15"/>
          <p:cNvSpPr/>
          <p:nvPr/>
        </p:nvSpPr>
        <p:spPr>
          <a:xfrm flipH="1">
            <a:off x="4643280" y="2133720"/>
            <a:ext cx="144720" cy="431640"/>
          </a:xfrm>
          <a:prstGeom prst="line">
            <a:avLst/>
          </a:prstGeom>
          <a:ln w="381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16"/>
          <p:cNvSpPr/>
          <p:nvPr/>
        </p:nvSpPr>
        <p:spPr>
          <a:xfrm flipH="1">
            <a:off x="5292360" y="3429000"/>
            <a:ext cx="144360" cy="431640"/>
          </a:xfrm>
          <a:prstGeom prst="line">
            <a:avLst/>
          </a:prstGeom>
          <a:ln w="255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17"/>
          <p:cNvSpPr/>
          <p:nvPr/>
        </p:nvSpPr>
        <p:spPr>
          <a:xfrm flipH="1">
            <a:off x="5867280" y="5229360"/>
            <a:ext cx="144720" cy="431640"/>
          </a:xfrm>
          <a:prstGeom prst="line">
            <a:avLst/>
          </a:prstGeom>
          <a:ln w="381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Чем</a:t>
            </a:r>
            <a:r>
              <a:rPr b="1" lang="ru-RU" sz="4000" spc="-1" strike="noStrike">
                <a:solidFill>
                  <a:srgbClr val="3333ff"/>
                </a:solidFill>
                <a:latin typeface="Comic Sans MS"/>
              </a:rPr>
              <a:t> вы, гости, торг ведёт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3333ff"/>
                </a:solidFill>
                <a:latin typeface="Comic Sans MS"/>
              </a:rPr>
              <a:t>И 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уда</a:t>
            </a:r>
            <a:r>
              <a:rPr b="1" lang="ru-RU" sz="4000" spc="-1" strike="noStrike">
                <a:solidFill>
                  <a:srgbClr val="3333ff"/>
                </a:solidFill>
                <a:latin typeface="Comic Sans MS"/>
              </a:rPr>
              <a:t>   теперь   плывёте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971640" y="765000"/>
            <a:ext cx="756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просительные предло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cc"/>
                </a:solidFill>
                <a:latin typeface="Constantia"/>
              </a:rPr>
              <a:t>   </a:t>
            </a: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Не видал ли где на свет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Ты   царевны   молодой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Line 6"/>
          <p:cNvSpPr/>
          <p:nvPr/>
        </p:nvSpPr>
        <p:spPr>
          <a:xfrm flipV="1">
            <a:off x="2916360" y="2133720"/>
            <a:ext cx="0" cy="5032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7"/>
          <p:cNvSpPr/>
          <p:nvPr/>
        </p:nvSpPr>
        <p:spPr>
          <a:xfrm flipV="1">
            <a:off x="1619280" y="3645000"/>
            <a:ext cx="0" cy="504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3564000" y="3716280"/>
            <a:ext cx="0" cy="5032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1"/>
          <p:cNvSpPr/>
          <p:nvPr/>
        </p:nvSpPr>
        <p:spPr>
          <a:xfrm flipV="1">
            <a:off x="6732720" y="3645000"/>
            <a:ext cx="0" cy="504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WordArt 13"/>
          <p:cNvSpPr txBox="1"/>
          <p:nvPr/>
        </p:nvSpPr>
        <p:spPr>
          <a:xfrm>
            <a:off x="539640" y="476280"/>
            <a:ext cx="8280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дели интонацией главное слов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13840" y="428400"/>
            <a:ext cx="892980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из предложения именные словосочетания, произведите синтаксический раз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mic Sans MS"/>
              </a:rPr>
              <a:t>Наконец и в путь обратный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mic Sans MS"/>
              </a:rPr>
              <a:t>Со своею силой ратной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mic Sans MS"/>
              </a:rPr>
              <a:t>И с девицей молодой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mic Sans MS"/>
              </a:rPr>
              <a:t>Царь отправился домой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читай предложение так, чтобы вопрос соответствовал ответу справа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 равнинам Окия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дет флот цар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алтан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470560" y="1773000"/>
            <a:ext cx="3673440" cy="426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i="1" lang="ru-RU" sz="26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а, по равнин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Окия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2. Да, ед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3. Нет, не фло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4. Да, Салта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0" y="1628640"/>
            <a:ext cx="5113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губи ты нашу душ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лесни ты нас на суш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теперь ты воротис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горюй и спать ложис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ови, лови, да дави её, дави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т ужо! Постой немножк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годи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ротись, поклонися рыбке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232240" y="1628640"/>
            <a:ext cx="3911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495c"/>
                </a:solidFill>
                <a:latin typeface="Constantia"/>
              </a:rPr>
              <a:t>Просьба-мольб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495c"/>
                </a:solidFill>
                <a:latin typeface="Constantia"/>
              </a:rPr>
              <a:t>Дружеский сове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495c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3495c"/>
                </a:solidFill>
                <a:latin typeface="Constantia"/>
              </a:rPr>
              <a:t>Приказ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495c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3495c"/>
                </a:solidFill>
                <a:latin typeface="Constantia"/>
              </a:rPr>
              <a:t>Категорический приказ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WordArt 9"/>
          <p:cNvSpPr txBox="1"/>
          <p:nvPr/>
        </p:nvSpPr>
        <p:spPr>
          <a:xfrm>
            <a:off x="785880" y="42876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будительные предло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2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2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00"/>
                </a:solidFill>
                <a:latin typeface="Calibri"/>
              </a:rPr>
              <a:t>Найдите побудительные предложения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тут дивного такого?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 сени вышел царь-отец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езжайте вслед за мной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тужи, душа моя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омар все злится, злится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ы не коршуна убил,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родея подстрелил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жди немножко, подожди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10" descr="мыш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3520" y="6186600"/>
            <a:ext cx="6904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 т и   п р е д л о ж е н и я побудительные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езжайте вслед за мной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тужи, душа моя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жди немножко, подожди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10" descr="мыш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3520" y="6186600"/>
            <a:ext cx="6904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работы: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- 0 ошибок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-1 ошибка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- 2 ошибки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- 3 ошибки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вид предложения по цели высказывания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5960" y="1484280"/>
            <a:ext cx="89154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1.Сколько звёзд на небесах, а веснушек на носах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2.Бабушка, постой немножко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3.Расскажи мне об этом писателе, пожалуйст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4.Чем вы, гости, торг ведёте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5.В лучах утреннего солнца загораются капли рос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6.Какой же прекрасный день сегодня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Определите вид предложения по цели высказывания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5960" y="1484280"/>
            <a:ext cx="89154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колько звёзд на небесах, а веснушек на носах? (Вопросительное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абушка, постой немножко! (Побудительное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сскажи мне об этом писателе, пожалуйста. (Побудительное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ем вы, гости, торг ведёте? (Вопросительное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 лучах утреннего солнца загораются капли росы. (Повествовательное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акой же прекрасный день сегодня! (Повествовательное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работы: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- 0 ошибок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-1 ошибка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- 2 ошибки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- 3 и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шибок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уть (сущ.) обратный (прил.),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воею (мест.) силой (сущ.),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ой(сущ.) ратной (прил.),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вицей (сущ.) молодой (прил.).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работы: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- 0 ошибок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-1 ошибка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- 2 ошибки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- 3 и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шибок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499680"/>
            <a:ext cx="914400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из предложения глагольные словосочетания, произведите синтаксический разбор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мудрец перед Дадоном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 и вынул из мешк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го петушка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-360" y="642960"/>
            <a:ext cx="835812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 перед Дадоном,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л из мешка,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л петушка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работы: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- 0 ошибок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-1 ошибка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- 2 ошибки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- 3 и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шибок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, раскройте скобки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д…вицы (под) окном пряли поз…но в…ч…рком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д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цы под окном пряли поз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ком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7:26:08Z</dcterms:created>
  <dc:creator>Ирина</dc:creator>
  <dc:description/>
  <dc:language>en-US</dc:language>
  <cp:lastModifiedBy>Пользователь Windows</cp:lastModifiedBy>
  <dcterms:modified xsi:type="dcterms:W3CDTF">2018-12-02T13:30:32Z</dcterms:modified>
  <cp:revision>176</cp:revision>
  <dc:subject/>
  <dc:title>Слайд 1</dc:title>
</cp:coreProperties>
</file>