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407-2867-442B-A1FF-3198E51E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EF3-440A-440F-8EB7-C04A5EB1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AB8-386D-4162-B880-4A0E4DDE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076-8EF8-4BB5-B535-7BCD62B4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11D7-ED1D-4105-ACB2-928FC75D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7659-71F5-4A80-BC5A-F19536A8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EFAC-269F-485F-A70E-05C6B582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A283-3382-4177-83AD-DE9494BB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81F4-6204-473F-83CF-9DDD6DCC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8BD7-0632-4ECC-B588-83A33669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2E02-56D3-4FB4-ACC5-C60286F9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191-2703-475B-9D14-E6BBAF28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A4AC-E5A1-498D-9183-368DD760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0E17-F726-4D14-BD38-937ADF4B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5828-18F8-4AF3-A262-65896BB5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717B-20FF-4D7D-88F5-AA5446CB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9ED3-4BA0-497D-9F99-1B85E667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D12-C45E-4DAC-8C3B-02ABD6EE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CE3-25AD-433B-80A8-926B0935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096-BF03-49E6-A477-401A57AE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563-35C6-476F-A6ED-F0265CAA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AD5-666E-4E51-B66C-3B855B2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CF5-6046-4AD2-B4F4-1B9BBF27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647-7B51-4D82-B49F-77B40192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1276-5A43-4D68-AA6D-42EC3296B4E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77E5-AAAE-48F7-9544-8C027DE0BD2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ОРГАНИЗАЦИЯ ЭКОЛОГО-РАЗВИВАЮЩЕЙ СРЕДЫ В ДОШКОЛЬНОМ УЧРЕЖДЕН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ВОСПИТАТЕЛЬ МБДОУ «детский сад № 1»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Малышева Ирина Сергеев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КОЛГИЧЕСКАЯ БИБЛИОТЕ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знавательная литература о природ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Литература по уходу за животными и растениям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бор картин и иллюстраций из жизни животных, растений, по сезонным изменениям, а также видеоматериалы, аудиоматериал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КОЛЛЕК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едназначены для знакомства детей с различными природными объектами, для развития у них навыков классификации объектов по различным признакам, сенсорных навыков. Коллекционный материал служит в качестве наглядного материала, должны быть доступны для дете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ступность объектов сбора (камни, семена растений, сухие листья, ветви, образцы песка и глины, различных почв, речные и морские раковины и т.д.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Разнообразие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раеведческий аспект (местный материал должен составлять основу, базовое ядро коллекций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Страноведческий аспект (любой привезенный объект может послужить прекрасным поводом для разговора о странах, обычаях, природе, народах Земли и т.д.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риродоохранный аспект (плоские, потерявшие свой цвет, запах, а зачастую и форму, вырванные из природного окружения растения или наколотые на булавки неподвижные пчелы, бабочки с поникшими крыльями не способны вызвать у ребенка положительные эмоции и желание беречь объекты природы; не рекомендуется покупать готовые коллекции насекомых, чучела животных.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езопасность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762120" y="838080"/>
            <a:ext cx="65624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и сборе образцов следует учитыват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ледующие аспекты: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кологическая тропинка на территории  детского сада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Игровые площадки для организации экологических праздников, экскурсий и иг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азличные виды деревье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город, цветник (различные виды цветов, кустарники, ягоды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КОЛГИЧЕСКИЙ ТЕАТ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стюмы, атрибуты, куклы, маски для экологических инсценировок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диозапис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КОЛОГИЧЕСКИЕ МУЗЕИ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ожно выделить два направления использования музейной педагогики в целях экологического воспитания: посещение музеев (краеведческих, естественнонаучных, исторических, ландшафтных под открытым небом, картинных галерей, выставок) и создание небольших музеев непосредственно в дошкольном учреждении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кологически развивающая среда – это место для осуществления детской деятельности экологической направленности. Организуя деятельность в развивающей среде, педагог поощряет инициативу детей, развивает познавательную активность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«У маленького деревца, еле поднявшегося над землей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914400" y="2667240"/>
            <a:ext cx="6477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ботливый садовник укрепляет корень, от мощности, которого зависит жизнь растения на протяжении нескольких десятилетий; так и воспитатель должен заботиться о воспитании у своих детей чувств безграничной любви к окружающему миру. Воспитание этих качеств начинается с того времени, когда ребенок начинает видеть, познавать, оценивать окружающий мир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.А.Сухомлинск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АКТУАЛЬНОСТЬ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ирода – наше богатство, но богатство не безграничное, во всякой эксплуатации есть предел, который нельзя преступа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кологическое состояние нашей планеты и тенденция к его ухудшению требуют от людей понимания сложившейся ситуации и сознательного к ней отношения. Только экологическое мировоззрение, культура ныне живущих людей могут вывести планету и человечество из того катастрофического состояния, в котором они пребывают сейчас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ЛЬ ЭКОЛОГИЧЕСКОГО ОБРАЗ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Формирование человека нового типа с новым экологическим мышлением, способного  осознавать последствия своих действий по отношению к окружающей среде и умеющего жить в относительной гармонии с природой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АДАЧИ ЭКОЛОГИЧЕСКОГО ОБРАЗ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СВОЕНИЕ ЭКОЛОГИЧЕСКИХ ПРЕДСТАВЛЕ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ВИТИЕ ПОЗНАВАТЕЛЬНЫХ УМЕ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ВИТИЕ ПОЗНАВАТЕЛЬНОЙ АКТИВНОСТИ ЧЕРЕЗ ЭКСПЕРЕМЕНТИР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ВИТИЕ УМЕНИЯ ВЫРАЖАТЬ СВОИ ЭМОЦИИ  В РИСУНКАХ, РАЗВИВАТЬ ВООБРАЖЕ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КОПЛЕНИЕ ОПЫТА ГУМАННОГО ОТНОШЕНИЯ К РАСТЕНИЯМ И ЖИВОТНЫ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УСЛОВ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Rectangle 42"/>
          <p:cNvSpPr/>
          <p:nvPr/>
        </p:nvSpPr>
        <p:spPr>
          <a:xfrm>
            <a:off x="914400" y="22219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ля организации работы по экологическому воспитанию в детском саду необходимы определенные услов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дно из главных - соответствующая эколого-развивающая среда, отвечающая следующим требованиям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редоставлять ребенку свободу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казывать влияние на его мироощущение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реда должна быть удобной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ированной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страивать на эмоциональный лад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беспечивать гармоничные отношения между ребенком и окружающей природой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езопасной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ОДЕЛЬ ПРЕДМЕТНО РАЗВИВАЮЩЕЙ СРЕДЫ В ГРУПП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кологический уголо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ини-лаборатор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вивающие дидактические игр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ллек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льбомы, иллюстраци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кологическая библиоте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рты, глобу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кологическая тропин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кологический муз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КОЛОГИЧЕСИЙ УГОЛ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омнатные растения и паспорт к ни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рты мира, края, звездного неба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Зона коллекций (семян, ракушек, камней, гербари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акеты "Скотный двор", «Зоопарк», различных экосистем, и т.п.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лендарь природы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город на окн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родный материал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ИНИЛАБОРАТОР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атериалы для детского экспериментирования (стаканчики, палочки, пробирки, воронки, лупы, магниты и т.д.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икроскоп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риродный материа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SS</cp:lastModifiedBy>
  <dcterms:modified xsi:type="dcterms:W3CDTF">2018-04-24T19:32:0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