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1E9C-9E58-4F8B-B57B-E5EFB2F7A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9CC-657D-4009-B171-59FB35B70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E47-C8A8-46D0-9002-C1CA912A4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0C7-5C11-40DC-B3BE-36D115E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56C-66BA-45CC-811C-BE51913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7CE-7CE4-4916-91DD-A4407264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BA8-5B7A-46FA-BEDE-74127122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7F-C1BF-47E9-A248-9123CB4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16B-8AA8-41DE-8197-936D4398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1FB-9FCE-4871-9D13-9015D37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D7B-C54D-4A4C-B987-BE01B96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9E5-1540-4C21-84A6-B130BF3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F00-E71E-4AC8-B946-A5D93EE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1D5-64C5-447B-87C1-5EC45C1A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75B-E0C4-47DB-A31E-3E389D6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486A-4C87-4230-9DA6-CFC84C877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Program Files\Microsoft Office\Clipart\standard\stddir2\bs01143_.wmf"/>
          <p:cNvPicPr/>
          <p:nvPr/>
        </p:nvPicPr>
        <p:blipFill>
          <a:blip r:embed="rId1"/>
          <a:stretch/>
        </p:blipFill>
        <p:spPr>
          <a:xfrm>
            <a:off x="6618240" y="0"/>
            <a:ext cx="2354400" cy="239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9" name="WordArt 3"/>
          <p:cNvSpPr txBox="1"/>
          <p:nvPr/>
        </p:nvSpPr>
        <p:spPr>
          <a:xfrm>
            <a:off x="933480" y="2263680"/>
            <a:ext cx="752004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инус, косину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 тангенс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990800" y="1547640"/>
            <a:ext cx="41050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solidFill>
                  <a:srgbClr val="cc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Тема урока: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solidFill>
                <a:srgbClr val="cc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38080" y="1028880"/>
            <a:ext cx="61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Arial"/>
              </a:rPr>
              <a:t>ГЕОМЕТРИЯ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00080" y="212760"/>
            <a:ext cx="66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«Средняя общеобразовательная школа № 15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рода Кал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694400" y="5353200"/>
            <a:ext cx="42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учитель математи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дратьева Инн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66760" y="355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наче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cos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g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36720" y="1447920"/>
          <a:ext cx="6099120" cy="3435120"/>
        </p:xfrm>
        <a:graphic>
          <a:graphicData uri="http://schemas.openxmlformats.org/drawingml/2006/table">
            <a:tbl>
              <a:tblPr/>
              <a:tblGrid>
                <a:gridCol w="1222200"/>
                <a:gridCol w="1219320"/>
                <a:gridCol w="1219320"/>
                <a:gridCol w="1218960"/>
                <a:gridCol w="1219320"/>
              </a:tblGrid>
              <a:tr h="47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35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8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in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s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g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5" name="Object 63"/>
              <p:cNvSpPr txBox="1"/>
              <p:nvPr/>
            </p:nvSpPr>
            <p:spPr>
              <a:xfrm>
                <a:off x="2679840" y="1944720"/>
                <a:ext cx="35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5"/>
              <p:cNvSpPr txBox="1"/>
              <p:nvPr/>
            </p:nvSpPr>
            <p:spPr>
              <a:xfrm>
                <a:off x="3716280" y="1901880"/>
                <a:ext cx="6192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6"/>
              <p:cNvSpPr txBox="1"/>
              <p:nvPr/>
            </p:nvSpPr>
            <p:spPr>
              <a:xfrm>
                <a:off x="4772160" y="1927080"/>
                <a:ext cx="5904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67"/>
              <p:cNvSpPr txBox="1"/>
              <p:nvPr/>
            </p:nvSpPr>
            <p:spPr>
              <a:xfrm>
                <a:off x="2328840" y="2892600"/>
                <a:ext cx="855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8"/>
              <p:cNvSpPr txBox="1"/>
              <p:nvPr/>
            </p:nvSpPr>
            <p:spPr>
              <a:xfrm>
                <a:off x="3624120" y="2943360"/>
                <a:ext cx="854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9"/>
              <p:cNvSpPr txBox="1"/>
              <p:nvPr/>
            </p:nvSpPr>
            <p:spPr>
              <a:xfrm>
                <a:off x="4898880" y="2998800"/>
                <a:ext cx="588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0"/>
              <p:cNvSpPr txBox="1"/>
              <p:nvPr/>
            </p:nvSpPr>
            <p:spPr>
              <a:xfrm>
                <a:off x="4781520" y="4148280"/>
                <a:ext cx="766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1"/>
              <p:cNvSpPr txBox="1"/>
              <p:nvPr/>
            </p:nvSpPr>
            <p:spPr>
              <a:xfrm>
                <a:off x="2316240" y="3933720"/>
                <a:ext cx="855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 flipH="1">
            <a:off x="271080" y="246528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 flipH="1">
            <a:off x="2999880" y="246528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 flipH="1">
            <a:off x="302760" y="49860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7"/>
          <p:cNvGrpSpPr/>
          <p:nvPr/>
        </p:nvGrpSpPr>
        <p:grpSpPr>
          <a:xfrm>
            <a:off x="564840" y="885960"/>
            <a:ext cx="2452680" cy="1498320"/>
            <a:chOff x="564840" y="885960"/>
            <a:chExt cx="2452680" cy="1498320"/>
          </a:xfrm>
        </p:grpSpPr>
        <p:sp>
          <p:nvSpPr>
            <p:cNvPr id="58" name="Arc 2"/>
            <p:cNvSpPr/>
            <p:nvPr/>
          </p:nvSpPr>
          <p:spPr>
            <a:xfrm>
              <a:off x="2390400" y="2041560"/>
              <a:ext cx="581040" cy="298440"/>
            </a:xfrm>
            <a:custGeom>
              <a:avLst/>
              <a:gdLst/>
              <a:ahLst/>
              <a:rect l="l" t="t" r="r" b="b"/>
              <a:pathLst>
                <a:path fill="none" w="21600" h="11067">
                  <a:moveTo>
                    <a:pt x="0" y="11067"/>
                  </a:moveTo>
                  <a:cubicBezTo>
                    <a:pt x="0" y="7170"/>
                    <a:pt x="1054" y="3346"/>
                    <a:pt x="3050" y="0"/>
                  </a:cubicBezTo>
                </a:path>
                <a:path stroke="0" w="21600" h="11067">
                  <a:moveTo>
                    <a:pt x="0" y="11067"/>
                  </a:moveTo>
                  <a:cubicBezTo>
                    <a:pt x="0" y="7170"/>
                    <a:pt x="1054" y="3346"/>
                    <a:pt x="3050" y="0"/>
                  </a:cubicBezTo>
                  <a:lnTo>
                    <a:pt x="21600" y="11067"/>
                  </a:lnTo>
                  <a:lnTo>
                    <a:pt x="0" y="11067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"/>
            <p:cNvSpPr/>
            <p:nvPr/>
          </p:nvSpPr>
          <p:spPr>
            <a:xfrm>
              <a:off x="601920" y="2340000"/>
              <a:ext cx="2369880" cy="144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"/>
            <p:cNvSpPr/>
            <p:nvPr/>
          </p:nvSpPr>
          <p:spPr>
            <a:xfrm>
              <a:off x="601920" y="917640"/>
              <a:ext cx="2369880" cy="142236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601560" y="917640"/>
              <a:ext cx="1440" cy="142236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892080" y="2048040"/>
              <a:ext cx="1440" cy="291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601920" y="2048040"/>
              <a:ext cx="290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01560" y="919080"/>
              <a:ext cx="1440" cy="142236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601920" y="2341440"/>
              <a:ext cx="2369880" cy="180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601920" y="919080"/>
              <a:ext cx="2369880" cy="142236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564840" y="2308320"/>
              <a:ext cx="7632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2941200" y="2308320"/>
              <a:ext cx="7632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6"/>
            <p:cNvSpPr/>
            <p:nvPr/>
          </p:nvSpPr>
          <p:spPr>
            <a:xfrm>
              <a:off x="571680" y="885960"/>
              <a:ext cx="7596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8"/>
          <p:cNvSpPr/>
          <p:nvPr/>
        </p:nvSpPr>
        <p:spPr>
          <a:xfrm>
            <a:off x="216000" y="1290600"/>
            <a:ext cx="2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511280" y="2382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663560" y="10494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3510000" y="901800"/>
            <a:ext cx="423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3429000" y="93492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инус угла А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3467160" y="195120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Тангенс  угла В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419040" y="301788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синус 60  градусов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578400" y="142560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591000" y="246708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8"/>
              <p:cNvSpPr txBox="1"/>
              <p:nvPr/>
            </p:nvSpPr>
            <p:spPr>
              <a:xfrm>
                <a:off x="4149720" y="1320840"/>
                <a:ext cx="2746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29"/>
              <p:cNvSpPr txBox="1"/>
              <p:nvPr/>
            </p:nvSpPr>
            <p:spPr>
              <a:xfrm>
                <a:off x="5857920" y="1281240"/>
                <a:ext cx="252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0"/>
              <p:cNvSpPr txBox="1"/>
              <p:nvPr/>
            </p:nvSpPr>
            <p:spPr>
              <a:xfrm>
                <a:off x="7624800" y="1284120"/>
                <a:ext cx="274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1"/>
              <p:cNvSpPr txBox="1"/>
              <p:nvPr/>
            </p:nvSpPr>
            <p:spPr>
              <a:xfrm>
                <a:off x="4162320" y="2311560"/>
                <a:ext cx="2746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2"/>
              <p:cNvSpPr txBox="1"/>
              <p:nvPr/>
            </p:nvSpPr>
            <p:spPr>
              <a:xfrm>
                <a:off x="5870520" y="2271600"/>
                <a:ext cx="252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3"/>
              <p:cNvSpPr txBox="1"/>
              <p:nvPr/>
            </p:nvSpPr>
            <p:spPr>
              <a:xfrm>
                <a:off x="7637400" y="2274840"/>
                <a:ext cx="274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4"/>
              <p:cNvSpPr txBox="1"/>
              <p:nvPr/>
            </p:nvSpPr>
            <p:spPr>
              <a:xfrm>
                <a:off x="2830680" y="3355920"/>
                <a:ext cx="2491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5"/>
              <p:cNvSpPr txBox="1"/>
              <p:nvPr/>
            </p:nvSpPr>
            <p:spPr>
              <a:xfrm>
                <a:off x="4567320" y="3340080"/>
                <a:ext cx="436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6"/>
              <p:cNvSpPr txBox="1"/>
              <p:nvPr/>
            </p:nvSpPr>
            <p:spPr>
              <a:xfrm>
                <a:off x="1077840" y="3376440"/>
                <a:ext cx="416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37"/>
          <p:cNvSpPr/>
          <p:nvPr/>
        </p:nvSpPr>
        <p:spPr>
          <a:xfrm>
            <a:off x="479520" y="34322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93840" y="41227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В треугольнике АВС синус угла А   равен 3/5. Найдите косинус эт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1100160" y="4788000"/>
                <a:ext cx="250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0"/>
              <p:cNvSpPr txBox="1"/>
              <p:nvPr/>
            </p:nvSpPr>
            <p:spPr>
              <a:xfrm>
                <a:off x="2862360" y="4748040"/>
                <a:ext cx="276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 Box 42"/>
          <p:cNvSpPr/>
          <p:nvPr/>
        </p:nvSpPr>
        <p:spPr>
          <a:xfrm>
            <a:off x="606600" y="489276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3"/>
              <p:cNvSpPr txBox="1"/>
              <p:nvPr/>
            </p:nvSpPr>
            <p:spPr>
              <a:xfrm>
                <a:off x="4640400" y="4788000"/>
                <a:ext cx="412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45"/>
          <p:cNvSpPr/>
          <p:nvPr/>
        </p:nvSpPr>
        <p:spPr>
          <a:xfrm>
            <a:off x="355680" y="5595840"/>
            <a:ext cx="84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 Упростите вы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6"/>
              <p:cNvSpPr txBox="1"/>
              <p:nvPr/>
            </p:nvSpPr>
            <p:spPr>
              <a:xfrm>
                <a:off x="3602160" y="5546880"/>
                <a:ext cx="2717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Text Box 47"/>
          <p:cNvSpPr/>
          <p:nvPr/>
        </p:nvSpPr>
        <p:spPr>
          <a:xfrm>
            <a:off x="657360" y="614988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8"/>
              <p:cNvSpPr txBox="1"/>
              <p:nvPr/>
            </p:nvSpPr>
            <p:spPr>
              <a:xfrm>
                <a:off x="1127160" y="5959440"/>
                <a:ext cx="479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9"/>
              <p:cNvSpPr txBox="1"/>
              <p:nvPr/>
            </p:nvSpPr>
            <p:spPr>
              <a:xfrm>
                <a:off x="2765520" y="5921280"/>
                <a:ext cx="596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0"/>
              <p:cNvSpPr txBox="1"/>
              <p:nvPr/>
            </p:nvSpPr>
            <p:spPr>
              <a:xfrm>
                <a:off x="4600440" y="5923080"/>
                <a:ext cx="4813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 flipH="1">
            <a:off x="271080" y="246528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 flipH="1">
            <a:off x="2999880" y="246528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 flipH="1">
            <a:off x="302760" y="49860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564840" y="885960"/>
            <a:ext cx="2452680" cy="1498320"/>
            <a:chOff x="564840" y="885960"/>
            <a:chExt cx="2452680" cy="1498320"/>
          </a:xfrm>
        </p:grpSpPr>
        <p:sp>
          <p:nvSpPr>
            <p:cNvPr id="105" name="Arc 6"/>
            <p:cNvSpPr/>
            <p:nvPr/>
          </p:nvSpPr>
          <p:spPr>
            <a:xfrm>
              <a:off x="2390400" y="2041560"/>
              <a:ext cx="581040" cy="298440"/>
            </a:xfrm>
            <a:custGeom>
              <a:avLst/>
              <a:gdLst/>
              <a:ahLst/>
              <a:rect l="l" t="t" r="r" b="b"/>
              <a:pathLst>
                <a:path fill="none" w="21600" h="11067">
                  <a:moveTo>
                    <a:pt x="0" y="11067"/>
                  </a:moveTo>
                  <a:cubicBezTo>
                    <a:pt x="0" y="7170"/>
                    <a:pt x="1054" y="3346"/>
                    <a:pt x="3050" y="0"/>
                  </a:cubicBezTo>
                </a:path>
                <a:path stroke="0" w="21600" h="11067">
                  <a:moveTo>
                    <a:pt x="0" y="11067"/>
                  </a:moveTo>
                  <a:cubicBezTo>
                    <a:pt x="0" y="7170"/>
                    <a:pt x="1054" y="3346"/>
                    <a:pt x="3050" y="0"/>
                  </a:cubicBezTo>
                  <a:lnTo>
                    <a:pt x="21600" y="11067"/>
                  </a:lnTo>
                  <a:lnTo>
                    <a:pt x="0" y="11067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601920" y="2340000"/>
              <a:ext cx="2369880" cy="144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601920" y="917640"/>
              <a:ext cx="2369880" cy="142236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01560" y="917640"/>
              <a:ext cx="1440" cy="1422360"/>
            </a:xfrm>
            <a:prstGeom prst="line">
              <a:avLst/>
            </a:prstGeom>
            <a:ln w="46080">
              <a:solidFill>
                <a:srgbClr val="e4d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892080" y="2048040"/>
              <a:ext cx="1440" cy="291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601920" y="2048040"/>
              <a:ext cx="290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601560" y="919080"/>
              <a:ext cx="1440" cy="142236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01920" y="2341440"/>
              <a:ext cx="2369880" cy="180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>
              <a:off x="601920" y="919080"/>
              <a:ext cx="2369880" cy="1422360"/>
            </a:xfrm>
            <a:prstGeom prst="line">
              <a:avLst/>
            </a:prstGeom>
            <a:ln w="46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564840" y="2308320"/>
              <a:ext cx="7632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2941200" y="2308320"/>
              <a:ext cx="7632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571680" y="885960"/>
              <a:ext cx="75960" cy="759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8"/>
          <p:cNvSpPr/>
          <p:nvPr/>
        </p:nvSpPr>
        <p:spPr>
          <a:xfrm>
            <a:off x="216000" y="1290600"/>
            <a:ext cx="2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1511280" y="2382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663560" y="10494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510000" y="901800"/>
            <a:ext cx="423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3429000" y="93492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инус угла А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467160" y="195120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Тангенс  угла В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19040" y="301788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синус 60  градусов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578400" y="142560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3591000" y="246708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8"/>
              <p:cNvSpPr txBox="1"/>
              <p:nvPr/>
            </p:nvSpPr>
            <p:spPr>
              <a:xfrm>
                <a:off x="4149720" y="1320840"/>
                <a:ext cx="2746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9"/>
              <p:cNvSpPr txBox="1"/>
              <p:nvPr/>
            </p:nvSpPr>
            <p:spPr>
              <a:xfrm>
                <a:off x="5857920" y="1281240"/>
                <a:ext cx="252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0"/>
              <p:cNvSpPr txBox="1"/>
              <p:nvPr/>
            </p:nvSpPr>
            <p:spPr>
              <a:xfrm>
                <a:off x="7624800" y="1284120"/>
                <a:ext cx="274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1"/>
              <p:cNvSpPr txBox="1"/>
              <p:nvPr/>
            </p:nvSpPr>
            <p:spPr>
              <a:xfrm>
                <a:off x="4162320" y="2311560"/>
                <a:ext cx="2746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2"/>
              <p:cNvSpPr txBox="1"/>
              <p:nvPr/>
            </p:nvSpPr>
            <p:spPr>
              <a:xfrm>
                <a:off x="5870520" y="2271600"/>
                <a:ext cx="252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3"/>
              <p:cNvSpPr txBox="1"/>
              <p:nvPr/>
            </p:nvSpPr>
            <p:spPr>
              <a:xfrm>
                <a:off x="7637400" y="2274840"/>
                <a:ext cx="274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4"/>
              <p:cNvSpPr txBox="1"/>
              <p:nvPr/>
            </p:nvSpPr>
            <p:spPr>
              <a:xfrm>
                <a:off x="2830680" y="3355920"/>
                <a:ext cx="2491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4567320" y="3340080"/>
                <a:ext cx="436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6"/>
              <p:cNvSpPr txBox="1"/>
              <p:nvPr/>
            </p:nvSpPr>
            <p:spPr>
              <a:xfrm>
                <a:off x="1077840" y="3376440"/>
                <a:ext cx="416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37"/>
          <p:cNvSpPr/>
          <p:nvPr/>
        </p:nvSpPr>
        <p:spPr>
          <a:xfrm>
            <a:off x="479520" y="34322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393840" y="41227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В треугольнике АВС косинус  угла А   равен 4/5. Найдите косинус эт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1089000" y="4788000"/>
                <a:ext cx="2732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0"/>
              <p:cNvSpPr txBox="1"/>
              <p:nvPr/>
            </p:nvSpPr>
            <p:spPr>
              <a:xfrm>
                <a:off x="2873520" y="4748040"/>
                <a:ext cx="252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41"/>
          <p:cNvSpPr/>
          <p:nvPr/>
        </p:nvSpPr>
        <p:spPr>
          <a:xfrm>
            <a:off x="606600" y="489276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2"/>
              <p:cNvSpPr txBox="1"/>
              <p:nvPr/>
            </p:nvSpPr>
            <p:spPr>
              <a:xfrm>
                <a:off x="4640400" y="4788000"/>
                <a:ext cx="412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43"/>
          <p:cNvSpPr/>
          <p:nvPr/>
        </p:nvSpPr>
        <p:spPr>
          <a:xfrm>
            <a:off x="355680" y="5595840"/>
            <a:ext cx="84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 Упростите вы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4"/>
              <p:cNvSpPr txBox="1"/>
              <p:nvPr/>
            </p:nvSpPr>
            <p:spPr>
              <a:xfrm>
                <a:off x="3602160" y="5546880"/>
                <a:ext cx="2717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Text Box 45"/>
          <p:cNvSpPr/>
          <p:nvPr/>
        </p:nvSpPr>
        <p:spPr>
          <a:xfrm>
            <a:off x="657360" y="614988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6"/>
              <p:cNvSpPr txBox="1"/>
              <p:nvPr/>
            </p:nvSpPr>
            <p:spPr>
              <a:xfrm>
                <a:off x="1127160" y="5959440"/>
                <a:ext cx="479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7"/>
              <p:cNvSpPr txBox="1"/>
              <p:nvPr/>
            </p:nvSpPr>
            <p:spPr>
              <a:xfrm>
                <a:off x="2765520" y="5921280"/>
                <a:ext cx="596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8"/>
              <p:cNvSpPr txBox="1"/>
              <p:nvPr/>
            </p:nvSpPr>
            <p:spPr>
              <a:xfrm>
                <a:off x="4600440" y="5923080"/>
                <a:ext cx="4813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C:\Documents and Settings\Кондратьева\Рабочий стол\икт в математике\геометрия 9\1.JPG"/>
          <p:cNvPicPr/>
          <p:nvPr/>
        </p:nvPicPr>
        <p:blipFill>
          <a:blip r:embed="rId1"/>
          <a:stretch/>
        </p:blipFill>
        <p:spPr>
          <a:xfrm>
            <a:off x="2192400" y="1579680"/>
            <a:ext cx="4867200" cy="2981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C:\Documents and Settings\Кондратьева\Рабочий стол\икт в математике\геометрия 9\2.JPG"/>
          <p:cNvPicPr/>
          <p:nvPr/>
        </p:nvPicPr>
        <p:blipFill>
          <a:blip r:embed="rId2"/>
          <a:stretch/>
        </p:blipFill>
        <p:spPr>
          <a:xfrm>
            <a:off x="2176560" y="1523880"/>
            <a:ext cx="4819680" cy="3038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4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нятие синуса, косинуса, тангенса для углов от 0 до 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0" descr="C:\Documents and Settings\Кондратьева\Рабочий стол\икт в математике\геометрия 9\3.JPG"/>
          <p:cNvPicPr/>
          <p:nvPr/>
        </p:nvPicPr>
        <p:blipFill>
          <a:blip r:embed="rId3"/>
          <a:stretch/>
        </p:blipFill>
        <p:spPr>
          <a:xfrm>
            <a:off x="2171880" y="1590840"/>
            <a:ext cx="4857480" cy="299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C:\Documents and Settings\Кондратьева\Рабочий стол\икт в математике\геометрия 9\4.JPG"/>
          <p:cNvPicPr/>
          <p:nvPr/>
        </p:nvPicPr>
        <p:blipFill>
          <a:blip r:embed="rId4"/>
          <a:stretch/>
        </p:blipFill>
        <p:spPr>
          <a:xfrm>
            <a:off x="2166840" y="1542960"/>
            <a:ext cx="4896000" cy="3000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2"/>
          <p:cNvGrpSpPr/>
          <p:nvPr/>
        </p:nvGrpSpPr>
        <p:grpSpPr>
          <a:xfrm>
            <a:off x="1285920" y="857160"/>
            <a:ext cx="6280200" cy="4397400"/>
            <a:chOff x="1285920" y="857160"/>
            <a:chExt cx="6280200" cy="4397400"/>
          </a:xfrm>
        </p:grpSpPr>
        <p:sp>
          <p:nvSpPr>
            <p:cNvPr id="154" name="Line 4"/>
            <p:cNvSpPr/>
            <p:nvPr/>
          </p:nvSpPr>
          <p:spPr>
            <a:xfrm flipV="1">
              <a:off x="4557600" y="1046160"/>
              <a:ext cx="0" cy="42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7284960" y="4032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4554360" y="8571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1285920" y="4027320"/>
              <a:ext cx="62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2"/>
          <p:cNvGrpSpPr/>
          <p:nvPr/>
        </p:nvGrpSpPr>
        <p:grpSpPr>
          <a:xfrm>
            <a:off x="1785960" y="1536840"/>
            <a:ext cx="5527800" cy="3149280"/>
            <a:chOff x="1785960" y="1536840"/>
            <a:chExt cx="5527800" cy="3149280"/>
          </a:xfrm>
        </p:grpSpPr>
        <p:sp>
          <p:nvSpPr>
            <p:cNvPr id="159" name="Text Box 23"/>
            <p:cNvSpPr/>
            <p:nvPr/>
          </p:nvSpPr>
          <p:spPr>
            <a:xfrm>
              <a:off x="6573960" y="42926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785960" y="43178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-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5"/>
            <p:cNvSpPr/>
            <p:nvPr/>
          </p:nvSpPr>
          <p:spPr>
            <a:xfrm>
              <a:off x="4656240" y="15368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0;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8" descr="C:\Documents and Settings\Кондратьева\Рабочий стол\икт в математике\геометрия 9\5.JPG"/>
          <p:cNvPicPr/>
          <p:nvPr/>
        </p:nvPicPr>
        <p:blipFill>
          <a:blip r:embed="rId1"/>
          <a:stretch/>
        </p:blipFill>
        <p:spPr>
          <a:xfrm>
            <a:off x="2114640" y="1562040"/>
            <a:ext cx="4943520" cy="2990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4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нятие синуса, косинуса, тангенса для углов от 0 до 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1785960" y="1536840"/>
            <a:ext cx="5527800" cy="3149280"/>
            <a:chOff x="1785960" y="1536840"/>
            <a:chExt cx="5527800" cy="3149280"/>
          </a:xfrm>
        </p:grpSpPr>
        <p:sp>
          <p:nvSpPr>
            <p:cNvPr id="165" name="Text Box 9"/>
            <p:cNvSpPr/>
            <p:nvPr/>
          </p:nvSpPr>
          <p:spPr>
            <a:xfrm>
              <a:off x="6573960" y="42926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1785960" y="43178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-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656240" y="15368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0;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1285920" y="857160"/>
            <a:ext cx="6280200" cy="4397400"/>
            <a:chOff x="1285920" y="857160"/>
            <a:chExt cx="6280200" cy="4397400"/>
          </a:xfrm>
        </p:grpSpPr>
        <p:sp>
          <p:nvSpPr>
            <p:cNvPr id="169" name="Line 14"/>
            <p:cNvSpPr/>
            <p:nvPr/>
          </p:nvSpPr>
          <p:spPr>
            <a:xfrm flipV="1">
              <a:off x="4557600" y="1046160"/>
              <a:ext cx="0" cy="42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7284960" y="4032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554360" y="8571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1285920" y="4027320"/>
              <a:ext cx="62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19"/>
          <p:cNvSpPr/>
          <p:nvPr/>
        </p:nvSpPr>
        <p:spPr>
          <a:xfrm flipV="1">
            <a:off x="4557600" y="4016520"/>
            <a:ext cx="1727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6292800" y="2903400"/>
            <a:ext cx="0" cy="11052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5384880" y="3924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6261120" y="3276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2817720" y="4014360"/>
            <a:ext cx="172728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3467160" y="3949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00480" y="32259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2825640" y="2903400"/>
            <a:ext cx="0" cy="1090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7"/>
              <p:cNvSpPr txBox="1"/>
              <p:nvPr/>
            </p:nvSpPr>
            <p:spPr>
              <a:xfrm>
                <a:off x="3825720" y="4438800"/>
                <a:ext cx="26895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3786120" y="5500800"/>
                <a:ext cx="2641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9"/>
              <p:cNvSpPr txBox="1"/>
              <p:nvPr/>
            </p:nvSpPr>
            <p:spPr>
              <a:xfrm>
                <a:off x="6548400" y="4878360"/>
                <a:ext cx="25322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Кондратьева\Рабочий стол\икт в математике\геометрия 9\5.JPG"/>
          <p:cNvPicPr/>
          <p:nvPr/>
        </p:nvPicPr>
        <p:blipFill>
          <a:blip r:embed="rId1"/>
          <a:stretch/>
        </p:blipFill>
        <p:spPr>
          <a:xfrm>
            <a:off x="2114640" y="1562040"/>
            <a:ext cx="4943520" cy="29908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4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нятие синуса, косинуса, тангенса для углов от 0 до 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785960" y="1536840"/>
            <a:ext cx="5527800" cy="3149280"/>
            <a:chOff x="1785960" y="1536840"/>
            <a:chExt cx="5527800" cy="3149280"/>
          </a:xfrm>
        </p:grpSpPr>
        <p:sp>
          <p:nvSpPr>
            <p:cNvPr id="187" name="Text Box 5"/>
            <p:cNvSpPr/>
            <p:nvPr/>
          </p:nvSpPr>
          <p:spPr>
            <a:xfrm>
              <a:off x="6573960" y="42926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1785960" y="43178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-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4656240" y="15368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0;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1285920" y="857160"/>
            <a:ext cx="6280200" cy="4397400"/>
            <a:chOff x="1285920" y="857160"/>
            <a:chExt cx="6280200" cy="4397400"/>
          </a:xfrm>
        </p:grpSpPr>
        <p:sp>
          <p:nvSpPr>
            <p:cNvPr id="191" name="Line 9"/>
            <p:cNvSpPr/>
            <p:nvPr/>
          </p:nvSpPr>
          <p:spPr>
            <a:xfrm flipV="1">
              <a:off x="4557600" y="1046160"/>
              <a:ext cx="0" cy="42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0"/>
            <p:cNvSpPr/>
            <p:nvPr/>
          </p:nvSpPr>
          <p:spPr>
            <a:xfrm>
              <a:off x="7284960" y="4032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4554360" y="8571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>
              <a:off x="1285920" y="4027320"/>
              <a:ext cx="62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13"/>
          <p:cNvSpPr/>
          <p:nvPr/>
        </p:nvSpPr>
        <p:spPr>
          <a:xfrm flipV="1">
            <a:off x="4557600" y="4016520"/>
            <a:ext cx="1727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6292800" y="2903400"/>
            <a:ext cx="0" cy="11052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84880" y="3924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6261120" y="3276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 flipV="1">
            <a:off x="2817720" y="4014360"/>
            <a:ext cx="172728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467160" y="3949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400480" y="32259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25640" y="2903400"/>
            <a:ext cx="0" cy="1090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4"/>
              <p:cNvSpPr txBox="1"/>
              <p:nvPr/>
            </p:nvSpPr>
            <p:spPr>
              <a:xfrm>
                <a:off x="466560" y="5148360"/>
                <a:ext cx="220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5"/>
              <p:cNvSpPr txBox="1"/>
              <p:nvPr/>
            </p:nvSpPr>
            <p:spPr>
              <a:xfrm>
                <a:off x="463680" y="6021360"/>
                <a:ext cx="2219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6"/>
              <p:cNvSpPr txBox="1"/>
              <p:nvPr/>
            </p:nvSpPr>
            <p:spPr>
              <a:xfrm>
                <a:off x="6202440" y="5297400"/>
                <a:ext cx="1344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7"/>
              <p:cNvSpPr txBox="1"/>
              <p:nvPr/>
            </p:nvSpPr>
            <p:spPr>
              <a:xfrm>
                <a:off x="3398760" y="5270400"/>
                <a:ext cx="235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8"/>
              <p:cNvSpPr txBox="1"/>
              <p:nvPr/>
            </p:nvSpPr>
            <p:spPr>
              <a:xfrm>
                <a:off x="3257640" y="5997600"/>
                <a:ext cx="25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9"/>
              <p:cNvSpPr txBox="1"/>
              <p:nvPr/>
            </p:nvSpPr>
            <p:spPr>
              <a:xfrm>
                <a:off x="7689960" y="5613480"/>
                <a:ext cx="1193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2" descr="C:\Documents and Settings\Кондратьева\Рабочий стол\икт в математике\геометрия 9\Новая папка\1.JPG"/>
          <p:cNvPicPr/>
          <p:nvPr/>
        </p:nvPicPr>
        <p:blipFill>
          <a:blip r:embed="rId1"/>
          <a:stretch/>
        </p:blipFill>
        <p:spPr>
          <a:xfrm>
            <a:off x="223920" y="1638360"/>
            <a:ext cx="4867200" cy="2981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оординаты 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"/>
          <p:cNvGrpSpPr/>
          <p:nvPr/>
        </p:nvGrpSpPr>
        <p:grpSpPr>
          <a:xfrm>
            <a:off x="-669960" y="907920"/>
            <a:ext cx="6280200" cy="4397400"/>
            <a:chOff x="-669960" y="907920"/>
            <a:chExt cx="6280200" cy="4397400"/>
          </a:xfrm>
        </p:grpSpPr>
        <p:sp>
          <p:nvSpPr>
            <p:cNvPr id="212" name="Line 5"/>
            <p:cNvSpPr/>
            <p:nvPr/>
          </p:nvSpPr>
          <p:spPr>
            <a:xfrm flipV="1">
              <a:off x="2601720" y="1096920"/>
              <a:ext cx="0" cy="42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5329080" y="40827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2598480" y="90792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-669960" y="4078080"/>
              <a:ext cx="62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9"/>
          <p:cNvSpPr/>
          <p:nvPr/>
        </p:nvSpPr>
        <p:spPr>
          <a:xfrm>
            <a:off x="996840" y="1665360"/>
            <a:ext cx="88920" cy="88920"/>
          </a:xfrm>
          <a:prstGeom prst="ellipse">
            <a:avLst/>
          </a:prstGeom>
          <a:solidFill>
            <a:srgbClr val="6600ff"/>
          </a:solidFill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871560" y="12240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452600" y="2340000"/>
            <a:ext cx="1128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1438200" y="2352600"/>
            <a:ext cx="0" cy="1708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2565360" y="1320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851040" y="3975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17"/>
          <p:cNvSpPr/>
          <p:nvPr/>
        </p:nvSpPr>
        <p:spPr>
          <a:xfrm>
            <a:off x="2360520" y="3703680"/>
            <a:ext cx="600120" cy="390600"/>
          </a:xfrm>
          <a:custGeom>
            <a:avLst/>
            <a:gdLst/>
            <a:ahLst/>
            <a:rect l="l" t="t" r="r" b="b"/>
            <a:pathLst>
              <a:path fill="none" w="22889" h="21600">
                <a:moveTo>
                  <a:pt x="-1" y="38"/>
                </a:moveTo>
                <a:cubicBezTo>
                  <a:pt x="429" y="12"/>
                  <a:pt x="859" y="-1"/>
                  <a:pt x="1289" y="0"/>
                </a:cubicBezTo>
                <a:cubicBezTo>
                  <a:pt x="13218" y="0"/>
                  <a:pt x="22889" y="9670"/>
                  <a:pt x="22889" y="21600"/>
                </a:cubicBezTo>
              </a:path>
              <a:path stroke="0" w="22889" h="21600">
                <a:moveTo>
                  <a:pt x="-1" y="38"/>
                </a:moveTo>
                <a:cubicBezTo>
                  <a:pt x="429" y="12"/>
                  <a:pt x="859" y="-1"/>
                  <a:pt x="1289" y="0"/>
                </a:cubicBezTo>
                <a:cubicBezTo>
                  <a:pt x="13218" y="0"/>
                  <a:pt x="22889" y="9670"/>
                  <a:pt x="22889" y="21600"/>
                </a:cubicBezTo>
                <a:lnTo>
                  <a:pt x="1289" y="21600"/>
                </a:lnTo>
                <a:lnTo>
                  <a:pt x="-1" y="38"/>
                </a:lnTo>
                <a:close/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0"/>
              <p:cNvSpPr txBox="1"/>
              <p:nvPr/>
            </p:nvSpPr>
            <p:spPr>
              <a:xfrm>
                <a:off x="2806560" y="3384720"/>
                <a:ext cx="50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 Box 21"/>
          <p:cNvSpPr/>
          <p:nvPr/>
        </p:nvSpPr>
        <p:spPr>
          <a:xfrm>
            <a:off x="2573280" y="40021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1049400" y="1708200"/>
            <a:ext cx="0" cy="2352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1049400" y="1720800"/>
            <a:ext cx="1531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5"/>
              <p:cNvSpPr txBox="1"/>
              <p:nvPr/>
            </p:nvSpPr>
            <p:spPr>
              <a:xfrm>
                <a:off x="2670120" y="2170080"/>
                <a:ext cx="82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6"/>
              <p:cNvSpPr txBox="1"/>
              <p:nvPr/>
            </p:nvSpPr>
            <p:spPr>
              <a:xfrm>
                <a:off x="1273320" y="4098960"/>
                <a:ext cx="876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27"/>
          <p:cNvSpPr/>
          <p:nvPr/>
        </p:nvSpPr>
        <p:spPr>
          <a:xfrm>
            <a:off x="1353960" y="19350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31" name="Group 34"/>
          <p:cNvGrpSpPr/>
          <p:nvPr/>
        </p:nvGrpSpPr>
        <p:grpSpPr>
          <a:xfrm>
            <a:off x="4813200" y="1398600"/>
            <a:ext cx="3214800" cy="459720"/>
            <a:chOff x="4813200" y="1398600"/>
            <a:chExt cx="3214800" cy="459720"/>
          </a:xfrm>
        </p:grpSpPr>
        <p:sp>
          <p:nvSpPr>
            <p:cNvPr id="232" name="Text Box 29"/>
            <p:cNvSpPr/>
            <p:nvPr/>
          </p:nvSpPr>
          <p:spPr>
            <a:xfrm>
              <a:off x="4813200" y="1398600"/>
              <a:ext cx="32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М = ОМ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О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0"/>
            <p:cNvSpPr/>
            <p:nvPr/>
          </p:nvSpPr>
          <p:spPr>
            <a:xfrm>
              <a:off x="4962600" y="1411200"/>
              <a:ext cx="48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1"/>
            <p:cNvSpPr/>
            <p:nvPr/>
          </p:nvSpPr>
          <p:spPr>
            <a:xfrm>
              <a:off x="6524640" y="1424160"/>
              <a:ext cx="48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7"/>
          <p:cNvGrpSpPr/>
          <p:nvPr/>
        </p:nvGrpSpPr>
        <p:grpSpPr>
          <a:xfrm>
            <a:off x="1049040" y="1709640"/>
            <a:ext cx="1559160" cy="2365560"/>
            <a:chOff x="1049040" y="1709640"/>
            <a:chExt cx="1559160" cy="2365560"/>
          </a:xfrm>
        </p:grpSpPr>
        <p:sp>
          <p:nvSpPr>
            <p:cNvPr id="236" name="Line 32"/>
            <p:cNvSpPr/>
            <p:nvPr/>
          </p:nvSpPr>
          <p:spPr>
            <a:xfrm flipH="1" flipV="1">
              <a:off x="1438200" y="2340000"/>
              <a:ext cx="1170000" cy="17352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 flipH="1" flipV="1">
              <a:off x="1049040" y="1709640"/>
              <a:ext cx="484200" cy="7524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35"/>
              <p:cNvSpPr txBox="1"/>
              <p:nvPr/>
            </p:nvSpPr>
            <p:spPr>
              <a:xfrm>
                <a:off x="5695920" y="2476440"/>
                <a:ext cx="254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6"/>
              <p:cNvSpPr txBox="1"/>
              <p:nvPr/>
            </p:nvSpPr>
            <p:spPr>
              <a:xfrm>
                <a:off x="5713560" y="3218040"/>
                <a:ext cx="25066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AutoShape 38"/>
          <p:cNvSpPr/>
          <p:nvPr/>
        </p:nvSpPr>
        <p:spPr>
          <a:xfrm>
            <a:off x="1425600" y="2340000"/>
            <a:ext cx="1143000" cy="17208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1438200" y="3897360"/>
            <a:ext cx="122400" cy="1555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0"/>
              <p:cNvSpPr txBox="1"/>
              <p:nvPr/>
            </p:nvSpPr>
            <p:spPr>
              <a:xfrm>
                <a:off x="679320" y="5486400"/>
                <a:ext cx="2300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1"/>
              <p:cNvSpPr txBox="1"/>
              <p:nvPr/>
            </p:nvSpPr>
            <p:spPr>
              <a:xfrm>
                <a:off x="3230640" y="5424480"/>
                <a:ext cx="1077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2"/>
              <p:cNvSpPr txBox="1"/>
              <p:nvPr/>
            </p:nvSpPr>
            <p:spPr>
              <a:xfrm>
                <a:off x="4308480" y="5381640"/>
                <a:ext cx="4699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43"/>
          <p:cNvSpPr/>
          <p:nvPr/>
        </p:nvSpPr>
        <p:spPr>
          <a:xfrm>
            <a:off x="417600" y="4680000"/>
            <a:ext cx="8323200" cy="1191240"/>
          </a:xfrm>
          <a:prstGeom prst="rect">
            <a:avLst/>
          </a:prstGeom>
          <a:solidFill>
            <a:srgbClr val="ff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Основное тригонометрическое тожд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Documents and Settings\Кондратьева\Рабочий стол\икт в математике\геометрия 9\5.JPG"/>
          <p:cNvPicPr/>
          <p:nvPr/>
        </p:nvPicPr>
        <p:blipFill>
          <a:blip r:embed="rId1"/>
          <a:stretch/>
        </p:blipFill>
        <p:spPr>
          <a:xfrm>
            <a:off x="2114640" y="1562040"/>
            <a:ext cx="4943520" cy="2990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4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785960" y="1536840"/>
            <a:ext cx="5527800" cy="3149280"/>
            <a:chOff x="1785960" y="1536840"/>
            <a:chExt cx="5527800" cy="3149280"/>
          </a:xfrm>
        </p:grpSpPr>
        <p:sp>
          <p:nvSpPr>
            <p:cNvPr id="249" name="Text Box 5"/>
            <p:cNvSpPr/>
            <p:nvPr/>
          </p:nvSpPr>
          <p:spPr>
            <a:xfrm>
              <a:off x="6573960" y="42926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785960" y="43178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-1;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4656240" y="153684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(0;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1285920" y="857160"/>
            <a:ext cx="6280200" cy="4397400"/>
            <a:chOff x="1285920" y="857160"/>
            <a:chExt cx="6280200" cy="4397400"/>
          </a:xfrm>
        </p:grpSpPr>
        <p:sp>
          <p:nvSpPr>
            <p:cNvPr id="253" name="Line 9"/>
            <p:cNvSpPr/>
            <p:nvPr/>
          </p:nvSpPr>
          <p:spPr>
            <a:xfrm flipV="1">
              <a:off x="4557600" y="1046160"/>
              <a:ext cx="0" cy="42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7284960" y="4032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1"/>
            <p:cNvSpPr/>
            <p:nvPr/>
          </p:nvSpPr>
          <p:spPr>
            <a:xfrm>
              <a:off x="4554360" y="8571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"/>
            <p:cNvSpPr/>
            <p:nvPr/>
          </p:nvSpPr>
          <p:spPr>
            <a:xfrm>
              <a:off x="1285920" y="4027320"/>
              <a:ext cx="62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13"/>
          <p:cNvSpPr/>
          <p:nvPr/>
        </p:nvSpPr>
        <p:spPr>
          <a:xfrm flipV="1">
            <a:off x="4557600" y="4016520"/>
            <a:ext cx="1727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6292800" y="2903400"/>
            <a:ext cx="0" cy="11052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5384880" y="3924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261120" y="3276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817720" y="4014360"/>
            <a:ext cx="172728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467160" y="3949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2400480" y="32259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825640" y="2903400"/>
            <a:ext cx="0" cy="1090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28"/>
          <p:cNvGraphicFramePr/>
          <p:nvPr/>
        </p:nvGraphicFramePr>
        <p:xfrm>
          <a:off x="1677960" y="5402160"/>
          <a:ext cx="2828880" cy="43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7960" y="5402160"/>
                    <a:ext cx="28288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29"/>
          <p:cNvGraphicFramePr/>
          <p:nvPr/>
        </p:nvGraphicFramePr>
        <p:xfrm>
          <a:off x="4670280" y="5400720"/>
          <a:ext cx="2938680" cy="43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Object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70280" y="5400720"/>
                    <a:ext cx="2938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1"/>
          <p:cNvGraphicFramePr/>
          <p:nvPr/>
        </p:nvGraphicFramePr>
        <p:xfrm>
          <a:off x="1523880" y="5994360"/>
          <a:ext cx="2857680" cy="43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994360"/>
                    <a:ext cx="2857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32"/>
          <p:cNvGraphicFramePr/>
          <p:nvPr/>
        </p:nvGraphicFramePr>
        <p:xfrm>
          <a:off x="4518000" y="5992920"/>
          <a:ext cx="3268800" cy="436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8000" y="5992920"/>
                    <a:ext cx="326880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266760" y="355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наче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cos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g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36720" y="1447920"/>
          <a:ext cx="7318440" cy="3371760"/>
        </p:xfrm>
        <a:graphic>
          <a:graphicData uri="http://schemas.openxmlformats.org/drawingml/2006/table">
            <a:tbl>
              <a:tblPr/>
              <a:tblGrid>
                <a:gridCol w="1222200"/>
                <a:gridCol w="1219320"/>
                <a:gridCol w="1219320"/>
                <a:gridCol w="1218960"/>
                <a:gridCol w="1219320"/>
                <a:gridCol w="12193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5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in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s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g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Object 87"/>
          <p:cNvGraphicFramePr/>
          <p:nvPr/>
        </p:nvGraphicFramePr>
        <p:xfrm>
          <a:off x="3691080" y="1969920"/>
          <a:ext cx="2966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1080" y="1969920"/>
                    <a:ext cx="29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88"/>
          <p:cNvGraphicFramePr/>
          <p:nvPr/>
        </p:nvGraphicFramePr>
        <p:xfrm>
          <a:off x="3627360" y="2960640"/>
          <a:ext cx="49536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7360" y="2960640"/>
                    <a:ext cx="495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9"/>
          <p:cNvGraphicFramePr/>
          <p:nvPr/>
        </p:nvGraphicFramePr>
        <p:xfrm>
          <a:off x="6485040" y="3049560"/>
          <a:ext cx="2966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Object 8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85040" y="3049560"/>
                    <a:ext cx="29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0"/>
          <p:cNvGraphicFramePr/>
          <p:nvPr/>
        </p:nvGraphicFramePr>
        <p:xfrm>
          <a:off x="6492960" y="1893960"/>
          <a:ext cx="4953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Object 9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92960" y="1893960"/>
                    <a:ext cx="495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1"/>
          <p:cNvGraphicFramePr/>
          <p:nvPr/>
        </p:nvGraphicFramePr>
        <p:xfrm>
          <a:off x="5068800" y="1969920"/>
          <a:ext cx="51912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Object 9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68800" y="1969920"/>
                    <a:ext cx="51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92"/>
          <p:cNvGraphicFramePr/>
          <p:nvPr/>
        </p:nvGraphicFramePr>
        <p:xfrm>
          <a:off x="5054760" y="3036960"/>
          <a:ext cx="51912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" name="Object 9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54760" y="3036960"/>
                    <a:ext cx="51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99"/>
          <p:cNvGraphicFramePr/>
          <p:nvPr/>
        </p:nvGraphicFramePr>
        <p:xfrm>
          <a:off x="3532320" y="3951360"/>
          <a:ext cx="495000" cy="83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9" name="Object 9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32320" y="3951360"/>
                    <a:ext cx="495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00"/>
          <p:cNvGraphicFramePr/>
          <p:nvPr/>
        </p:nvGraphicFramePr>
        <p:xfrm>
          <a:off x="6470640" y="4224240"/>
          <a:ext cx="446040" cy="44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Object 10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70640" y="4224240"/>
                    <a:ext cx="4460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1:08:46Z</dcterms:created>
  <dc:creator>-</dc:creator>
  <dc:description/>
  <dc:language>en-US</dc:language>
  <cp:lastModifiedBy>15</cp:lastModifiedBy>
  <dcterms:modified xsi:type="dcterms:W3CDTF">2018-03-20T12:55:44Z</dcterms:modified>
  <cp:revision>54</cp:revision>
  <dc:subject/>
  <dc:title>синус косинус</dc:title>
</cp:coreProperties>
</file>