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2C4-D6AA-4EA8-ABE7-3C7BF4A5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642-2736-4418-ACE8-FB8D953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0CC-0FA7-4A3A-9F77-504CDD91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A2C-076A-4DD9-AF2E-A02C575A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9EF-B126-46CF-AA20-692C2A7F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DB2-C2E4-4A62-AD1C-8ECCB17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5B3-9AD1-4D00-B0C2-8D4AE73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405-388E-42E6-A830-1997FE9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C00-FD79-45F2-9972-4940445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C40-3C93-418D-818D-6C4AB47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542-31B2-4A8E-B6D5-66A82229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0C3-7695-47C0-B7A4-F70B9A7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eba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864A-41FB-4C9B-A2EC-8FB03E0BED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rkasdoma.ru/index.27.jpg" TargetMode="External"/><Relationship Id="rId2" Type="http://schemas.openxmlformats.org/officeDocument/2006/relationships/hyperlink" Target="http://www.karkasdoma.ru/index.27.jpg" TargetMode="External"/><Relationship Id="rId3" Type="http://schemas.openxmlformats.org/officeDocument/2006/relationships/hyperlink" Target="http://www.karkasdoma.ru/index.27.jpg" TargetMode="External"/><Relationship Id="rId4" Type="http://schemas.openxmlformats.org/officeDocument/2006/relationships/hyperlink" Target="http://www.karkasdoma.ru/index.27.jpg" TargetMode="External"/><Relationship Id="rId5" Type="http://schemas.openxmlformats.org/officeDocument/2006/relationships/hyperlink" Target="http://www.karkasdoma.ru/index.27.jpg" TargetMode="External"/><Relationship Id="rId6" Type="http://schemas.openxmlformats.org/officeDocument/2006/relationships/hyperlink" Target="http://www.karkasdoma.ru/index.27.jpg" TargetMode="External"/><Relationship Id="rId7" Type="http://schemas.openxmlformats.org/officeDocument/2006/relationships/hyperlink" Target="http://www.karkasdoma.ru/index.27.jpg" TargetMode="External"/><Relationship Id="rId8" Type="http://schemas.openxmlformats.org/officeDocument/2006/relationships/hyperlink" Target="http://www.karkasdoma.ru/index.27.jpg" TargetMode="External"/><Relationship Id="rId9" Type="http://schemas.openxmlformats.org/officeDocument/2006/relationships/hyperlink" Target="http://www.karkasdoma.ru/index.27.jpg" TargetMode="External"/><Relationship Id="rId10" Type="http://schemas.openxmlformats.org/officeDocument/2006/relationships/hyperlink" Target="http://www.karkasdoma.ru/index.27.jpg" TargetMode="External"/><Relationship Id="rId11" Type="http://schemas.openxmlformats.org/officeDocument/2006/relationships/hyperlink" Target="http://www.karkasdoma.ru/index.27.jpg" TargetMode="External"/><Relationship Id="rId12" Type="http://schemas.openxmlformats.org/officeDocument/2006/relationships/hyperlink" Target="http://www.karkasdoma.ru/index.27.jpg" TargetMode="External"/><Relationship Id="rId13" Type="http://schemas.openxmlformats.org/officeDocument/2006/relationships/hyperlink" Target="http://mirgif.com/predmet3.htm" TargetMode="External"/><Relationship Id="rId14" Type="http://schemas.openxmlformats.org/officeDocument/2006/relationships/hyperlink" Target="http://mirgif.com/predmet3.htm" TargetMode="External"/><Relationship Id="rId15" Type="http://schemas.openxmlformats.org/officeDocument/2006/relationships/hyperlink" Target="http://mirgif.com/predmet3.htm" TargetMode="External"/><Relationship Id="rId16" Type="http://schemas.openxmlformats.org/officeDocument/2006/relationships/hyperlink" Target="http://mirgif.com/predmet3.htm" TargetMode="External"/><Relationship Id="rId17" Type="http://schemas.openxmlformats.org/officeDocument/2006/relationships/hyperlink" Target="http://mirgif.com/predmet3.htm" TargetMode="External"/><Relationship Id="rId18" Type="http://schemas.openxmlformats.org/officeDocument/2006/relationships/hyperlink" Target="http://mirgif.com/predmet3.htm" TargetMode="External"/><Relationship Id="rId19" Type="http://schemas.openxmlformats.org/officeDocument/2006/relationships/hyperlink" Target="http://mirgif.com/predmet3.htm" TargetMode="External"/><Relationship Id="rId20" Type="http://schemas.openxmlformats.org/officeDocument/2006/relationships/hyperlink" Target="http://mirgif.com/predmet3.htm" TargetMode="External"/><Relationship Id="rId21" Type="http://schemas.openxmlformats.org/officeDocument/2006/relationships/hyperlink" Target="http://mirgif.com/predmet3.htm" TargetMode="External"/><Relationship Id="rId22" Type="http://schemas.openxmlformats.org/officeDocument/2006/relationships/hyperlink" Target="http://mebel-club.ru/sites/default/files/imagecache/product/ca89fbd0-f3d3-11df-aa8f-0013d39d7580_1_0.jpg" TargetMode="External"/><Relationship Id="rId23" Type="http://schemas.openxmlformats.org/officeDocument/2006/relationships/hyperlink" Target="http://mebel-club.ru/sites/default/files/imagecache/product/ca89fbd0-f3d3-11df-aa8f-0013d39d7580_1_0.jpg" TargetMode="External"/><Relationship Id="rId24" Type="http://schemas.openxmlformats.org/officeDocument/2006/relationships/hyperlink" Target="http://mebel-club.ru/sites/default/files/imagecache/product/ca89fbd0-f3d3-11df-aa8f-0013d39d7580_1_0.jpg" TargetMode="External"/><Relationship Id="rId25" Type="http://schemas.openxmlformats.org/officeDocument/2006/relationships/hyperlink" Target="http://mebel-club.ru/sites/default/files/imagecache/product/ca89fbd0-f3d3-11df-aa8f-0013d39d7580_1_0.jpg" TargetMode="External"/><Relationship Id="rId26" Type="http://schemas.openxmlformats.org/officeDocument/2006/relationships/hyperlink" Target="http://mebel-club.ru/sites/default/files/imagecache/product/ca89fbd0-f3d3-11df-aa8f-0013d39d7580_1_0.jpg" TargetMode="External"/><Relationship Id="rId27" Type="http://schemas.openxmlformats.org/officeDocument/2006/relationships/hyperlink" Target="http://mebel-club.ru/sites/default/files/imagecache/product/ca89fbd0-f3d3-11df-aa8f-0013d39d7580_1_0.jpg" TargetMode="External"/><Relationship Id="rId28" Type="http://schemas.openxmlformats.org/officeDocument/2006/relationships/hyperlink" Target="http://mebel-club.ru/sites/default/files/imagecache/product/ca89fbd0-f3d3-11df-aa8f-0013d39d7580_1_0.jpg" TargetMode="External"/><Relationship Id="rId29" Type="http://schemas.openxmlformats.org/officeDocument/2006/relationships/hyperlink" Target="http://mebel-club.ru/sites/default/files/imagecache/product/ca89fbd0-f3d3-11df-aa8f-0013d39d7580_1_0.jpg" TargetMode="External"/><Relationship Id="rId30" Type="http://schemas.openxmlformats.org/officeDocument/2006/relationships/hyperlink" Target="http://mebel-club.ru/sites/default/files/imagecache/product/ca89fbd0-f3d3-11df-aa8f-0013d39d7580_1_0.jpg" TargetMode="External"/><Relationship Id="rId31" Type="http://schemas.openxmlformats.org/officeDocument/2006/relationships/hyperlink" Target="http://mebel-club.ru/sites/default/files/imagecache/product/ca89fbd0-f3d3-11df-aa8f-0013d39d7580_1_0.jpg" TargetMode="External"/><Relationship Id="rId32" Type="http://schemas.openxmlformats.org/officeDocument/2006/relationships/hyperlink" Target="http://mebel-club.ru/sites/default/files/imagecache/product/ca89fbd0-f3d3-11df-aa8f-0013d39d7580_1_0.jpg" TargetMode="External"/><Relationship Id="rId33" Type="http://schemas.openxmlformats.org/officeDocument/2006/relationships/hyperlink" Target="http://mebel-club.ru/sites/default/files/imagecache/product/ca89fbd0-f3d3-11df-aa8f-0013d39d7580_1_0.jpg" TargetMode="External"/><Relationship Id="rId34" Type="http://schemas.openxmlformats.org/officeDocument/2006/relationships/hyperlink" Target="http://mebel-club.ru/sites/default/files/imagecache/product/ca89fbd0-f3d3-11df-aa8f-0013d39d7580_1_0.jpg" TargetMode="External"/><Relationship Id="rId35" Type="http://schemas.openxmlformats.org/officeDocument/2006/relationships/hyperlink" Target="http://mebel-club.ru/sites/default/files/imagecache/product/ca89fbd0-f3d3-11df-aa8f-0013d39d7580_1_0.jpg" TargetMode="External"/><Relationship Id="rId36" Type="http://schemas.openxmlformats.org/officeDocument/2006/relationships/hyperlink" Target="http://mebel-club.ru/sites/default/files/imagecache/product/ca89fbd0-f3d3-11df-aa8f-0013d39d7580_1_0.jpg" TargetMode="External"/><Relationship Id="rId37" Type="http://schemas.openxmlformats.org/officeDocument/2006/relationships/hyperlink" Target="http://mebel-club.ru/sites/default/files/imagecache/product/ca89fbd0-f3d3-11df-aa8f-0013d39d7580_1_0.jpg" TargetMode="External"/><Relationship Id="rId38" Type="http://schemas.openxmlformats.org/officeDocument/2006/relationships/hyperlink" Target="http://mebel-club.ru/sites/default/files/imagecache/product/ca89fbd0-f3d3-11df-aa8f-0013d39d7580_1_0.jpg" TargetMode="External"/><Relationship Id="rId39" Type="http://schemas.openxmlformats.org/officeDocument/2006/relationships/hyperlink" Target="http://mebel-club.ru/sites/default/files/imagecache/product/ca89fbd0-f3d3-11df-aa8f-0013d39d7580_1_0.jpg" TargetMode="External"/><Relationship Id="rId40" Type="http://schemas.openxmlformats.org/officeDocument/2006/relationships/hyperlink" Target="http://mebel-club.ru/sites/default/files/imagecache/product/ca89fbd0-f3d3-11df-aa8f-0013d39d7580_1_0.jpg" TargetMode="External"/><Relationship Id="rId41" Type="http://schemas.openxmlformats.org/officeDocument/2006/relationships/hyperlink" Target="http://mebel-club.ru/sites/default/files/imagecache/product/ca89fbd0-f3d3-11df-aa8f-0013d39d7580_1_0.jpg" TargetMode="External"/><Relationship Id="rId42" Type="http://schemas.openxmlformats.org/officeDocument/2006/relationships/hyperlink" Target="http://mebel-club.ru/sites/default/files/imagecache/product/ca89fbd0-f3d3-11df-aa8f-0013d39d7580_1_0.jpg" TargetMode="External"/><Relationship Id="rId43" Type="http://schemas.openxmlformats.org/officeDocument/2006/relationships/hyperlink" Target="http://mebel-club.ru/sites/default/files/imagecache/product/ca89fbd0-f3d3-11df-aa8f-0013d39d7580_1_0.jpg" TargetMode="External"/><Relationship Id="rId44" Type="http://schemas.openxmlformats.org/officeDocument/2006/relationships/hyperlink" Target="http://mebel-club.ru/sites/default/files/imagecache/product/ca89fbd0-f3d3-11df-aa8f-0013d39d7580_1_0.jpg" TargetMode="External"/><Relationship Id="rId45" Type="http://schemas.openxmlformats.org/officeDocument/2006/relationships/hyperlink" Target="http://mebel-club.ru/sites/default/files/imagecache/product/ca89fbd0-f3d3-11df-aa8f-0013d39d7580_1_0.jpg" TargetMode="External"/><Relationship Id="rId46" Type="http://schemas.openxmlformats.org/officeDocument/2006/relationships/hyperlink" Target="http://mebel-club.ru/sites/default/files/imagecache/product/ca89fbd0-f3d3-11df-aa8f-0013d39d7580_1_0.jpg" TargetMode="External"/><Relationship Id="rId47" Type="http://schemas.openxmlformats.org/officeDocument/2006/relationships/hyperlink" Target="http://mebel-club.ru/sites/default/files/imagecache/product/ca89fbd0-f3d3-11df-aa8f-0013d39d7580_1_0.jpg" TargetMode="External"/><Relationship Id="rId48" Type="http://schemas.openxmlformats.org/officeDocument/2006/relationships/hyperlink" Target="http://mebel-club.ru/sites/default/files/imagecache/product/ca89fbd0-f3d3-11df-aa8f-0013d39d7580_1_0.jpg" TargetMode="External"/><Relationship Id="rId49" Type="http://schemas.openxmlformats.org/officeDocument/2006/relationships/hyperlink" Target="http://mebel-club.ru/sites/default/files/imagecache/product/ca89fbd0-f3d3-11df-aa8f-0013d39d7580_1_0.jpg" TargetMode="External"/><Relationship Id="rId50" Type="http://schemas.openxmlformats.org/officeDocument/2006/relationships/hyperlink" Target="http://mebel-club.ru/sites/default/files/imagecache/product/ca89fbd0-f3d3-11df-aa8f-0013d39d7580_1_0.jpg" TargetMode="External"/><Relationship Id="rId51" Type="http://schemas.openxmlformats.org/officeDocument/2006/relationships/hyperlink" Target="http://mebel-club.ru/sites/default/files/imagecache/product/ca89fbd0-f3d3-11df-aa8f-0013d39d7580_1_0.jpg" TargetMode="External"/><Relationship Id="rId52" Type="http://schemas.openxmlformats.org/officeDocument/2006/relationships/hyperlink" Target="http://mebel-club.ru/sites/default/files/imagecache/product/ca89fbd0-f3d3-11df-aa8f-0013d39d7580_1_0.jpg" TargetMode="External"/><Relationship Id="rId53" Type="http://schemas.openxmlformats.org/officeDocument/2006/relationships/hyperlink" Target="http://mebel-club.ru/sites/default/files/imagecache/product/ca89fbd0-f3d3-11df-aa8f-0013d39d7580_1_0.jpg" TargetMode="External"/><Relationship Id="rId54" Type="http://schemas.openxmlformats.org/officeDocument/2006/relationships/hyperlink" Target="http://mebel-club.ru/sites/default/files/imagecache/product/ca89fbd0-f3d3-11df-aa8f-0013d39d7580_1_0.jpg" TargetMode="External"/><Relationship Id="rId55" Type="http://schemas.openxmlformats.org/officeDocument/2006/relationships/hyperlink" Target="http://mebel-club.ru/sites/default/files/imagecache/product/ca89fbd0-f3d3-11df-aa8f-0013d39d7580_1_0.jpg" TargetMode="External"/><Relationship Id="rId56" Type="http://schemas.openxmlformats.org/officeDocument/2006/relationships/hyperlink" Target="http://mebel-club.ru/sites/default/files/imagecache/product/ca89fbd0-f3d3-11df-aa8f-0013d39d7580_1_0.jpg" TargetMode="External"/><Relationship Id="rId57" Type="http://schemas.openxmlformats.org/officeDocument/2006/relationships/hyperlink" Target="http://mebel-club.ru/sites/default/files/imagecache/product/ca89fbd0-f3d3-11df-aa8f-0013d39d7580_1_0.jpg" TargetMode="External"/><Relationship Id="rId58" Type="http://schemas.openxmlformats.org/officeDocument/2006/relationships/hyperlink" Target="http://mebel-club.ru/sites/default/files/imagecache/product/ca89fbd0-f3d3-11df-aa8f-0013d39d7580_1_0.jpg" TargetMode="External"/><Relationship Id="rId59" Type="http://schemas.openxmlformats.org/officeDocument/2006/relationships/hyperlink" Target="http://mebel-club.ru/sites/default/files/imagecache/product/papiz58.jpeg" TargetMode="External"/><Relationship Id="rId60" Type="http://schemas.openxmlformats.org/officeDocument/2006/relationships/hyperlink" Target="http://mebel-club.ru/sites/default/files/imagecache/product/papiz58.jpeg" TargetMode="External"/><Relationship Id="rId61" Type="http://schemas.openxmlformats.org/officeDocument/2006/relationships/hyperlink" Target="http://mebel-club.ru/sites/default/files/imagecache/product/papiz58.jpeg" TargetMode="External"/><Relationship Id="rId62" Type="http://schemas.openxmlformats.org/officeDocument/2006/relationships/hyperlink" Target="http://mebel-club.ru/sites/default/files/imagecache/product/papiz58.jpeg" TargetMode="External"/><Relationship Id="rId63" Type="http://schemas.openxmlformats.org/officeDocument/2006/relationships/hyperlink" Target="http://mebel-club.ru/sites/default/files/imagecache/product/papiz58.jpeg" TargetMode="External"/><Relationship Id="rId64" Type="http://schemas.openxmlformats.org/officeDocument/2006/relationships/hyperlink" Target="http://mebel-club.ru/sites/default/files/imagecache/product/papiz58.jpeg" TargetMode="External"/><Relationship Id="rId65" Type="http://schemas.openxmlformats.org/officeDocument/2006/relationships/hyperlink" Target="http://mebel-club.ru/sites/default/files/imagecache/product/papiz58.jpeg" TargetMode="External"/><Relationship Id="rId66" Type="http://schemas.openxmlformats.org/officeDocument/2006/relationships/hyperlink" Target="http://mebel-club.ru/sites/default/files/imagecache/product/papiz58.jpeg" TargetMode="External"/><Relationship Id="rId67" Type="http://schemas.openxmlformats.org/officeDocument/2006/relationships/hyperlink" Target="http://mebel-club.ru/sites/default/files/imagecache/product/papiz58.jpeg" TargetMode="External"/><Relationship Id="rId68" Type="http://schemas.openxmlformats.org/officeDocument/2006/relationships/hyperlink" Target="http://mebel-club.ru/sites/default/files/imagecache/product/papiz58.jpeg" TargetMode="External"/><Relationship Id="rId69" Type="http://schemas.openxmlformats.org/officeDocument/2006/relationships/hyperlink" Target="http://mebel-club.ru/sites/default/files/imagecache/product/papiz58.jpeg" TargetMode="External"/><Relationship Id="rId70" Type="http://schemas.openxmlformats.org/officeDocument/2006/relationships/hyperlink" Target="http://mebel-club.ru/sites/default/files/imagecache/product/papiz58.jpeg" TargetMode="External"/><Relationship Id="rId71" Type="http://schemas.openxmlformats.org/officeDocument/2006/relationships/hyperlink" Target="http://mebel-club.ru/sites/default/files/imagecache/product/papiz58.jpeg" TargetMode="External"/><Relationship Id="rId72" Type="http://schemas.openxmlformats.org/officeDocument/2006/relationships/hyperlink" Target="http://mebel-club.ru/sites/default/files/imagecache/product/papiz58.jpeg" TargetMode="External"/><Relationship Id="rId73" Type="http://schemas.openxmlformats.org/officeDocument/2006/relationships/hyperlink" Target="http://mebel-club.ru/sites/default/files/imagecache/product/papiz58.jpeg" TargetMode="External"/><Relationship Id="rId74" Type="http://schemas.openxmlformats.org/officeDocument/2006/relationships/hyperlink" Target="http://mebel-club.ru/sites/default/files/imagecache/product/papiz58.jpeg" TargetMode="External"/><Relationship Id="rId75" Type="http://schemas.openxmlformats.org/officeDocument/2006/relationships/hyperlink" Target="http://mebel-club.ru/sites/default/files/imagecache/product/papiz58.jpeg" TargetMode="External"/><Relationship Id="rId76" Type="http://schemas.openxmlformats.org/officeDocument/2006/relationships/hyperlink" Target="http://mebel-club.ru/sites/default/files/imagecache/product/papiz58.jpeg" TargetMode="External"/><Relationship Id="rId77" Type="http://schemas.openxmlformats.org/officeDocument/2006/relationships/hyperlink" Target="http://mebel-club.ru/sites/default/files/imagecache/product/papiz58.jpeg" TargetMode="External"/><Relationship Id="rId78" Type="http://schemas.openxmlformats.org/officeDocument/2006/relationships/hyperlink" Target="http://mebel-club.ru/sites/default/files/imagecache/product/papiz58.jpeg" TargetMode="External"/><Relationship Id="rId79" Type="http://schemas.openxmlformats.org/officeDocument/2006/relationships/hyperlink" Target="http://mebel-club.ru/sites/default/files/imagecache/product/papiz58.jpeg" TargetMode="External"/><Relationship Id="rId80" Type="http://schemas.openxmlformats.org/officeDocument/2006/relationships/hyperlink" Target="http://www.1md.ru/foto/www.1md.ru95685442010-08-19-09.jpg" TargetMode="External"/><Relationship Id="rId81" Type="http://schemas.openxmlformats.org/officeDocument/2006/relationships/hyperlink" Target="http://www.1md.ru/foto/www.1md.ru95685442010-08-19-09.jpg" TargetMode="External"/><Relationship Id="rId82" Type="http://schemas.openxmlformats.org/officeDocument/2006/relationships/hyperlink" Target="http://www.1md.ru/foto/www.1md.ru95685442010-08-19-09.jpg" TargetMode="External"/><Relationship Id="rId83" Type="http://schemas.openxmlformats.org/officeDocument/2006/relationships/hyperlink" Target="http://www.1md.ru/foto/www.1md.ru95685442010-08-19-09.jpg" TargetMode="External"/><Relationship Id="rId84" Type="http://schemas.openxmlformats.org/officeDocument/2006/relationships/hyperlink" Target="http://www.1md.ru/foto/www.1md.ru95685442010-08-19-09.jpg" TargetMode="External"/><Relationship Id="rId85" Type="http://schemas.openxmlformats.org/officeDocument/2006/relationships/hyperlink" Target="http://www.1md.ru/foto/www.1md.ru95685442010-08-19-09.jpg" TargetMode="External"/><Relationship Id="rId86" Type="http://schemas.openxmlformats.org/officeDocument/2006/relationships/hyperlink" Target="http://www.1md.ru/foto/www.1md.ru95685442010-08-19-09.jpg" TargetMode="External"/><Relationship Id="rId87" Type="http://schemas.openxmlformats.org/officeDocument/2006/relationships/hyperlink" Target="http://www.1md.ru/foto/www.1md.ru95685442010-08-19-09.jpg" TargetMode="External"/><Relationship Id="rId88" Type="http://schemas.openxmlformats.org/officeDocument/2006/relationships/hyperlink" Target="http://www.1md.ru/foto/www.1md.ru95685442010-08-19-09.jpg" TargetMode="External"/><Relationship Id="rId89" Type="http://schemas.openxmlformats.org/officeDocument/2006/relationships/hyperlink" Target="http://www.1md.ru/foto/www.1md.ru95685442010-08-19-09.jpg" TargetMode="External"/><Relationship Id="rId90" Type="http://schemas.openxmlformats.org/officeDocument/2006/relationships/hyperlink" Target="http://www.1md.ru/foto/www.1md.ru95685442010-08-19-09.jpg" TargetMode="External"/><Relationship Id="rId91" Type="http://schemas.openxmlformats.org/officeDocument/2006/relationships/hyperlink" Target="http://www.1md.ru/foto/www.1md.ru95685442010-08-19-09.jpg" TargetMode="External"/><Relationship Id="rId92" Type="http://schemas.openxmlformats.org/officeDocument/2006/relationships/hyperlink" Target="http://www.1md.ru/foto/www.1md.ru95685442010-08-19-09.jpg" TargetMode="External"/><Relationship Id="rId93" Type="http://schemas.openxmlformats.org/officeDocument/2006/relationships/hyperlink" Target="http://www.1md.ru/foto/www.1md.ru95685442010-08-19-09.jpg" TargetMode="External"/><Relationship Id="rId94" Type="http://schemas.openxmlformats.org/officeDocument/2006/relationships/hyperlink" Target="http://www.1md.ru/foto/www.1md.ru95685442010-08-19-09.jpg" TargetMode="External"/><Relationship Id="rId95" Type="http://schemas.openxmlformats.org/officeDocument/2006/relationships/hyperlink" Target="http://www.1md.ru/foto/www.1md.ru95685442010-08-19-09.jpg" TargetMode="External"/><Relationship Id="rId96" Type="http://schemas.openxmlformats.org/officeDocument/2006/relationships/hyperlink" Target="http://www.1md.ru/foto/www.1md.ru95685442010-08-19-09.jpg" TargetMode="External"/><Relationship Id="rId97" Type="http://schemas.openxmlformats.org/officeDocument/2006/relationships/hyperlink" Target="http://www.sall.ru/img/gallery/2_2.jpg" TargetMode="External"/><Relationship Id="rId98" Type="http://schemas.openxmlformats.org/officeDocument/2006/relationships/hyperlink" Target="http://www.sall.ru/img/gallery/2_2.jpg" TargetMode="External"/><Relationship Id="rId99" Type="http://schemas.openxmlformats.org/officeDocument/2006/relationships/hyperlink" Target="http://www.sall.ru/img/gallery/2_2.jpg" TargetMode="External"/><Relationship Id="rId100" Type="http://schemas.openxmlformats.org/officeDocument/2006/relationships/hyperlink" Target="http://www.sall.ru/img/gallery/2_2.jpg" TargetMode="External"/><Relationship Id="rId101" Type="http://schemas.openxmlformats.org/officeDocument/2006/relationships/hyperlink" Target="http://www.sall.ru/img/gallery/2_2.jpg" TargetMode="External"/><Relationship Id="rId102" Type="http://schemas.openxmlformats.org/officeDocument/2006/relationships/hyperlink" Target="http://www.sall.ru/img/gallery/2_2.jpg" TargetMode="External"/><Relationship Id="rId103" Type="http://schemas.openxmlformats.org/officeDocument/2006/relationships/hyperlink" Target="http://www.sall.ru/img/gallery/2_2.jpg" TargetMode="External"/><Relationship Id="rId104" Type="http://schemas.openxmlformats.org/officeDocument/2006/relationships/hyperlink" Target="http://www.sall.ru/img/gallery/2_2.jpg" TargetMode="External"/><Relationship Id="rId105" Type="http://schemas.openxmlformats.org/officeDocument/2006/relationships/hyperlink" Target="http://www.sall.ru/img/gallery/2_2.jpg" TargetMode="External"/><Relationship Id="rId106" Type="http://schemas.openxmlformats.org/officeDocument/2006/relationships/hyperlink" Target="http://www.sall.ru/img/gallery/2_2.jpg" TargetMode="External"/><Relationship Id="rId107" Type="http://schemas.openxmlformats.org/officeDocument/2006/relationships/hyperlink" Target="http://www.sall.ru/img/gallery/2_2.jpg" TargetMode="External"/><Relationship Id="rId108" Type="http://schemas.openxmlformats.org/officeDocument/2006/relationships/hyperlink" Target="http://www.sall.ru/img/gallery/2_2.jpg" TargetMode="External"/><Relationship Id="rId109" Type="http://schemas.openxmlformats.org/officeDocument/2006/relationships/hyperlink" Target="http://www.sall.ru/img/gallery/2_2.jpg" TargetMode="External"/><Relationship Id="rId110" Type="http://schemas.openxmlformats.org/officeDocument/2006/relationships/hyperlink" Target="http://www.intempo.ru/special.php" TargetMode="External"/><Relationship Id="rId111" Type="http://schemas.openxmlformats.org/officeDocument/2006/relationships/hyperlink" Target="http://www.intempo.ru/special.php" TargetMode="External"/><Relationship Id="rId112" Type="http://schemas.openxmlformats.org/officeDocument/2006/relationships/hyperlink" Target="http://www.intempo.ru/special.php" TargetMode="External"/><Relationship Id="rId113" Type="http://schemas.openxmlformats.org/officeDocument/2006/relationships/hyperlink" Target="http://www.intempo.ru/special.php" TargetMode="External"/><Relationship Id="rId114" Type="http://schemas.openxmlformats.org/officeDocument/2006/relationships/hyperlink" Target="http://www.intempo.ru/special.php" TargetMode="External"/><Relationship Id="rId115" Type="http://schemas.openxmlformats.org/officeDocument/2006/relationships/hyperlink" Target="http://www.intempo.ru/special.php" TargetMode="External"/><Relationship Id="rId116" Type="http://schemas.openxmlformats.org/officeDocument/2006/relationships/hyperlink" Target="http://www.intempo.ru/special.php" TargetMode="External"/><Relationship Id="rId117" Type="http://schemas.openxmlformats.org/officeDocument/2006/relationships/hyperlink" Target="http://www.intempo.ru/special.php" TargetMode="External"/><Relationship Id="rId118" Type="http://schemas.openxmlformats.org/officeDocument/2006/relationships/hyperlink" Target="http://www.intempo.ru/special.php" TargetMode="External"/><Relationship Id="rId119" Type="http://schemas.openxmlformats.org/officeDocument/2006/relationships/hyperlink" Target="http://www.intempo.ru/special.php" TargetMode="External"/><Relationship Id="rId120" Type="http://schemas.openxmlformats.org/officeDocument/2006/relationships/hyperlink" Target="http://www.intempo.ru/special.php" TargetMode="External"/><Relationship Id="rId121" Type="http://schemas.openxmlformats.org/officeDocument/2006/relationships/hyperlink" Target="http://spc2000.narod.ru/siteLite/mebel/elion.htm" TargetMode="External"/><Relationship Id="rId122" Type="http://schemas.openxmlformats.org/officeDocument/2006/relationships/hyperlink" Target="http://www.redwoodmaster.ru/catalog/chair/chair006-big.jpg" TargetMode="External"/><Relationship Id="rId123" Type="http://schemas.openxmlformats.org/officeDocument/2006/relationships/hyperlink" Target="http://giftsgalary.ru/images/_________________4a9ebaf5df0a8.jpg" TargetMode="External"/><Relationship Id="rId124" Type="http://schemas.openxmlformats.org/officeDocument/2006/relationships/hyperlink" Target="http://giftsgalary.ru/images/_________________4a9eb48a22f27.jpg" TargetMode="External"/><Relationship Id="rId125" Type="http://schemas.openxmlformats.org/officeDocument/2006/relationships/hyperlink" Target="http://giftsgalary.ru/images/_________________4a9da1fbcc195.jpg" TargetMode="External"/><Relationship Id="rId126" Type="http://schemas.openxmlformats.org/officeDocument/2006/relationships/hyperlink" Target="http://giftsgalary.ru/images/_________________4a9d9dd288c74.jpg" TargetMode="External"/><Relationship Id="rId127" Type="http://schemas.openxmlformats.org/officeDocument/2006/relationships/hyperlink" Target="http://giftsgalary.ru/images/_________________4a9d0b1e9e44a.jpg" TargetMode="External"/><Relationship Id="rId128" Type="http://schemas.openxmlformats.org/officeDocument/2006/relationships/hyperlink" Target="http://giftsgalary.ru/images/_________________4a9bdbecd6e51.jpg" TargetMode="External"/><Relationship Id="rId129" Type="http://schemas.openxmlformats.org/officeDocument/2006/relationships/hyperlink" Target="http://giftsgalary.ru/images/100_6669.jpg" TargetMode="External"/><Relationship Id="rId130" Type="http://schemas.openxmlformats.org/officeDocument/2006/relationships/hyperlink" Target="http://giftsgalary.ru/images/100_6609.jpg" TargetMode="External"/><Relationship Id="rId131" Type="http://schemas.openxmlformats.org/officeDocument/2006/relationships/hyperlink" Target="http://allomebel.ru/shop/?dir=25" TargetMode="External"/><Relationship Id="rId132" Type="http://schemas.openxmlformats.org/officeDocument/2006/relationships/hyperlink" Target="http://podarkoff.ru/pics/2/9/2/4/1/i/000102709_000105049_sizus150.jpg" TargetMode="External"/><Relationship Id="rId133" Type="http://schemas.openxmlformats.org/officeDocument/2006/relationships/hyperlink" Target="http://www.alekc.ru/image/advice/advice_9_3.jpg" TargetMode="External"/><Relationship Id="rId134" Type="http://schemas.openxmlformats.org/officeDocument/2006/relationships/hyperlink" Target="http://www.rusgobelen.ru/published/publicdata/RUSGOBRU2/attachments/SC/products_pictures/panno031_2_enl.JPG" TargetMode="External"/><Relationship Id="rId135" Type="http://schemas.openxmlformats.org/officeDocument/2006/relationships/hyperlink" Target="http://img13.imageshost.ru/img/2011/08/30/image_4e5c859acc66f.jpg" TargetMode="External"/><Relationship Id="rId136" Type="http://schemas.openxmlformats.org/officeDocument/2006/relationships/hyperlink" Target="http://www.flamingo.ru/shop/files/images/gallery/full/292_img1.jpg" TargetMode="External"/><Relationship Id="rId137" Type="http://schemas.openxmlformats.org/officeDocument/2006/relationships/hyperlink" Target="http://i.k-mebel.com.ua/7cb56734f4cd5878569dfa24a824ef3a.jpg" TargetMode="External"/><Relationship Id="rId138" Type="http://schemas.openxmlformats.org/officeDocument/2006/relationships/hyperlink" Target="http://www.billow.ru/imgnews3/i1002-00917.jpg" TargetMode="External"/><Relationship Id="rId139" Type="http://schemas.openxmlformats.org/officeDocument/2006/relationships/hyperlink" Target="http://fotki.yandex.ru/users/ladyo2004/view/383687/?page=0" TargetMode="External"/><Relationship Id="rId140" Type="http://schemas.openxmlformats.org/officeDocument/2006/relationships/hyperlink" Target="http://fotki.yandex.ru/users/ladyo2004/view/383687/?page=0" TargetMode="External"/><Relationship Id="rId141" Type="http://schemas.openxmlformats.org/officeDocument/2006/relationships/hyperlink" Target="http://fotki.yandex.ru/users/ladyo2004/view/383687/?page=0" TargetMode="External"/><Relationship Id="rId142" Type="http://schemas.openxmlformats.org/officeDocument/2006/relationships/hyperlink" Target="http://fotki.yandex.ru/users/ladyo2004/view/383687/?page=0" TargetMode="External"/><Relationship Id="rId143" Type="http://schemas.openxmlformats.org/officeDocument/2006/relationships/hyperlink" Target="http://fotki.yandex.ru/users/ladyo2004/view/383687/?page=0" TargetMode="External"/><Relationship Id="rId144" Type="http://schemas.openxmlformats.org/officeDocument/2006/relationships/hyperlink" Target="http://fotki.yandex.ru/users/ladyo2004/view/383687/?page=0" TargetMode="External"/><Relationship Id="rId145" Type="http://schemas.openxmlformats.org/officeDocument/2006/relationships/hyperlink" Target="http://fotki.yandex.ru/users/ladyo2004/view/383687/?page=0" TargetMode="External"/><Relationship Id="rId146" Type="http://schemas.openxmlformats.org/officeDocument/2006/relationships/hyperlink" Target="http://fotki.yandex.ru/users/ladyo2004/view/383687/?page=0" TargetMode="External"/><Relationship Id="rId147" Type="http://schemas.openxmlformats.org/officeDocument/2006/relationships/hyperlink" Target="http://fotki.yandex.ru/users/ladyo2004/view/383687/?page=0" TargetMode="External"/><Relationship Id="rId148" Type="http://schemas.openxmlformats.org/officeDocument/2006/relationships/hyperlink" Target="http://fotki.yandex.ru/users/ladyo2004/view/383687/?page=0" TargetMode="External"/><Relationship Id="rId149" Type="http://schemas.openxmlformats.org/officeDocument/2006/relationships/hyperlink" Target="http://fotki.yandex.ru/users/ladyo2004/view/383687/?page=0" TargetMode="External"/><Relationship Id="rId150" Type="http://schemas.openxmlformats.org/officeDocument/2006/relationships/hyperlink" Target="http://fotki.yandex.ru/users/ladyo2004/view/383687/?page=0" TargetMode="External"/><Relationship Id="rId151" Type="http://schemas.openxmlformats.org/officeDocument/2006/relationships/hyperlink" Target="http://fotki.yandex.ru/users/ladyo2004/view/383687/?page=0" TargetMode="External"/><Relationship Id="rId152" Type="http://schemas.openxmlformats.org/officeDocument/2006/relationships/hyperlink" Target="http://fotki.yandex.ru/users/ladyo2004/view/383687/?page=0" TargetMode="External"/><Relationship Id="rId153" Type="http://schemas.openxmlformats.org/officeDocument/2006/relationships/hyperlink" Target="http://fotki.yandex.ru/users/ladyo2004/view/383687/?page=0" TargetMode="External"/><Relationship Id="rId154" Type="http://schemas.openxmlformats.org/officeDocument/2006/relationships/hyperlink" Target="http://fotki.yandex.ru/users/ladyo2004/view/383687/?page=0" TargetMode="External"/><Relationship Id="rId155" Type="http://schemas.openxmlformats.org/officeDocument/2006/relationships/hyperlink" Target="http://fotki.yandex.ru/users/oli-el/view/483867/?page=0" TargetMode="External"/><Relationship Id="rId156" Type="http://schemas.openxmlformats.org/officeDocument/2006/relationships/hyperlink" Target="http://fotki.yandex.ru/users/oli-el/view/483867/?page=0" TargetMode="External"/><Relationship Id="rId157" Type="http://schemas.openxmlformats.org/officeDocument/2006/relationships/hyperlink" Target="http://fotki.yandex.ru/users/oli-el/view/483867/?page=0" TargetMode="External"/><Relationship Id="rId158" Type="http://schemas.openxmlformats.org/officeDocument/2006/relationships/hyperlink" Target="http://fotki.yandex.ru/users/oli-el/view/483867/?page=0" TargetMode="External"/><Relationship Id="rId159" Type="http://schemas.openxmlformats.org/officeDocument/2006/relationships/hyperlink" Target="http://fotki.yandex.ru/users/oli-el/view/483867/?page=0" TargetMode="External"/><Relationship Id="rId160" Type="http://schemas.openxmlformats.org/officeDocument/2006/relationships/hyperlink" Target="http://fotki.yandex.ru/users/oli-el/view/483867/?page=0" TargetMode="External"/><Relationship Id="rId161" Type="http://schemas.openxmlformats.org/officeDocument/2006/relationships/hyperlink" Target="http://fotki.yandex.ru/users/oli-el/view/483867/?page=0" TargetMode="External"/><Relationship Id="rId162" Type="http://schemas.openxmlformats.org/officeDocument/2006/relationships/hyperlink" Target="http://fotki.yandex.ru/users/oli-el/view/483867/?page=0" TargetMode="External"/><Relationship Id="rId163" Type="http://schemas.openxmlformats.org/officeDocument/2006/relationships/hyperlink" Target="http://fotki.yandex.ru/users/oli-el/view/483867/?page=0" TargetMode="External"/><Relationship Id="rId164" Type="http://schemas.openxmlformats.org/officeDocument/2006/relationships/hyperlink" Target="http://fotki.yandex.ru/users/oli-el/view/483867/?page=0" TargetMode="External"/><Relationship Id="rId165" Type="http://schemas.openxmlformats.org/officeDocument/2006/relationships/hyperlink" Target="http://fotki.yandex.ru/users/oli-el/view/483867/?page=0" TargetMode="External"/><Relationship Id="rId166" Type="http://schemas.openxmlformats.org/officeDocument/2006/relationships/hyperlink" Target="http://fotki.yandex.ru/users/oli-el/view/483867/?page=0" TargetMode="External"/><Relationship Id="rId167" Type="http://schemas.openxmlformats.org/officeDocument/2006/relationships/hyperlink" Target="http://fotki.yandex.ru/users/oli-el/view/483867/?page=0" TargetMode="External"/><Relationship Id="rId168" Type="http://schemas.openxmlformats.org/officeDocument/2006/relationships/hyperlink" Target="http://fotki.yandex.ru/users/oli-el/view/483867/?page=0" TargetMode="External"/><Relationship Id="rId169" Type="http://schemas.openxmlformats.org/officeDocument/2006/relationships/hyperlink" Target="http://fotki.yandex.ru/users/oli-el/view/483867/?page=0" TargetMode="External"/><Relationship Id="rId170" Type="http://schemas.openxmlformats.org/officeDocument/2006/relationships/hyperlink" Target="http://fotki.yandex.ru/users/oli-el/view/483867/?page=0" TargetMode="External"/><Relationship Id="rId171" Type="http://schemas.openxmlformats.org/officeDocument/2006/relationships/hyperlink" Target="http://fotki.yandex.ru/users/oli-el/view/483867/?page=0" TargetMode="External"/><Relationship Id="rId172" Type="http://schemas.openxmlformats.org/officeDocument/2006/relationships/hyperlink" Target="http://fotki.yandex.ru/users/oli-el/view/483867/?page=0" TargetMode="External"/><Relationship Id="rId173" Type="http://schemas.openxmlformats.org/officeDocument/2006/relationships/hyperlink" Target="http://www.liveinternet.ru/users/ledi_meledi/post149054583/" TargetMode="External"/><Relationship Id="rId17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m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5429160"/>
            <a:ext cx="414324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якина Ирина Арсентье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УТалаканская СОШ № 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Let`s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400" y="713880"/>
            <a:ext cx="84294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ch the names of the rooms  and their descriptions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ариа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14200" y="1643040"/>
          <a:ext cx="8643960" cy="1846440"/>
        </p:xfrm>
        <a:graphic>
          <a:graphicData uri="http://schemas.openxmlformats.org/drawingml/2006/table">
            <a:tbl>
              <a:tblPr/>
              <a:tblGrid>
                <a:gridCol w="1171800"/>
                <a:gridCol w="1392120"/>
                <a:gridCol w="1758960"/>
                <a:gridCol w="1440000"/>
                <a:gridCol w="1441440"/>
                <a:gridCol w="14396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’s 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ing 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1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6"/>
          <p:cNvSpPr/>
          <p:nvPr/>
        </p:nvSpPr>
        <p:spPr>
          <a:xfrm>
            <a:off x="368640" y="40006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200" y="4572000"/>
          <a:ext cx="8572680" cy="210348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428840"/>
                <a:gridCol w="1428480"/>
                <a:gridCol w="1428840"/>
                <a:gridCol w="1428840"/>
              </a:tblGrid>
              <a:tr h="84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ning-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ving-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ldren's 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084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на источники, использованные для создания презентации и интерактивного материала                                                         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1.Картинки с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ww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karkasdom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index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.27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mirgif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com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/>
              </a:rPr>
              <a:t>predme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/>
              </a:rPr>
              <a:t>3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/>
              </a:rPr>
              <a:t>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/>
              </a:rPr>
              <a:t>mebel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5"/>
              </a:rPr>
              <a:t>-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/>
              </a:rPr>
              <a:t>club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/>
              </a:rPr>
              <a:t>sit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1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/>
              </a:rPr>
              <a:t>defaul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5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6"/>
              </a:rPr>
              <a:t>imagecache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8"/>
              </a:rPr>
              <a:t>produc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0"/>
              </a:rPr>
              <a:t>c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1"/>
              </a:rPr>
              <a:t>89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2"/>
              </a:rPr>
              <a:t>fb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3"/>
              </a:rPr>
              <a:t>0-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4"/>
              </a:rPr>
              <a:t>f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5"/>
              </a:rPr>
              <a:t>3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6"/>
              </a:rPr>
              <a:t>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7"/>
              </a:rPr>
              <a:t>3-11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8"/>
              </a:rPr>
              <a:t>df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9"/>
              </a:rPr>
              <a:t>-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0"/>
              </a:rPr>
              <a:t>a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1"/>
              </a:rPr>
              <a:t>8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2"/>
              </a:rPr>
              <a:t>f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3"/>
              </a:rPr>
              <a:t>-0013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4"/>
              </a:rPr>
              <a:t>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5"/>
              </a:rPr>
              <a:t>39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6"/>
              </a:rPr>
              <a:t>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7"/>
              </a:rPr>
              <a:t>7580_1_0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8"/>
              </a:rPr>
              <a:t>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9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0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1"/>
              </a:rPr>
              <a:t>mebel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2"/>
              </a:rPr>
              <a:t>-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3"/>
              </a:rPr>
              <a:t>club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5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6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7"/>
              </a:rPr>
              <a:t>sit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8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9"/>
              </a:rPr>
              <a:t>defaul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0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1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2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3"/>
              </a:rPr>
              <a:t>imagecache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4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5"/>
              </a:rPr>
              <a:t>produc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6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7"/>
              </a:rPr>
              <a:t>papiz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8"/>
              </a:rPr>
              <a:t>58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9"/>
              </a:rPr>
              <a:t>jpe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2"/>
              </a:rPr>
              <a:t>ww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3"/>
              </a:rPr>
              <a:t>.1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4"/>
              </a:rPr>
              <a:t>m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6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8"/>
              </a:rPr>
              <a:t>foto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0"/>
              </a:rPr>
              <a:t>ww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1"/>
              </a:rPr>
              <a:t>.1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2"/>
              </a:rPr>
              <a:t>md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4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5"/>
              </a:rPr>
              <a:t>95685442010-08-19-09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6"/>
              </a:rPr>
              <a:t>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7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8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9"/>
              </a:rPr>
              <a:t>ww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0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1"/>
              </a:rPr>
              <a:t>sall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2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3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4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5"/>
              </a:rPr>
              <a:t>img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6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7"/>
              </a:rPr>
              <a:t>gallery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8"/>
              </a:rPr>
              <a:t>/2_2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9"/>
              </a:rPr>
              <a:t>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2"/>
              </a:rPr>
              <a:t>ww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4"/>
              </a:rPr>
              <a:t>intempo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6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8"/>
              </a:rPr>
              <a:t>special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9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0"/>
              </a:rPr>
              <a:t>ph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1"/>
              </a:rPr>
              <a:t>http://spc2000.narod.ru/siteLite/mebel/elio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2"/>
              </a:rPr>
              <a:t>http://www.redwoodmaster.ru/catalog/chair/chair006-big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3"/>
              </a:rPr>
              <a:t>http://giftsgalary.ru/images/_________________4a9ebaf5df0a8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4"/>
              </a:rPr>
              <a:t>http://giftsgalary.ru/images/_________________4a9eb48a22f27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5"/>
              </a:rPr>
              <a:t>http://giftsgalary.ru/images/_________________4a9da1fbcc195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6"/>
              </a:rPr>
              <a:t>http://giftsgalary.ru/images/_________________4a9d9dd288c74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7"/>
              </a:rPr>
              <a:t>http://giftsgalary.ru/images/_________________4a9d0b1e9e44a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8"/>
              </a:rPr>
              <a:t>http://giftsgalary.ru/images/_________________4a9bdbecd6e51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9"/>
              </a:rPr>
              <a:t>http://giftsgalary.ru/images/100_6669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0"/>
              </a:rPr>
              <a:t>http://giftsgalary.ru/images/100_6609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1"/>
              </a:rPr>
              <a:t>http://allomebel.ru/shop/?dir=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2"/>
              </a:rPr>
              <a:t>http://podarkoff.ru/pics/2/9/2/4/1/i/000102709_000105049_sizus150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3"/>
              </a:rPr>
              <a:t>http://www.alekc.ru/image/advice/advice_9_3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4"/>
              </a:rPr>
              <a:t>http://www.rusgobelen.ru/published/publicdata/RUSGOBRU2/attachments/SC/products_pictures/panno031_2_enl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5"/>
              </a:rPr>
              <a:t>http://img13.imageshost.ru/img/2011/08/30/image_4e5c859acc66f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6"/>
              </a:rPr>
              <a:t>http://www.flamingo.ru/shop/files/images/gallery/full/292_img1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7"/>
              </a:rPr>
              <a:t>http://i.k-mebel.com.ua/7cb56734f4cd5878569dfa24a824ef3a.jp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8"/>
              </a:rPr>
              <a:t>http://www.billow.ru/imgnews3/i1002-00917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9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0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1"/>
              </a:rPr>
              <a:t>fotki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2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3"/>
              </a:rPr>
              <a:t>yandex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5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6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7"/>
              </a:rPr>
              <a:t>user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8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9"/>
              </a:rPr>
              <a:t>ladyo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0"/>
              </a:rPr>
              <a:t>2004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1"/>
              </a:rPr>
              <a:t>vie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2"/>
              </a:rPr>
              <a:t>/383687/?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3"/>
              </a:rPr>
              <a:t>page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4"/>
              </a:rPr>
              <a:t>=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5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6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7"/>
              </a:rPr>
              <a:t>fotki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8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9"/>
              </a:rPr>
              <a:t>yandex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0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1"/>
              </a:rPr>
              <a:t>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2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3"/>
              </a:rPr>
              <a:t>user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4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5"/>
              </a:rPr>
              <a:t>oli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6"/>
              </a:rPr>
              <a:t>-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7"/>
              </a:rPr>
              <a:t>el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8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9"/>
              </a:rPr>
              <a:t>view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0"/>
              </a:rPr>
              <a:t>/483867/?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1"/>
              </a:rPr>
              <a:t>page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2"/>
              </a:rPr>
              <a:t>=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3"/>
              </a:rPr>
              <a:t>htt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/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veinternet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rs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di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ledi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t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9054583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4000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weet ho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840" y="5357520"/>
            <a:ext cx="4286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place like home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571840" y="2260440"/>
            <a:ext cx="4114800" cy="2851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500720" y="21420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 – любимый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572000" y="5286240"/>
            <a:ext cx="428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 гостях хорошо, а дома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Read and trans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42280" y="121428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mc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00040" y="357192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571680" y="178596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pboar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67360" y="29289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ig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227880" y="2428920"/>
            <a:ext cx="15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229680" y="4214880"/>
            <a:ext cx="24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d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228600" y="5500800"/>
            <a:ext cx="20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35440" y="4857840"/>
            <a:ext cx="21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235800" y="6072120"/>
            <a:ext cx="17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7580520" y="550080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7500960" y="4214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ф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7151760" y="300024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ю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6215040" y="357192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иль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7572240" y="48578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в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7003800" y="1143000"/>
            <a:ext cx="18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гарде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1"/>
          <p:cNvSpPr/>
          <p:nvPr/>
        </p:nvSpPr>
        <p:spPr>
          <a:xfrm>
            <a:off x="6868080" y="607212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ав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2"/>
          <p:cNvSpPr/>
          <p:nvPr/>
        </p:nvSpPr>
        <p:spPr>
          <a:xfrm>
            <a:off x="7508160" y="23572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7223040" y="178596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57120" y="2625840"/>
            <a:ext cx="350064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4.07407E-006 L 0.47049 0.62685 E">
                                      <p:cBhvr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8,57,-4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8,57,-4)"/>
                                      </p:to>
                                    </p:se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6 L 0.46806 0.35486 E">
                                      <p:cBhvr>
                                        <p:cTn id="3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8,57,-4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8,57,-4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3.7037E-006 L 0.56424 0.09328 E">
                                      <p:cBhvr>
                                        <p:cTn id="4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-2.96296E-006 L 0.31771 0.1044 E">
                                      <p:cBhvr>
                                        <p:cTn id="5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4.07407E-006 L 0.54046 0.18865 E">
                                      <p:cBhvr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,-59,46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,-59,46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3.7037E-007 L 0.44097 -0.45069 E">
                                      <p:cBhvr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,-59,46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,-59,46)"/>
                                      </p:to>
                                    </p:se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-2.96296E-006 L 0.44479 0.19051 E">
                                      <p:cBhvr>
                                        <p:cTn id="8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2,56,-42)"/>
                                      </p:to>
                                    </p:se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2,56,-42)"/>
                                      </p:to>
                                    </p:se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-2.96296E-006 L 0.53959 -0.4493 E">
                                      <p:cBhvr>
                                        <p:cTn id="9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2,56,-42)"/>
                                      </p:to>
                                    </p:se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2,56,-42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7.40741E-007 L 0.5658 -0.6169 E">
                                      <p:cBhvr>
                                        <p:cTn id="10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17,45,-124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17,45,-124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C900215150"/>
          <p:cNvPicPr/>
          <p:nvPr/>
        </p:nvPicPr>
        <p:blipFill>
          <a:blip r:embed="rId1"/>
          <a:stretch/>
        </p:blipFill>
        <p:spPr>
          <a:xfrm>
            <a:off x="387360" y="785880"/>
            <a:ext cx="135576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900286412"/>
          <p:cNvPicPr/>
          <p:nvPr/>
        </p:nvPicPr>
        <p:blipFill>
          <a:blip r:embed="rId2"/>
          <a:stretch/>
        </p:blipFill>
        <p:spPr>
          <a:xfrm>
            <a:off x="285840" y="4643280"/>
            <a:ext cx="2709720" cy="19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900350011"/>
          <p:cNvPicPr/>
          <p:nvPr/>
        </p:nvPicPr>
        <p:blipFill>
          <a:blip r:embed="rId3"/>
          <a:stretch/>
        </p:blipFill>
        <p:spPr>
          <a:xfrm>
            <a:off x="7143840" y="4903920"/>
            <a:ext cx="1681200" cy="1563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C900287520"/>
          <p:cNvPicPr/>
          <p:nvPr/>
        </p:nvPicPr>
        <p:blipFill>
          <a:blip r:embed="rId4"/>
          <a:stretch/>
        </p:blipFill>
        <p:spPr>
          <a:xfrm>
            <a:off x="3786120" y="3143160"/>
            <a:ext cx="1359000" cy="11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C900215164"/>
          <p:cNvPicPr/>
          <p:nvPr/>
        </p:nvPicPr>
        <p:blipFill>
          <a:blip r:embed="rId5"/>
          <a:stretch/>
        </p:blipFill>
        <p:spPr>
          <a:xfrm>
            <a:off x="4071960" y="4575240"/>
            <a:ext cx="1536840" cy="207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C900215146"/>
          <p:cNvPicPr/>
          <p:nvPr/>
        </p:nvPicPr>
        <p:blipFill>
          <a:blip r:embed="rId6"/>
          <a:stretch/>
        </p:blipFill>
        <p:spPr>
          <a:xfrm>
            <a:off x="3857760" y="801720"/>
            <a:ext cx="1144440" cy="1963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Администратор\Мои документы\Мои рисунки\предметы\кровать.bmp"/>
          <p:cNvPicPr/>
          <p:nvPr/>
        </p:nvPicPr>
        <p:blipFill>
          <a:blip r:embed="rId7"/>
          <a:stretch/>
        </p:blipFill>
        <p:spPr>
          <a:xfrm>
            <a:off x="6357960" y="1127160"/>
            <a:ext cx="2408040" cy="1103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14200" y="214200"/>
            <a:ext cx="314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hat is mi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4145040" y="1643040"/>
            <a:ext cx="4836960" cy="362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13840" y="1571400"/>
            <a:ext cx="2071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649960" y="928800"/>
            <a:ext cx="119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4280" y="485784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643120" y="4572000"/>
            <a:ext cx="15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7"/>
          <p:cNvCxnSpPr/>
          <p:nvPr/>
        </p:nvCxnSpPr>
        <p:spPr>
          <a:xfrm flipV="1">
            <a:off x="2000160" y="1571400"/>
            <a:ext cx="643320" cy="3578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2" name="Прямая со стрелкой 9"/>
          <p:cNvCxnSpPr/>
          <p:nvPr/>
        </p:nvCxnSpPr>
        <p:spPr>
          <a:xfrm>
            <a:off x="2008800" y="1937880"/>
            <a:ext cx="562680" cy="56268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3" name="Прямая со стрелкой 11"/>
          <p:cNvCxnSpPr/>
          <p:nvPr/>
        </p:nvCxnSpPr>
        <p:spPr>
          <a:xfrm>
            <a:off x="1999080" y="5357520"/>
            <a:ext cx="500760" cy="5007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4" name="Прямая со стрелкой 12"/>
          <p:cNvCxnSpPr/>
          <p:nvPr/>
        </p:nvCxnSpPr>
        <p:spPr>
          <a:xfrm flipV="1">
            <a:off x="1999800" y="5142960"/>
            <a:ext cx="715320" cy="2149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Make up the right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-214200" y="1000080"/>
            <a:ext cx="61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There in the room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927880" y="1643040"/>
            <a:ext cx="64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was a table in the 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-292680" y="2214720"/>
            <a:ext cx="62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the table chairs Are 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2497320" y="2857680"/>
            <a:ext cx="68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re chairs near the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214200" y="33577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in the corner of the room a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1785960" y="39290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TV in the corner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14200" y="442908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ll a picture on Is t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3571920" y="500076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there a picture on the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1714680" y="60721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were many flowers in the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214200" y="55720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flowers in the kitchen. many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Choose the wrong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4929120" y="100008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 There are a stereo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357120" y="100008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 There is a stereo on the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85840" y="24289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re are a book under the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4929120" y="257184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 There is a book under the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14200" y="4071960"/>
            <a:ext cx="39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Is there 2 wardrobes in the living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4786200" y="400068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 Are there 2 wardrobes in the living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14200" y="557208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Is there a stove 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5357880" y="5500800"/>
            <a:ext cx="35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e is a stove 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 4"/>
          <p:cNvSpPr/>
          <p:nvPr/>
        </p:nvSpPr>
        <p:spPr>
          <a:xfrm>
            <a:off x="6429240" y="2500200"/>
            <a:ext cx="2357640" cy="1200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tche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"/>
          <p:cNvSpPr/>
          <p:nvPr/>
        </p:nvSpPr>
        <p:spPr>
          <a:xfrm>
            <a:off x="6215040" y="357120"/>
            <a:ext cx="2714760" cy="12002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dro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3571920" y="285840"/>
            <a:ext cx="2357280" cy="12002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ning ro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214200" y="357120"/>
            <a:ext cx="2928960" cy="1200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th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8"/>
          <p:cNvSpPr/>
          <p:nvPr/>
        </p:nvSpPr>
        <p:spPr>
          <a:xfrm>
            <a:off x="214200" y="2428920"/>
            <a:ext cx="2357640" cy="12002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ving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9"/>
          <p:cNvSpPr/>
          <p:nvPr/>
        </p:nvSpPr>
        <p:spPr>
          <a:xfrm>
            <a:off x="285840" y="4857840"/>
            <a:ext cx="2357280" cy="12002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0"/>
          <p:cNvSpPr/>
          <p:nvPr/>
        </p:nvSpPr>
        <p:spPr>
          <a:xfrm>
            <a:off x="3214800" y="5286240"/>
            <a:ext cx="2357280" cy="12002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l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1"/>
          <p:cNvSpPr/>
          <p:nvPr/>
        </p:nvSpPr>
        <p:spPr>
          <a:xfrm>
            <a:off x="6500880" y="5000760"/>
            <a:ext cx="2357280" cy="1199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il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13150800">
            <a:off x="1985760" y="2082600"/>
            <a:ext cx="1662120" cy="95040"/>
          </a:xfrm>
          <a:prstGeom prst="rightArrow">
            <a:avLst>
              <a:gd name="adj1" fmla="val 50000"/>
              <a:gd name="adj2" fmla="val 50118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20"/>
          <p:cNvSpPr/>
          <p:nvPr/>
        </p:nvSpPr>
        <p:spPr>
          <a:xfrm rot="8214000">
            <a:off x="1854000" y="4154040"/>
            <a:ext cx="1817640" cy="82800"/>
          </a:xfrm>
          <a:prstGeom prst="rightArrow">
            <a:avLst>
              <a:gd name="adj1" fmla="val 50000"/>
              <a:gd name="adj2" fmla="val 49799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21"/>
          <p:cNvSpPr/>
          <p:nvPr/>
        </p:nvSpPr>
        <p:spPr>
          <a:xfrm flipV="1" rot="5400000">
            <a:off x="3952080" y="46918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22"/>
          <p:cNvSpPr/>
          <p:nvPr/>
        </p:nvSpPr>
        <p:spPr>
          <a:xfrm rot="1887600">
            <a:off x="5303880" y="4221000"/>
            <a:ext cx="2254320" cy="130320"/>
          </a:xfrm>
          <a:prstGeom prst="rightArrow">
            <a:avLst>
              <a:gd name="adj1" fmla="val 50000"/>
              <a:gd name="adj2" fmla="val 49973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23"/>
          <p:cNvSpPr/>
          <p:nvPr/>
        </p:nvSpPr>
        <p:spPr>
          <a:xfrm rot="10800000">
            <a:off x="2643120" y="2999880"/>
            <a:ext cx="571680" cy="71640"/>
          </a:xfrm>
          <a:prstGeom prst="rightArrow">
            <a:avLst>
              <a:gd name="adj1" fmla="val 50000"/>
              <a:gd name="adj2" fmla="val 49874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24"/>
          <p:cNvSpPr/>
          <p:nvPr/>
        </p:nvSpPr>
        <p:spPr>
          <a:xfrm>
            <a:off x="5786280" y="3000240"/>
            <a:ext cx="571680" cy="71640"/>
          </a:xfrm>
          <a:prstGeom prst="rightArrow">
            <a:avLst>
              <a:gd name="adj1" fmla="val 50000"/>
              <a:gd name="adj2" fmla="val 49874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25"/>
          <p:cNvSpPr/>
          <p:nvPr/>
        </p:nvSpPr>
        <p:spPr>
          <a:xfrm rot="19024800">
            <a:off x="5186520" y="2006640"/>
            <a:ext cx="1628640" cy="138240"/>
          </a:xfrm>
          <a:prstGeom prst="rightArrow">
            <a:avLst>
              <a:gd name="adj1" fmla="val 50000"/>
              <a:gd name="adj2" fmla="val 49961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26"/>
          <p:cNvSpPr/>
          <p:nvPr/>
        </p:nvSpPr>
        <p:spPr>
          <a:xfrm rot="16200000">
            <a:off x="4184640" y="1958760"/>
            <a:ext cx="857160" cy="82440"/>
          </a:xfrm>
          <a:prstGeom prst="rightArrow">
            <a:avLst>
              <a:gd name="adj1" fmla="val 50000"/>
              <a:gd name="adj2" fmla="val 50061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3500280" y="2071800"/>
            <a:ext cx="2276640" cy="2143080"/>
            <a:chOff x="3500280" y="2071800"/>
            <a:chExt cx="2276640" cy="2143080"/>
          </a:xfrm>
        </p:grpSpPr>
        <p:pic>
          <p:nvPicPr>
            <p:cNvPr id="122" name="Picture 4" descr="conservation-house-final"/>
            <p:cNvPicPr/>
            <p:nvPr/>
          </p:nvPicPr>
          <p:blipFill>
            <a:blip r:embed="rId17"/>
            <a:srcRect l="3358" t="5287" r="3379" b="5656"/>
            <a:stretch/>
          </p:blipFill>
          <p:spPr>
            <a:xfrm>
              <a:off x="3500280" y="2071800"/>
              <a:ext cx="227664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1796888072divan_mishka0[1]"/>
            <p:cNvPicPr/>
            <p:nvPr/>
          </p:nvPicPr>
          <p:blipFill>
            <a:blip r:embed="rId18"/>
            <a:stretch/>
          </p:blipFill>
          <p:spPr>
            <a:xfrm>
              <a:off x="5006520" y="2580480"/>
              <a:ext cx="529200" cy="4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Bprest_3000oc[1]"/>
            <p:cNvPicPr/>
            <p:nvPr/>
          </p:nvPicPr>
          <p:blipFill>
            <a:blip r:embed="rId19"/>
            <a:stretch/>
          </p:blipFill>
          <p:spPr>
            <a:xfrm>
              <a:off x="4814280" y="3593160"/>
              <a:ext cx="72216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" descr="K90FCAE8JNADCARM1CZKCAE1JB78CACR40SRCA8B2V0MCA7J59S9CAJNT48CCASOXR3KCA477OKICABPKF6FCAHKF3TGCAOTL952CAEXM95FCA6Q9KYWCALWRJ0ICAMQ1OFZCAIRSO0MCAKI82L2CACRHRA4"/>
            <p:cNvPicPr/>
            <p:nvPr/>
          </p:nvPicPr>
          <p:blipFill>
            <a:blip r:embed="rId20"/>
            <a:srcRect l="0" t="4703" r="0" b="5225"/>
            <a:stretch/>
          </p:blipFill>
          <p:spPr>
            <a:xfrm>
              <a:off x="3779280" y="3098160"/>
              <a:ext cx="88992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2--_165x124_sm[1]"/>
            <p:cNvPicPr/>
            <p:nvPr/>
          </p:nvPicPr>
          <p:blipFill>
            <a:blip r:embed="rId21"/>
            <a:stretch/>
          </p:blipFill>
          <p:spPr>
            <a:xfrm>
              <a:off x="4694040" y="3098160"/>
              <a:ext cx="81792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KPM_RU_pozit_1336077434"/>
            <p:cNvPicPr/>
            <p:nvPr/>
          </p:nvPicPr>
          <p:blipFill>
            <a:blip r:embed="rId22"/>
            <a:srcRect l="19165" t="6711" r="8977" b="9579"/>
            <a:stretch/>
          </p:blipFill>
          <p:spPr>
            <a:xfrm>
              <a:off x="3779280" y="2580480"/>
              <a:ext cx="57744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5616" t="30419" r="70979" b="35209"/>
          <a:stretch/>
        </p:blipFill>
        <p:spPr>
          <a:xfrm>
            <a:off x="0" y="1785960"/>
            <a:ext cx="2273400" cy="25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rcRect l="28347" t="30562" r="49028" b="36118"/>
          <a:stretch/>
        </p:blipFill>
        <p:spPr>
          <a:xfrm>
            <a:off x="2286000" y="1785960"/>
            <a:ext cx="226548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50298" t="30695" r="27077" b="38059"/>
          <a:stretch/>
        </p:blipFill>
        <p:spPr>
          <a:xfrm>
            <a:off x="4572000" y="1785960"/>
            <a:ext cx="2422440" cy="250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rcRect l="73030" t="30838" r="5126" b="36874"/>
          <a:stretch/>
        </p:blipFill>
        <p:spPr>
          <a:xfrm>
            <a:off x="6950160" y="1785960"/>
            <a:ext cx="2193840" cy="24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rcRect l="5723" t="63269" r="71660" b="2778"/>
          <a:stretch/>
        </p:blipFill>
        <p:spPr>
          <a:xfrm>
            <a:off x="0" y="4368960"/>
            <a:ext cx="2214720" cy="248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6"/>
          <a:srcRect l="27674" t="63269" r="48929" b="2635"/>
          <a:stretch/>
        </p:blipFill>
        <p:spPr>
          <a:xfrm>
            <a:off x="2214720" y="4357800"/>
            <a:ext cx="2290680" cy="25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7"/>
          <a:srcRect l="50406" t="63269" r="26197" b="2503"/>
          <a:stretch/>
        </p:blipFill>
        <p:spPr>
          <a:xfrm>
            <a:off x="4572000" y="4357800"/>
            <a:ext cx="2282760" cy="25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8"/>
          <a:srcRect l="73137" t="63269" r="3466" b="2360"/>
          <a:stretch/>
        </p:blipFill>
        <p:spPr>
          <a:xfrm>
            <a:off x="6858000" y="434340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36" name="Трапеция 12"/>
          <p:cNvSpPr/>
          <p:nvPr/>
        </p:nvSpPr>
        <p:spPr>
          <a:xfrm>
            <a:off x="0" y="500040"/>
            <a:ext cx="9144000" cy="121464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9:36:26Z</dcterms:created>
  <dc:creator>Вика</dc:creator>
  <dc:description/>
  <dc:language>en-US</dc:language>
  <cp:lastModifiedBy>Admin</cp:lastModifiedBy>
  <dcterms:modified xsi:type="dcterms:W3CDTF">2012-10-14T10:02:09Z</dcterms:modified>
  <cp:revision>49</cp:revision>
  <dc:subject/>
  <dc:title>Home sweet home</dc:title>
</cp:coreProperties>
</file>