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0C050-3818-4C71-93EF-B484348828F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09C3F-F2A6-4A12-8A1E-ADDFB24BD5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56A1B-1394-423F-A146-1510C24A7D1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A44F-A8E6-4807-91B3-4BE78A6A3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BB9C-E1BA-4F72-91CF-20325A45D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E2AD-BD6D-48C1-878B-AAD4F23D1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8862-0DF1-4507-B1DC-18DF24AB6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C5DD7-2782-4CD8-B73D-EA5525511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64120-8107-4D64-94D9-4B09F4F34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74AA7-1148-4386-B387-56731E36B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D2797-7FD7-45EC-9D5F-E42B2CD1E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09983-ECD0-44F7-8490-CDA288DC2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6854C-AAC9-4B34-A40B-C3BDD7F5A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9520C-004C-415F-901C-B9E25AA3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2EB4-5367-4701-9EA9-CDCD7F378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79CD7-C6CE-4F44-B2D2-D83E51FF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F3C59-C1A2-4E96-8C80-1A5B4681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0499E-26C1-4994-BF05-188CF15CC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E69B9-0C73-409C-A525-FF8C755BD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F1F2F-2D29-4FFB-B47F-E0118537E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F7C78B-5D6E-4BC9-9C72-5E2779867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6A0DB6-6748-4F4F-A748-EFCF29065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255A79-571B-4C89-A4CC-7D43CEAB4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6F0912-F455-4880-A31A-D45A3762D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4D1DA4-657A-4129-B4AC-DB703938E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FAAF-7DDE-4C63-8101-F81C6087C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90EC1E-1CBD-446C-9FA5-4744B7946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B0EABB-5B31-4380-8981-C639B496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C47C60-6B43-4673-82A1-45041FAB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F5773F-EA6A-46DF-ABDB-C2DB8CE9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C3C09E-EB76-46D8-8730-A7D054A49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39D5E1-CC9B-4CF5-9687-8DF9D33B0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2EFF28-091E-4ADE-8CBA-4FBE54621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4FEE7-C947-401D-A083-DA9671282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B4DBE-B944-498A-ADDD-CD1D2A24A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0FA47-EE08-4E68-86A8-26F0C6446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AF75-D8C1-4D94-8B91-DBFA4B920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D863D-241F-4A28-AD04-EAA0ED144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BC182-984D-4E89-BA7B-686D837C0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832AB-0A5A-4C01-BC74-9D8EFA7FB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0B8A9-A9BC-4DC4-8D15-45BC3833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CA287-1EE9-4753-B58C-7C81E25F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9F80B-BD8D-4DCF-A633-4F40F322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D9A23-792D-45E6-852B-19175B086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580E2-FFA2-4109-B87E-4496B47A6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A7A1F-9237-43B2-8116-C63D72CF2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FC9CCD-F5BB-4984-A4BE-DC692EC81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2322-FD5E-4A54-8176-DF8323C24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A29EC9-FA04-4008-82F6-64B2794E0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A97FCE-7287-4CDB-B070-1F78E34F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F122BF-0CBB-4251-98FA-7C7BFA46B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34FCB5-7A2E-4D62-9FA1-A3B76FA55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8801FB-5C99-4BAE-ACA3-B937DCE2D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2B3732-2E6E-495C-90AC-867E20A9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49D3FA-ACE6-4AE8-A5B0-CFF78E84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43D389-551C-426E-9550-5BA5B1C1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B1C31D-E2D0-4CE2-8105-16C7B75C9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D51C91-B220-4A18-8749-D04B7B454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69CC-56A4-4A42-BD48-A2DC3033D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8265B8-ED3E-4914-9ACB-FAC9F1614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F502A8-D6C9-4329-AA2B-397C8016F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991F0A-8C8E-4EF8-8636-BDDE5D18A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5E248E-28A4-4597-B7B0-A05E35CED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2EE4D7-ABF0-4C9B-A98F-D48B11813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5CE4A9-179B-43CE-B88F-43D596B1B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88BEAF-039E-4396-92D2-7447A8E23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2C8FFC-97DC-4D7A-844C-D3170C28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AC800F-6F06-45B3-99E1-45C45560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C52C36-5504-41B7-B181-8E7F2C1F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3F49-FD7B-4F03-9C06-4AA11DB0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112EC0-ED7E-44C3-B99E-5F44E93FC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B4D90B-BC89-4586-ACDD-F2349515F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BDF27A-1346-4172-AD08-2D07F9BDC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CBE6A4-851E-4C8C-BDEA-433CA366B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6BDACF-AE67-4704-AB24-306B1D0DA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3DC17E-02EC-407D-9E4D-019DEF0BF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C52752-F818-4CD1-8CD2-AA4826082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AD7891-5638-478F-ABE3-FAD741062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48AE8F-7CD5-4F21-9DFA-66EFF6C05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CE2052-E67E-48F1-9594-B3E4DFB3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58E1-0712-48D2-AA67-04540F90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5A7287-1968-4191-8063-28E55CA1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C12C22-5FF4-43E4-81CB-3E21A00A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E6C30D-D1AC-4D2B-B7B9-93C81050F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2FE20A-865E-440D-B845-F4B707ED6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ABE969-0594-4A34-B7F6-80A55641F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FA85-F05C-4DB1-90F4-7B9B1B3C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FDB22-582B-4D22-BB92-030033367C4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1E652-BEBC-4017-9D33-D3AEE6F5928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DE966-3EE0-4FA8-AFC1-1CD51EE2689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20A69-E263-4132-8BC2-DCD21AA1547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8CCC9-6AD7-40F8-8B59-05F9B8027F0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98A5B-86E9-4C18-84A1-580CE06DC4C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CA157-D80E-4187-9F98-6379870E341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x-minus.org/" TargetMode="External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618920" y="189000"/>
            <a:ext cx="61722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МБДОУ детский сад «Золотой ключик»</a:t>
            </a:r>
            <a:br>
              <a:rPr sz="1800"/>
            </a:b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п.Ванино</a:t>
            </a: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1834920" y="1052280"/>
            <a:ext cx="61722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1" lang="en-US" sz="3600" spc="-1" strike="noStrike">
                <a:solidFill>
                  <a:srgbClr val="0000cc"/>
                </a:solidFill>
                <a:latin typeface="Century Schoolbook"/>
              </a:rPr>
              <a:t>ПРОЕКТ: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« МЮЗИКЛ »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Рисунок 8" descr="MR900354403.GIF"/>
          <p:cNvPicPr/>
          <p:nvPr/>
        </p:nvPicPr>
        <p:blipFill>
          <a:blip r:embed="rId1"/>
          <a:stretch/>
        </p:blipFill>
        <p:spPr>
          <a:xfrm>
            <a:off x="7596360" y="189000"/>
            <a:ext cx="1379520" cy="1366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3276720" y="2681280"/>
            <a:ext cx="36716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600"/>
                            </p:stCondLst>
                            <p:childTnLst>
                              <p:par>
                                <p:cTn id="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9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600"/>
                            </p:stCondLst>
                            <p:childTnLst>
                              <p:par>
                                <p:cTn id="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9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4674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Century Schoolbook"/>
              </a:rPr>
              <a:t>ПРАКТИЧЕСКИЙ ЭТАП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6840" y="907560"/>
            <a:ext cx="8147160" cy="556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Знакомство с персонажами сказк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Разучивание песенного репертуара с детьми, имеющих речевые нарушения  с доступным по содержанию текстом и удобным  для произноше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Отработка этюдов на мимику, жесты, движе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Создание сценического пространств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инструментальное музицирование(игра на деревянных ложках (способствущее развитию ритма, фонематического слуха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Репетиции по отработке художественного слов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5" name="Рисунок 3" descr="MR900354403.GIF"/>
          <p:cNvPicPr/>
          <p:nvPr/>
        </p:nvPicPr>
        <p:blipFill>
          <a:blip r:embed="rId1"/>
          <a:stretch/>
        </p:blipFill>
        <p:spPr>
          <a:xfrm>
            <a:off x="7047000" y="0"/>
            <a:ext cx="164124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9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9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9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9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9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9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518328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Песенно-игровое творчество-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способствует развитию внимания, памяти, нормализации дыхательного и артикуляционного аппарата, улучшению звукопроизношения, помогает исправлять ряд речевых недостатков (невнятное произношение, проглатывание окончания слов), способствует автоматизации звука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Премьер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4821120" y="1197000"/>
            <a:ext cx="39988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Century Schoolbook"/>
              </a:rPr>
              <a:t>ЗАКЛЮЧИТЕЛЬНЫЙ ЭТАП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68000" y="1628640"/>
            <a:ext cx="72723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entury Schoolbook"/>
              </a:rPr>
              <a:t>Премьера мюзикла для воспитателей и родителей;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entury Schoolbook"/>
              </a:rPr>
              <a:t>Концертная деятельность с показом мюзикла «Мороз Иванович» детям, внутри детского сада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9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9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74674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entury Schoolbook"/>
              </a:rPr>
              <a:t>СОДЕРЖАНИЕ ДЕЯТЕЛЬНОСТИ ПО РЕАЛИЗАЦИИ ЗАДАЧ: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457200" y="1268280"/>
          <a:ext cx="7715160" cy="5026320"/>
        </p:xfrm>
        <a:graphic>
          <a:graphicData uri="http://schemas.openxmlformats.org/drawingml/2006/table">
            <a:tbl>
              <a:tblPr/>
              <a:tblGrid>
                <a:gridCol w="2763720"/>
                <a:gridCol w="2379960"/>
                <a:gridCol w="2571480"/>
              </a:tblGrid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  <a:ea typeface="Arial"/>
                        </a:rPr>
                        <a:t>Содерж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  <a:ea typeface="Arial"/>
                        </a:rPr>
                        <a:t>Меро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  <a:ea typeface="Arial"/>
                        </a:rPr>
                        <a:t>Ответств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. Знакомство со сказкой» М.Ф. Одоевского «Мороз Иванович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Подгрупповые и индивидуальные зан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Музыкальный руководи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98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2. Формирование актерского соста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Фронтальные, индивидуальные занят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Музыкальный руководи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28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. Создание сценического пространств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Работа над мизансцен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Музыкальный руководитель, воспита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01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. Премь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Развлеч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Музыкальный руководи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3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-360"/>
            <a:ext cx="75708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Century Schoolbook"/>
              </a:rPr>
              <a:t>	</a:t>
            </a:r>
            <a:r>
              <a:rPr b="1" lang="en-US" sz="3600" spc="-1" strike="noStrike">
                <a:solidFill>
                  <a:srgbClr val="0000cc"/>
                </a:solidFill>
                <a:latin typeface="Century Schoolbook"/>
              </a:rPr>
              <a:t>Участники проекта: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99"/>
                </a:solidFill>
                <a:uFillTx/>
                <a:latin typeface="Arial"/>
              </a:rPr>
              <a:t>Участники проекта: дети логопедической подготовительной группы; музыкальный руководитель, воспитатели, родители</a:t>
            </a:r>
            <a:r>
              <a:rPr b="1" lang="en-US" sz="2400" spc="-1" strike="noStrike">
                <a:solidFill>
                  <a:srgbClr val="b32c16"/>
                </a:solidFill>
                <a:latin typeface="Century Schoolbook"/>
              </a:rPr>
              <a:t> </a:t>
            </a:r>
            <a:r>
              <a:rPr b="1" lang="en-US" sz="2400" spc="-1" strike="noStrike">
                <a:solidFill>
                  <a:srgbClr val="b32c16"/>
                </a:solidFill>
                <a:latin typeface="Century Schoolbook"/>
              </a:rPr>
              <a:t>	</a:t>
            </a:r>
            <a:r>
              <a:rPr b="1" lang="en-US" sz="3600" spc="-1" strike="noStrike">
                <a:solidFill>
                  <a:srgbClr val="0000cc"/>
                </a:solidFill>
                <a:latin typeface="Century Schoolbook"/>
              </a:rPr>
              <a:t>Ресурсы проекта: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174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entury Schoolbook"/>
              </a:rPr>
              <a:t>Приобретение и пошив костюмов;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174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entury Schoolbook"/>
              </a:rPr>
              <a:t>Изготовление декораций с помощью родителей и воспитателей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174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entury Schoolbook"/>
              </a:rPr>
              <a:t>Подборка слайдов, презентаций, мультфильмов сказки и детских мюзиклов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174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entury Schoolbook"/>
              </a:rPr>
              <a:t>Подборка минусовых фонограмм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3" name="Рисунок 3" descr="MR900354403.GIF"/>
          <p:cNvPicPr/>
          <p:nvPr/>
        </p:nvPicPr>
        <p:blipFill>
          <a:blip r:embed="rId1"/>
          <a:stretch/>
        </p:blipFill>
        <p:spPr>
          <a:xfrm>
            <a:off x="7920000" y="0"/>
            <a:ext cx="122400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9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9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9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000"/>
                            </p:stCondLst>
                            <p:childTnLst>
                              <p:par>
                                <p:cTn id="3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9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4000"/>
                            </p:stCondLst>
                            <p:childTnLst>
                              <p:par>
                                <p:cTn id="3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9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9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250920" y="0"/>
            <a:ext cx="547344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entury Schoolbook"/>
              </a:rPr>
              <a:t>Результат: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entury Schoolbook"/>
              </a:rPr>
              <a:t>	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Для реализации проекта были созданы условия развития музыкальных и творческих способностей дошкольников при их участии в мюзикле по сказке М.Ф. Одоевского «Мороз Иванович»,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была достигнута положительная динамика в речевом и эмоционально-личностном развитии детей, имеющих  нарушения речи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5508720" y="836640"/>
            <a:ext cx="32414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9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9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9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74674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entury Schoolbook"/>
              </a:rPr>
              <a:t>Итог: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50920" y="765000"/>
            <a:ext cx="8642160" cy="57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04920" indent="-3049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Работа над постановкой детского мюзикла «Мороз Иванович» позволяет развить у детей интерес к музыкальной и театральной деятельности;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04920" indent="-3049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способствует личностному росту детей, воспитанию сильной, трудолюбивой творческой, жизнеспособной личности, развитию социальных навыков и общему развитию детей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04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04920" indent="-3049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способствует повышению профессионального уровня педагога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04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68360" y="0"/>
            <a:ext cx="78595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entury Schoolbook"/>
              </a:rPr>
              <a:t>Артисты и зрители волнуются.  Итак, все в ожидании премьеры!!!</a:t>
            </a:r>
            <a:r>
              <a:rPr b="1" lang="en-US" sz="2400" spc="-1" strike="noStrike">
                <a:solidFill>
                  <a:srgbClr val="0000cc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79930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9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611280" y="692280"/>
            <a:ext cx="7920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Century Schoolbook"/>
              </a:rPr>
              <a:t>Литература: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Century Schoolbook"/>
              </a:rPr>
              <a:t>1. Сказка М.Ф. Одоевского «Мороз Иванович»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Century Schoolbook"/>
              </a:rPr>
              <a:t>2. Интернет-ресурсы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Century Schoolbook"/>
              </a:rPr>
              <a:t>3. Минусовые композиции композитора Георгия Фиртича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600" spc="-1" strike="noStrike">
                <a:solidFill>
                  <a:srgbClr val="0000cc"/>
                </a:solidFill>
                <a:latin typeface="Century Schoolbook"/>
              </a:rPr>
              <a:t>- </a:t>
            </a:r>
            <a:r>
              <a:rPr b="0" lang="ru-RU" sz="36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http://x-minus.org/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Century Schoolbook"/>
              </a:rPr>
              <a:t>СПАСИБО ЗА ВНИМАНИЕ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3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610920" y="404640"/>
            <a:ext cx="7993080" cy="6453360"/>
          </a:xfrm>
          <a:prstGeom prst="rect">
            <a:avLst/>
          </a:prstGeom>
          <a:noFill/>
          <a:ln w="9360">
            <a:solidFill>
              <a:srgbClr val="3668c4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668c4"/>
                </a:solidFill>
                <a:latin typeface="Century Schoolbook"/>
              </a:rPr>
              <a:t>Тема: </a:t>
            </a:r>
            <a:r>
              <a:rPr b="1" lang="en-US" sz="3300" spc="-1" strike="noStrike">
                <a:solidFill>
                  <a:srgbClr val="3668c4"/>
                </a:solidFill>
                <a:latin typeface="Arial"/>
              </a:rPr>
              <a:t>Детский мюзикл по сказке Владимира Федоровича Одоевского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668c4"/>
                </a:solidFill>
                <a:latin typeface="Arial"/>
              </a:rPr>
              <a:t>«Мороз Иванович</a:t>
            </a:r>
            <a:r>
              <a:rPr b="1" lang="en-US" sz="3300" spc="-1" strike="noStrike">
                <a:solidFill>
                  <a:srgbClr val="3668c4"/>
                </a:solidFill>
                <a:latin typeface="Century Schoolbook"/>
              </a:rPr>
              <a:t>»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2060"/>
                </a:solidFill>
                <a:latin typeface="Century Schoolbook"/>
              </a:rPr>
              <a:t>Выполнил</a:t>
            </a:r>
            <a:r>
              <a:rPr b="1" lang="en-US" sz="1700" spc="-1" strike="noStrike">
                <a:solidFill>
                  <a:srgbClr val="002060"/>
                </a:solidFill>
                <a:latin typeface="Arial"/>
              </a:rPr>
              <a:t>а</a:t>
            </a:r>
            <a:r>
              <a:rPr b="1" lang="en-US" sz="1700" spc="-1" strike="noStrike">
                <a:solidFill>
                  <a:srgbClr val="002060"/>
                </a:solidFill>
                <a:latin typeface="Century Schoolbook"/>
              </a:rPr>
              <a:t> музыкальны</a:t>
            </a:r>
            <a:r>
              <a:rPr b="1" lang="en-US" sz="1700" spc="-1" strike="noStrike">
                <a:solidFill>
                  <a:srgbClr val="002060"/>
                </a:solidFill>
                <a:latin typeface="Arial"/>
              </a:rPr>
              <a:t>й</a:t>
            </a:r>
            <a:r>
              <a:rPr b="1" lang="en-US" sz="1700" spc="-1" strike="noStrike">
                <a:solidFill>
                  <a:srgbClr val="002060"/>
                </a:solidFill>
                <a:latin typeface="Century Schoolbook"/>
              </a:rPr>
              <a:t> руководител</a:t>
            </a:r>
            <a:r>
              <a:rPr b="1" lang="en-US" sz="1700" spc="-1" strike="noStrike">
                <a:solidFill>
                  <a:srgbClr val="002060"/>
                </a:solidFill>
                <a:latin typeface="Arial"/>
              </a:rPr>
              <a:t>ь</a:t>
            </a:r>
            <a:r>
              <a:rPr b="1" lang="en-US" sz="1700" spc="-1" strike="noStrike">
                <a:solidFill>
                  <a:srgbClr val="002060"/>
                </a:solidFill>
                <a:latin typeface="Century Schoolbook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2060"/>
                </a:solidFill>
                <a:latin typeface="Century Schoolbook"/>
              </a:rPr>
              <a:t>Лукиных С.В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2060"/>
                </a:solidFill>
                <a:latin typeface="Century Schoolbook"/>
              </a:rPr>
              <a:t>         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2060"/>
                </a:solidFill>
                <a:latin typeface="Century Schoolbook"/>
              </a:rPr>
              <a:t>201</a:t>
            </a:r>
            <a:r>
              <a:rPr b="1" lang="en-US" sz="1700" spc="-1" strike="noStrike">
                <a:solidFill>
                  <a:srgbClr val="002060"/>
                </a:solidFill>
                <a:latin typeface="Arial"/>
              </a:rPr>
              <a:t>6</a:t>
            </a:r>
            <a:r>
              <a:rPr b="1" lang="en-US" sz="1700" spc="-1" strike="noStrike">
                <a:solidFill>
                  <a:srgbClr val="002060"/>
                </a:solidFill>
                <a:latin typeface="Century Schoolbook"/>
              </a:rPr>
              <a:t>г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2340000" y="2997360"/>
            <a:ext cx="4572000" cy="3240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36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50560" y="3644640"/>
            <a:ext cx="4105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cc"/>
                </a:solidFill>
                <a:uFillTx/>
                <a:latin typeface="Arial"/>
              </a:rPr>
              <a:t>Возраст детей: 6-7 лет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214200" y="213840"/>
            <a:ext cx="846144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Вид проекта: творческий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Century Schoolbook"/>
              </a:rPr>
              <a:t>Продолжительность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Century Schoolbook"/>
              </a:rPr>
              <a:t>проектной деятельности: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декабрь-февраль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4211640" y="2276640"/>
            <a:ext cx="3456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9360">
            <a:solidFill>
              <a:srgbClr val="3668c4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Century Schoolbook"/>
              </a:rPr>
              <a:t>ПРОБЛЕМА: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214200" y="1052280"/>
            <a:ext cx="76708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у детей с нарушениями речи недостаточно  развиты художественно-исполнительские навыки;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недостаточный уровень развития детского воображения и фантазии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имеются проблемы в развитии мимики, жестов, мелкой и артикуляционной моторики.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закомплексованность, и недостаточное развитие способностей к свободному творческому восприятию, самовыражению и активности ребен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1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10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10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10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286240" y="285480"/>
            <a:ext cx="257184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entury Schoolbook"/>
              </a:rPr>
              <a:t>   </a:t>
            </a:r>
            <a:r>
              <a:rPr b="1" lang="en-US" sz="3600" spc="-1" strike="noStrike">
                <a:solidFill>
                  <a:srgbClr val="0000cc"/>
                </a:solidFill>
                <a:latin typeface="Century Schoolbook"/>
              </a:rPr>
              <a:t>ЦЕЛЬ: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79280" y="620280"/>
            <a:ext cx="4502160" cy="53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entury Schoolbook"/>
              </a:rPr>
              <a:t>  </a:t>
            </a:r>
            <a:r>
              <a:rPr b="1" lang="en-US" sz="3200" spc="-1" strike="noStrike">
                <a:solidFill>
                  <a:srgbClr val="3333ff"/>
                </a:solidFill>
                <a:latin typeface="Century Schoolbook"/>
              </a:rPr>
              <a:t>Способствовать развитию музыкальных и творческих способностей у детей, имеющих недоразвитие  речи, посредством музыкально-театрализованной деятельности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4500720" y="1125360"/>
            <a:ext cx="380988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1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74880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Century Schoolbook"/>
              </a:rPr>
              <a:t>ЗАДАЧИ ПРОЕКТА: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78920" y="981000"/>
            <a:ext cx="8496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entury Schoolbook"/>
              </a:rPr>
              <a:t>развивать творческие способности и творческую самостоятельность детей;</a:t>
            </a:r>
            <a:r>
              <a:rPr b="0" lang="en-US" sz="2400" spc="-1" strike="noStrike">
                <a:solidFill>
                  <a:srgbClr val="3333ff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entury Schoolbook"/>
              </a:rPr>
              <a:t>способствовать развитию эмоционального восприятия художественных образов;</a:t>
            </a:r>
            <a:r>
              <a:rPr b="0" lang="en-US" sz="2400" spc="-1" strike="noStrike">
                <a:solidFill>
                  <a:srgbClr val="3333ff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entury Schoolbook"/>
              </a:rPr>
              <a:t>научить владеть голосом, выразительной речью, развивать вокальные навык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entury Schoolbook"/>
              </a:rPr>
              <a:t>способствовать координации музыки, речи и движения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entury Schoolbook"/>
              </a:rPr>
              <a:t>создать соответствующую предметно-развивающую среду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entury Schoolbook"/>
              </a:rPr>
              <a:t>воспитывать любовь к музык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4" name="Рисунок 3" descr="MR900354403.GIF"/>
          <p:cNvPicPr/>
          <p:nvPr/>
        </p:nvPicPr>
        <p:blipFill>
          <a:blip r:embed="rId1"/>
          <a:stretch/>
        </p:blipFill>
        <p:spPr>
          <a:xfrm>
            <a:off x="6300720" y="5373720"/>
            <a:ext cx="13795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10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10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10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1000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1000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4358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entury Schoolbook"/>
              </a:rPr>
              <a:t>ЭТАПЫ РЕАЛИЗАЦИИ ПРОЕКТА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250920" y="836280"/>
            <a:ext cx="4681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ff"/>
                </a:solidFill>
                <a:uFillTx/>
                <a:latin typeface="Century Schoolbook"/>
              </a:rPr>
              <a:t>Подготовительный этап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Подбор художественного слова, знакомство с музыкальной сказкой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Формирование актерского состав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Подбор музыкального материала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"/>
          <p:cNvSpPr/>
          <p:nvPr/>
        </p:nvSpPr>
        <p:spPr>
          <a:xfrm>
            <a:off x="4932360" y="2349360"/>
            <a:ext cx="370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Подбор   фото- и видео- материала по сказ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Премь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9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9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9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9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569440" cy="11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Century Schoolbook"/>
              </a:rPr>
              <a:t>РАБОТА С ВОСПИТАТЕЛЯМИ: </a:t>
            </a:r>
            <a:br>
              <a:rPr sz="3600"/>
            </a:b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84360" y="1052640"/>
            <a:ext cx="77040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entury Schoolbook"/>
              </a:rPr>
              <a:t>Консультирование по изготовлению костюмов и реквизита к мюзиклу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entury Schoolbook"/>
              </a:rPr>
              <a:t>Чтение сказки «Мороз Иванович» В. Ф. Одоевского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entury Schoolbook"/>
              </a:rPr>
              <a:t>Повторение текста по ролям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9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9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9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978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Century Schoolbook"/>
              </a:rPr>
              <a:t>РАБОТА С РОДИТЕЛЯМИ</a:t>
            </a:r>
            <a:br>
              <a:rPr sz="3600"/>
            </a:b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250920" y="1412640"/>
            <a:ext cx="734544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Century Schoolbook"/>
              </a:rPr>
              <a:t>Помощь в изготовлении костюмов и декораций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Century Schoolbook"/>
              </a:rPr>
              <a:t>Консультирование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Century Schoolbook"/>
              </a:rPr>
              <a:t>Индивидуальные беседы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4284720" y="3933720"/>
            <a:ext cx="361944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9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9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9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2T00:53:52Z</dcterms:created>
  <dc:creator>Gayka</dc:creator>
  <dc:description/>
  <dc:language>en-US</dc:language>
  <cp:lastModifiedBy>Лукиных</cp:lastModifiedBy>
  <dcterms:modified xsi:type="dcterms:W3CDTF">2018-02-10T01:04:25Z</dcterms:modified>
  <cp:revision>123</cp:revision>
  <dc:subject/>
  <dc:title>Слайд 1</dc:title>
</cp:coreProperties>
</file>