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2.wmf" ContentType="image/x-wmf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A86-6E62-48C3-8B86-2C7BF3B7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279-4516-4E6B-B430-3C93C629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A12-FBDA-44C6-96E8-A34DA661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FF9-538F-4362-B62A-66540EE3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377B-AC9F-4A50-8DFA-E5460B81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8095-BC5F-487D-B835-0C6D47D1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5AB1-10E0-4BFD-B4F8-60B318E3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27BF-B95B-4D86-BC84-15A085E9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672B-B2A6-4071-91AA-37E1A979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9043-E818-4F61-A1FE-C8B9D4C9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8581-237F-4551-8116-013DF693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994-B21D-4618-B5C4-996D3E9A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A4F2-81ED-4069-9401-CE50ADB6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E48A-0898-4497-9DC6-D7CE3E94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1128-8A51-484F-9615-C8BB208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D71B-BF81-47EA-A923-8B00C6E1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6D3F-C249-496A-B4A4-CD62608D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25E-E1AC-4F80-BD1C-23C1B2ED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043-FEB3-48F2-B6C4-CDD746C7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639-9A63-4C77-B16B-7D49AB47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860F-CF21-4ADC-A1ED-AAA33906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20D-FA38-459D-A8F7-312EB28B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6BD-286F-44F5-A38C-27C3DA12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777-5F54-4BC9-8714-4AE0019A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2DAF-3CB6-4420-B19D-3E1C8905A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5788-139A-4E45-B69C-D7B0FE88DF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«Комплимент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настро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осторженн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ранжев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адостное, тепл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ты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тлое, приятн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е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покойн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еудовлетворенное, грустн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олетов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ревожное, напряженн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падок, уны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3" descr=""/>
          <p:cNvPicPr/>
          <p:nvPr/>
        </p:nvPicPr>
        <p:blipFill>
          <a:blip r:embed="rId1"/>
          <a:stretch/>
        </p:blipFill>
        <p:spPr>
          <a:xfrm>
            <a:off x="1328760" y="817560"/>
            <a:ext cx="5979960" cy="171288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6" descr=""/>
          <p:cNvPicPr/>
          <p:nvPr/>
        </p:nvPicPr>
        <p:blipFill>
          <a:blip r:embed="rId2"/>
          <a:stretch/>
        </p:blipFill>
        <p:spPr>
          <a:xfrm>
            <a:off x="1328760" y="3432240"/>
            <a:ext cx="597996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ЙК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1389240" y="162864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шка Бл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3"/>
          <p:cNvSpPr/>
          <p:nvPr/>
        </p:nvSpPr>
        <p:spPr>
          <a:xfrm>
            <a:off x="3825720" y="3357720"/>
            <a:ext cx="746280" cy="718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4"/>
          <p:cNvSpPr/>
          <p:nvPr/>
        </p:nvSpPr>
        <p:spPr>
          <a:xfrm rot="2110200">
            <a:off x="4690800" y="869760"/>
            <a:ext cx="996840" cy="277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5"/>
          <p:cNvSpPr/>
          <p:nvPr/>
        </p:nvSpPr>
        <p:spPr>
          <a:xfrm rot="5596200">
            <a:off x="5485320" y="2455200"/>
            <a:ext cx="995400" cy="277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6"/>
          <p:cNvSpPr/>
          <p:nvPr/>
        </p:nvSpPr>
        <p:spPr>
          <a:xfrm rot="19677600">
            <a:off x="2779560" y="850680"/>
            <a:ext cx="997200" cy="277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7"/>
          <p:cNvSpPr/>
          <p:nvPr/>
        </p:nvSpPr>
        <p:spPr>
          <a:xfrm rot="21195600">
            <a:off x="4005360" y="4103280"/>
            <a:ext cx="996840" cy="2772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8"/>
          <p:cNvSpPr/>
          <p:nvPr/>
        </p:nvSpPr>
        <p:spPr>
          <a:xfrm rot="15306000">
            <a:off x="2017440" y="2807640"/>
            <a:ext cx="996840" cy="277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сто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ложить дроби с одинаковыми знаменателя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Управляющая кнопка: возврат 1"/>
          <p:cNvSpPr/>
          <p:nvPr/>
        </p:nvSpPr>
        <p:spPr>
          <a:xfrm>
            <a:off x="7451640" y="5589720"/>
            <a:ext cx="649440" cy="431640"/>
          </a:xfrm>
          <a:custGeom>
            <a:avLst/>
            <a:gdLst>
              <a:gd name="textAreaLeft" fmla="*/ 27720 w 649440"/>
              <a:gd name="textAreaRight" fmla="*/ 621720 w 649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90" h="21600">
                <a:moveTo>
                  <a:pt x="0" y="0"/>
                </a:moveTo>
                <a:lnTo>
                  <a:pt x="32490" y="0"/>
                </a:lnTo>
                <a:lnTo>
                  <a:pt x="32490" y="21600"/>
                </a:lnTo>
                <a:lnTo>
                  <a:pt x="0" y="21600"/>
                </a:lnTo>
                <a:close/>
              </a:path>
              <a:path fill="lightenLess" w="32490" h="21600">
                <a:moveTo>
                  <a:pt x="0" y="0"/>
                </a:moveTo>
                <a:lnTo>
                  <a:pt x="32490" y="0"/>
                </a:lnTo>
                <a:lnTo>
                  <a:pt x="31090" y="1400"/>
                </a:lnTo>
                <a:lnTo>
                  <a:pt x="1400" y="1400"/>
                </a:lnTo>
                <a:close/>
              </a:path>
              <a:path fill="darken" w="32490" h="21600">
                <a:moveTo>
                  <a:pt x="32490" y="0"/>
                </a:moveTo>
                <a:lnTo>
                  <a:pt x="32490" y="21600"/>
                </a:lnTo>
                <a:lnTo>
                  <a:pt x="31090" y="20200"/>
                </a:lnTo>
                <a:lnTo>
                  <a:pt x="31090" y="1400"/>
                </a:lnTo>
                <a:close/>
              </a:path>
              <a:path fill="darkenLess" w="32490" h="21600">
                <a:moveTo>
                  <a:pt x="32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90" y="20200"/>
                </a:lnTo>
                <a:close/>
              </a:path>
              <a:path fill="lighten" w="32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90" h="21600">
                <a:moveTo>
                  <a:pt x="9239" y="7493"/>
                </a:moveTo>
                <a:lnTo>
                  <a:pt x="12746" y="7493"/>
                </a:lnTo>
                <a:lnTo>
                  <a:pt x="12746" y="12828"/>
                </a:lnTo>
                <a:cubicBezTo>
                  <a:pt x="12746" y="13751"/>
                  <a:pt x="13547" y="14482"/>
                  <a:pt x="14583" y="14482"/>
                </a:cubicBezTo>
                <a:lnTo>
                  <a:pt x="16245" y="14482"/>
                </a:lnTo>
                <a:cubicBezTo>
                  <a:pt x="17281" y="14482"/>
                  <a:pt x="18081" y="13751"/>
                  <a:pt x="18081" y="12828"/>
                </a:cubicBezTo>
                <a:lnTo>
                  <a:pt x="18081" y="7493"/>
                </a:lnTo>
                <a:lnTo>
                  <a:pt x="16245" y="7493"/>
                </a:lnTo>
                <a:lnTo>
                  <a:pt x="19753" y="3985"/>
                </a:lnTo>
                <a:lnTo>
                  <a:pt x="23426" y="7493"/>
                </a:lnTo>
                <a:lnTo>
                  <a:pt x="21589" y="7493"/>
                </a:lnTo>
                <a:lnTo>
                  <a:pt x="21589" y="12828"/>
                </a:lnTo>
                <a:cubicBezTo>
                  <a:pt x="21589" y="15596"/>
                  <a:pt x="19013" y="18155"/>
                  <a:pt x="16245" y="18155"/>
                </a:cubicBezTo>
                <a:lnTo>
                  <a:pt x="14583" y="18155"/>
                </a:lnTo>
                <a:cubicBezTo>
                  <a:pt x="11815" y="18155"/>
                  <a:pt x="9239" y="15596"/>
                  <a:pt x="9239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точняющий вопро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ли, что для вычитания дробей с одинаковыми знаменателями  нужно из числителя уменьшаемого вычесть числитель вычитаемого, а знаменатель оставить прежн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Управляющая кнопка: возврат 1"/>
          <p:cNvSpPr/>
          <p:nvPr/>
        </p:nvSpPr>
        <p:spPr>
          <a:xfrm>
            <a:off x="7885080" y="609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7493"/>
                </a:moveTo>
                <a:lnTo>
                  <a:pt x="15902" y="7493"/>
                </a:lnTo>
                <a:lnTo>
                  <a:pt x="15902" y="12828"/>
                </a:lnTo>
                <a:cubicBezTo>
                  <a:pt x="15902" y="13751"/>
                  <a:pt x="16703" y="14482"/>
                  <a:pt x="17739" y="14482"/>
                </a:cubicBezTo>
                <a:lnTo>
                  <a:pt x="19401" y="14482"/>
                </a:lnTo>
                <a:cubicBezTo>
                  <a:pt x="20437" y="14482"/>
                  <a:pt x="21238" y="13751"/>
                  <a:pt x="21238" y="12828"/>
                </a:cubicBezTo>
                <a:lnTo>
                  <a:pt x="21238" y="7493"/>
                </a:lnTo>
                <a:lnTo>
                  <a:pt x="19401" y="7493"/>
                </a:lnTo>
                <a:lnTo>
                  <a:pt x="22909" y="3985"/>
                </a:lnTo>
                <a:lnTo>
                  <a:pt x="26582" y="7493"/>
                </a:lnTo>
                <a:lnTo>
                  <a:pt x="24745" y="7493"/>
                </a:lnTo>
                <a:lnTo>
                  <a:pt x="24745" y="12828"/>
                </a:lnTo>
                <a:cubicBezTo>
                  <a:pt x="24745" y="15596"/>
                  <a:pt x="22169" y="18155"/>
                  <a:pt x="19401" y="18155"/>
                </a:cubicBezTo>
                <a:lnTo>
                  <a:pt x="17739" y="18155"/>
                </a:lnTo>
                <a:cubicBezTo>
                  <a:pt x="14971" y="18155"/>
                  <a:pt x="12395" y="15596"/>
                  <a:pt x="12395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ъясняющий вопро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для чего нужно знать правило сложения, вычитания дробей с одинаковыми знаменател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Управляющая кнопка: возврат 1"/>
          <p:cNvSpPr/>
          <p:nvPr/>
        </p:nvSpPr>
        <p:spPr>
          <a:xfrm>
            <a:off x="7812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7493"/>
                </a:moveTo>
                <a:lnTo>
                  <a:pt x="10907" y="7493"/>
                </a:lnTo>
                <a:lnTo>
                  <a:pt x="10907" y="12828"/>
                </a:lnTo>
                <a:cubicBezTo>
                  <a:pt x="10907" y="13751"/>
                  <a:pt x="11708" y="14482"/>
                  <a:pt x="12744" y="14482"/>
                </a:cubicBezTo>
                <a:lnTo>
                  <a:pt x="14406" y="14482"/>
                </a:lnTo>
                <a:cubicBezTo>
                  <a:pt x="15442" y="14482"/>
                  <a:pt x="16242" y="13751"/>
                  <a:pt x="16242" y="12828"/>
                </a:cubicBezTo>
                <a:lnTo>
                  <a:pt x="16242" y="7493"/>
                </a:lnTo>
                <a:lnTo>
                  <a:pt x="14406" y="7493"/>
                </a:lnTo>
                <a:lnTo>
                  <a:pt x="17914" y="3985"/>
                </a:lnTo>
                <a:lnTo>
                  <a:pt x="21587" y="7493"/>
                </a:lnTo>
                <a:lnTo>
                  <a:pt x="19750" y="7493"/>
                </a:lnTo>
                <a:lnTo>
                  <a:pt x="19750" y="12828"/>
                </a:lnTo>
                <a:cubicBezTo>
                  <a:pt x="19750" y="15596"/>
                  <a:pt x="17174" y="18155"/>
                  <a:pt x="14406" y="18155"/>
                </a:cubicBezTo>
                <a:lnTo>
                  <a:pt x="12744" y="18155"/>
                </a:lnTo>
                <a:cubicBezTo>
                  <a:pt x="9976" y="18155"/>
                  <a:pt x="7400" y="15596"/>
                  <a:pt x="7400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ворческий вопро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Объект 2"/>
          <p:cNvGrpSpPr/>
          <p:nvPr/>
        </p:nvGrpSpPr>
        <p:grpSpPr>
          <a:xfrm>
            <a:off x="457200" y="1603440"/>
            <a:ext cx="8229600" cy="4522680"/>
            <a:chOff x="457200" y="1603440"/>
            <a:chExt cx="8229600" cy="4522680"/>
          </a:xfrm>
        </p:grpSpPr>
        <p:pic>
          <p:nvPicPr>
            <p:cNvPr id="141" name="Объект 2" descr=""/>
            <p:cNvPicPr/>
            <p:nvPr/>
          </p:nvPicPr>
          <p:blipFill>
            <a:blip r:embed="rId1"/>
            <a:stretch/>
          </p:blipFill>
          <p:spPr>
            <a:xfrm>
              <a:off x="457200" y="1606320"/>
              <a:ext cx="8229600" cy="45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57200" y="1603440"/>
              <a:ext cx="8229600" cy="45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Управляющая кнопка: возврат 1"/>
          <p:cNvSpPr/>
          <p:nvPr/>
        </p:nvSpPr>
        <p:spPr>
          <a:xfrm>
            <a:off x="7812000" y="6021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7493"/>
                </a:moveTo>
                <a:lnTo>
                  <a:pt x="13768" y="7493"/>
                </a:lnTo>
                <a:lnTo>
                  <a:pt x="13768" y="12828"/>
                </a:lnTo>
                <a:cubicBezTo>
                  <a:pt x="13768" y="13751"/>
                  <a:pt x="14569" y="14482"/>
                  <a:pt x="15605" y="14482"/>
                </a:cubicBezTo>
                <a:lnTo>
                  <a:pt x="17267" y="14482"/>
                </a:lnTo>
                <a:cubicBezTo>
                  <a:pt x="18303" y="14482"/>
                  <a:pt x="19104" y="13751"/>
                  <a:pt x="19104" y="12828"/>
                </a:cubicBezTo>
                <a:lnTo>
                  <a:pt x="19104" y="7493"/>
                </a:lnTo>
                <a:lnTo>
                  <a:pt x="17267" y="7493"/>
                </a:lnTo>
                <a:lnTo>
                  <a:pt x="20775" y="3985"/>
                </a:lnTo>
                <a:lnTo>
                  <a:pt x="24448" y="7493"/>
                </a:lnTo>
                <a:lnTo>
                  <a:pt x="22611" y="7493"/>
                </a:lnTo>
                <a:lnTo>
                  <a:pt x="22611" y="12828"/>
                </a:lnTo>
                <a:cubicBezTo>
                  <a:pt x="22611" y="15596"/>
                  <a:pt x="20035" y="18155"/>
                  <a:pt x="17267" y="18155"/>
                </a:cubicBezTo>
                <a:lnTo>
                  <a:pt x="15605" y="18155"/>
                </a:lnTo>
                <a:cubicBezTo>
                  <a:pt x="12837" y="18155"/>
                  <a:pt x="10261" y="15596"/>
                  <a:pt x="10261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актически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Объект 2" descr=""/>
          <p:cNvPicPr/>
          <p:nvPr/>
        </p:nvPicPr>
        <p:blipFill>
          <a:blip r:embed="rId1"/>
          <a:stretch/>
        </p:blipFill>
        <p:spPr>
          <a:xfrm>
            <a:off x="324000" y="1560600"/>
            <a:ext cx="83628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 и исправь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сложить дроби с одинаковыми знаменателями, нужно умножить  числители этих дробей, а знаменатель оставить преж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ычесть дроби с одинаковыми знаменателями, нужно из числителя уменьшаемого вычесть числитель вычитаемого и из знаменателя уменьшаемого вычесть знаменатель вычитаем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и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Учиться можно  весело… Чтобы  переваривать знания, надо поглощать их с аппети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Cj04132960000[1]"/>
          <p:cNvPicPr/>
          <p:nvPr/>
        </p:nvPicPr>
        <p:blipFill>
          <a:blip r:embed="rId1"/>
          <a:stretch/>
        </p:blipFill>
        <p:spPr>
          <a:xfrm>
            <a:off x="2627280" y="3500280"/>
            <a:ext cx="424836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т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иды дробей вы знае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операции с дробями вы можете выполня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Овал 3"/>
          <p:cNvSpPr/>
          <p:nvPr/>
        </p:nvSpPr>
        <p:spPr>
          <a:xfrm>
            <a:off x="2476440" y="581040"/>
            <a:ext cx="2772000" cy="933480"/>
          </a:xfrm>
          <a:prstGeom prst="ellipse">
            <a:avLst/>
          </a:prstGeom>
          <a:gradFill rotWithShape="0">
            <a:gsLst>
              <a:gs pos="0">
                <a:srgbClr val="3c8c93"/>
              </a:gs>
              <a:gs pos="100000">
                <a:srgbClr val="effafb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600440" y="2228760"/>
            <a:ext cx="2409840" cy="723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c8c93"/>
              </a:gs>
              <a:gs pos="100000">
                <a:srgbClr val="effafb"/>
              </a:gs>
            </a:gsLst>
            <a:lin ang="27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разными знамена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5"/>
          <p:cNvSpPr/>
          <p:nvPr/>
        </p:nvSpPr>
        <p:spPr>
          <a:xfrm>
            <a:off x="914400" y="2228760"/>
            <a:ext cx="2409840" cy="723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c8c93"/>
              </a:gs>
              <a:gs pos="100000">
                <a:srgbClr val="effafb"/>
              </a:gs>
            </a:gsLst>
            <a:lin ang="27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одинаковым знаменател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704880" y="3638520"/>
            <a:ext cx="590400" cy="18763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авни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7"/>
          <p:cNvSpPr/>
          <p:nvPr/>
        </p:nvSpPr>
        <p:spPr>
          <a:xfrm>
            <a:off x="1724040" y="3638520"/>
            <a:ext cx="590400" cy="18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лад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2638440" y="3638520"/>
            <a:ext cx="590400" cy="187632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чит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9"/>
          <p:cNvSpPr/>
          <p:nvPr/>
        </p:nvSpPr>
        <p:spPr>
          <a:xfrm>
            <a:off x="4657680" y="3638520"/>
            <a:ext cx="590760" cy="187632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авни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0"/>
          <p:cNvSpPr/>
          <p:nvPr/>
        </p:nvSpPr>
        <p:spPr>
          <a:xfrm>
            <a:off x="5743440" y="3638520"/>
            <a:ext cx="590760" cy="187632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лад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1"/>
          <p:cNvSpPr/>
          <p:nvPr/>
        </p:nvSpPr>
        <p:spPr>
          <a:xfrm>
            <a:off x="6781680" y="3638520"/>
            <a:ext cx="590760" cy="1876320"/>
          </a:xfrm>
          <a:prstGeom prst="rect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чит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Прямая со стрелкой 12"/>
          <p:cNvCxnSpPr/>
          <p:nvPr/>
        </p:nvCxnSpPr>
        <p:spPr>
          <a:xfrm>
            <a:off x="2018880" y="2952360"/>
            <a:ext cx="108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Прямая со стрелкой 13"/>
          <p:cNvCxnSpPr/>
          <p:nvPr/>
        </p:nvCxnSpPr>
        <p:spPr>
          <a:xfrm flipH="1">
            <a:off x="961560" y="295236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Прямая со стрелкой 14"/>
          <p:cNvCxnSpPr/>
          <p:nvPr/>
        </p:nvCxnSpPr>
        <p:spPr>
          <a:xfrm>
            <a:off x="2800440" y="2952360"/>
            <a:ext cx="28656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Прямая со стрелкой 15"/>
          <p:cNvCxnSpPr/>
          <p:nvPr/>
        </p:nvCxnSpPr>
        <p:spPr>
          <a:xfrm>
            <a:off x="4819680" y="1409400"/>
            <a:ext cx="743760" cy="819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Прямая со стрелкой 16"/>
          <p:cNvCxnSpPr/>
          <p:nvPr/>
        </p:nvCxnSpPr>
        <p:spPr>
          <a:xfrm flipH="1">
            <a:off x="2180880" y="1409400"/>
            <a:ext cx="753120" cy="819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Прямая со стрелкой 17"/>
          <p:cNvCxnSpPr/>
          <p:nvPr/>
        </p:nvCxnSpPr>
        <p:spPr>
          <a:xfrm flipH="1">
            <a:off x="4733640" y="295236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Прямая со стрелкой 18"/>
          <p:cNvCxnSpPr/>
          <p:nvPr/>
        </p:nvCxnSpPr>
        <p:spPr>
          <a:xfrm>
            <a:off x="6048000" y="2952360"/>
            <a:ext cx="108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Прямая со стрелкой 19"/>
          <p:cNvCxnSpPr/>
          <p:nvPr/>
        </p:nvCxnSpPr>
        <p:spPr>
          <a:xfrm>
            <a:off x="6724440" y="2952360"/>
            <a:ext cx="286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считаете, чт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 вам понят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приклейте на  доску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ё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уж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считаете, чт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 усвоили матери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 то приклейте на  доску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ёлт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руж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считаете, чт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 вам не понят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приклейте на  доску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уж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155 – 156 (выучить прави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сказку о приключениях д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2" descr=""/>
          <p:cNvPicPr/>
          <p:nvPr/>
        </p:nvPicPr>
        <p:blipFill>
          <a:blip r:embed="rId1"/>
          <a:stretch/>
        </p:blipFill>
        <p:spPr>
          <a:xfrm>
            <a:off x="-36360" y="55440"/>
            <a:ext cx="90216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Объект 3"/>
              <p:cNvSpPr txBox="1"/>
              <p:nvPr/>
            </p:nvSpPr>
            <p:spPr>
              <a:xfrm>
                <a:off x="395280" y="1700280"/>
                <a:ext cx="802152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1"/>
          <p:cNvPicPr/>
          <p:nvPr/>
        </p:nvPicPr>
        <p:blipFill>
          <a:blip r:embed="rId1"/>
          <a:stretch/>
        </p:blipFill>
        <p:spPr>
          <a:xfrm>
            <a:off x="5430960" y="2133720"/>
            <a:ext cx="1488960" cy="129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2"/>
          <p:cNvPicPr/>
          <p:nvPr/>
        </p:nvPicPr>
        <p:blipFill>
          <a:blip r:embed="rId2"/>
          <a:stretch/>
        </p:blipFill>
        <p:spPr>
          <a:xfrm>
            <a:off x="6006960" y="1773360"/>
            <a:ext cx="1065240" cy="1452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3"/>
          <p:cNvPicPr/>
          <p:nvPr/>
        </p:nvPicPr>
        <p:blipFill>
          <a:blip r:embed="rId3"/>
          <a:stretch/>
        </p:blipFill>
        <p:spPr>
          <a:xfrm>
            <a:off x="7015320" y="1773360"/>
            <a:ext cx="900000" cy="146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4"/>
          <p:cNvPicPr/>
          <p:nvPr/>
        </p:nvPicPr>
        <p:blipFill>
          <a:blip r:embed="rId4"/>
          <a:stretch/>
        </p:blipFill>
        <p:spPr>
          <a:xfrm>
            <a:off x="7086600" y="2205000"/>
            <a:ext cx="1308240" cy="107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5"/>
          <p:cNvPicPr/>
          <p:nvPr/>
        </p:nvPicPr>
        <p:blipFill>
          <a:blip r:embed="rId5"/>
          <a:stretch/>
        </p:blipFill>
        <p:spPr>
          <a:xfrm>
            <a:off x="7086600" y="3357720"/>
            <a:ext cx="1289160" cy="100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6"/>
          <p:cNvPicPr/>
          <p:nvPr/>
        </p:nvPicPr>
        <p:blipFill>
          <a:blip r:embed="rId6"/>
          <a:stretch/>
        </p:blipFill>
        <p:spPr>
          <a:xfrm>
            <a:off x="7015320" y="3357720"/>
            <a:ext cx="860400" cy="1366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7"/>
          <p:cNvPicPr/>
          <p:nvPr/>
        </p:nvPicPr>
        <p:blipFill>
          <a:blip r:embed="rId7"/>
          <a:stretch/>
        </p:blipFill>
        <p:spPr>
          <a:xfrm>
            <a:off x="6078600" y="3286080"/>
            <a:ext cx="868320" cy="142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8"/>
          <p:cNvPicPr/>
          <p:nvPr/>
        </p:nvPicPr>
        <p:blipFill>
          <a:blip r:embed="rId8"/>
          <a:stretch/>
        </p:blipFill>
        <p:spPr>
          <a:xfrm>
            <a:off x="5502240" y="3357720"/>
            <a:ext cx="1328760" cy="10285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" descr=""/>
          <p:cNvPicPr/>
          <p:nvPr/>
        </p:nvPicPr>
        <p:blipFill>
          <a:blip r:embed="rId9"/>
          <a:stretch/>
        </p:blipFill>
        <p:spPr>
          <a:xfrm>
            <a:off x="179280" y="1987560"/>
            <a:ext cx="4834080" cy="2717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"/>
          <p:cNvPicPr/>
          <p:nvPr/>
        </p:nvPicPr>
        <p:blipFill>
          <a:blip r:embed="rId1"/>
          <a:stretch/>
        </p:blipFill>
        <p:spPr>
          <a:xfrm>
            <a:off x="6373800" y="3500280"/>
            <a:ext cx="1100160" cy="1257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4"/>
          <p:cNvPicPr/>
          <p:nvPr/>
        </p:nvPicPr>
        <p:blipFill>
          <a:blip r:embed="rId2"/>
          <a:stretch/>
        </p:blipFill>
        <p:spPr>
          <a:xfrm>
            <a:off x="7310520" y="3865680"/>
            <a:ext cx="1295280" cy="890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6"/>
          <p:cNvPicPr/>
          <p:nvPr/>
        </p:nvPicPr>
        <p:blipFill>
          <a:blip r:embed="rId3"/>
          <a:stretch/>
        </p:blipFill>
        <p:spPr>
          <a:xfrm>
            <a:off x="7310520" y="4724280"/>
            <a:ext cx="865080" cy="1152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3"/>
          <p:cNvPicPr/>
          <p:nvPr/>
        </p:nvPicPr>
        <p:blipFill>
          <a:blip r:embed="rId4"/>
          <a:stretch/>
        </p:blipFill>
        <p:spPr>
          <a:xfrm>
            <a:off x="955800" y="3716280"/>
            <a:ext cx="925560" cy="1262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5"/>
          <p:cNvPicPr/>
          <p:nvPr/>
        </p:nvPicPr>
        <p:blipFill>
          <a:blip r:embed="rId5"/>
          <a:stretch/>
        </p:blipFill>
        <p:spPr>
          <a:xfrm>
            <a:off x="955800" y="4940280"/>
            <a:ext cx="1326960" cy="868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1"/>
          <p:cNvPicPr/>
          <p:nvPr/>
        </p:nvPicPr>
        <p:blipFill>
          <a:blip r:embed="rId6"/>
          <a:stretch/>
        </p:blipFill>
        <p:spPr>
          <a:xfrm>
            <a:off x="2771640" y="549360"/>
            <a:ext cx="1489320" cy="1299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2"/>
          <p:cNvPicPr/>
          <p:nvPr/>
        </p:nvPicPr>
        <p:blipFill>
          <a:blip r:embed="rId7"/>
          <a:stretch/>
        </p:blipFill>
        <p:spPr>
          <a:xfrm>
            <a:off x="3348000" y="189000"/>
            <a:ext cx="1065240" cy="1452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3"/>
          <p:cNvPicPr/>
          <p:nvPr/>
        </p:nvPicPr>
        <p:blipFill>
          <a:blip r:embed="rId8"/>
          <a:stretch/>
        </p:blipFill>
        <p:spPr>
          <a:xfrm>
            <a:off x="4356000" y="189000"/>
            <a:ext cx="900360" cy="1461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4"/>
          <p:cNvPicPr/>
          <p:nvPr/>
        </p:nvPicPr>
        <p:blipFill>
          <a:blip r:embed="rId9"/>
          <a:stretch/>
        </p:blipFill>
        <p:spPr>
          <a:xfrm>
            <a:off x="4427640" y="620640"/>
            <a:ext cx="1307880" cy="1073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5"/>
          <p:cNvPicPr/>
          <p:nvPr/>
        </p:nvPicPr>
        <p:blipFill>
          <a:blip r:embed="rId10"/>
          <a:stretch/>
        </p:blipFill>
        <p:spPr>
          <a:xfrm>
            <a:off x="4427640" y="1773360"/>
            <a:ext cx="1288800" cy="100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6"/>
          <p:cNvPicPr/>
          <p:nvPr/>
        </p:nvPicPr>
        <p:blipFill>
          <a:blip r:embed="rId11"/>
          <a:stretch/>
        </p:blipFill>
        <p:spPr>
          <a:xfrm>
            <a:off x="4356000" y="1773360"/>
            <a:ext cx="860400" cy="1366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7"/>
          <p:cNvPicPr/>
          <p:nvPr/>
        </p:nvPicPr>
        <p:blipFill>
          <a:blip r:embed="rId12"/>
          <a:stretch/>
        </p:blipFill>
        <p:spPr>
          <a:xfrm>
            <a:off x="3419640" y="1701720"/>
            <a:ext cx="868320" cy="142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8"/>
          <p:cNvPicPr/>
          <p:nvPr/>
        </p:nvPicPr>
        <p:blipFill>
          <a:blip r:embed="rId13"/>
          <a:stretch/>
        </p:blipFill>
        <p:spPr>
          <a:xfrm>
            <a:off x="2843280" y="1773360"/>
            <a:ext cx="1328760" cy="10285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" descr=""/>
          <p:cNvPicPr/>
          <p:nvPr/>
        </p:nvPicPr>
        <p:blipFill>
          <a:blip r:embed="rId14"/>
          <a:stretch/>
        </p:blipFill>
        <p:spPr>
          <a:xfrm>
            <a:off x="2579760" y="3865680"/>
            <a:ext cx="3552840" cy="197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843280" y="476280"/>
          <a:ext cx="3744720" cy="532620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ую часть пирога получил Тучк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131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ую часть пирога получил Кешша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12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ую часть пирога съели Тучка и Кеша вмест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12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из них получил пирога больш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79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колько больш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Таблица 7" descr=""/>
          <p:cNvPicPr/>
          <p:nvPr/>
        </p:nvPicPr>
        <p:blipFill>
          <a:blip r:embed="rId1"/>
          <a:stretch/>
        </p:blipFill>
        <p:spPr>
          <a:xfrm>
            <a:off x="1182600" y="384120"/>
            <a:ext cx="75708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-176040" y="1487520"/>
            <a:ext cx="914868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6784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23:02:43Z</dcterms:created>
  <dc:creator>MAMA</dc:creator>
  <dc:description/>
  <dc:language>en-US</dc:language>
  <cp:lastModifiedBy>Admin</cp:lastModifiedBy>
  <dcterms:modified xsi:type="dcterms:W3CDTF">2017-12-09T13:52:01Z</dcterms:modified>
  <cp:revision>36</cp:revision>
  <dc:subject/>
  <dc:title>Функция. График функции.</dc:title>
</cp:coreProperties>
</file>