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54F-C87B-42EF-BB68-4942CEFB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8EA-C5C3-4419-A9D2-F03BBDB4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5C4-0C00-4B07-A5C0-B2AE1DB9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B73-5670-4161-842F-196B44D4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79CE-C231-4B6B-9201-FEC9A5F5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A336-33F6-48A5-80E1-BC3F41D5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1C27-7788-47C4-8847-7AC69F9E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F5F4-38EA-4DF9-95AA-712D529B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41D8-D2AA-4CF9-92F8-697BEBD2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EFBF-63F3-49B5-9CB0-2E3E6A2D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3BE5-1E78-4743-88D2-680F44A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4A4-8792-42D5-86EA-A73842E4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9D02-DDE5-4E52-9700-224E15EA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F497-DCCF-46BF-968D-95209F9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DAE9-4A1A-4453-82BA-4D3DCD42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DF99-534A-4DE8-8D14-206A814E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1C40-270C-4904-9B13-D282CC45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A02-9327-434D-B855-E29DCEE3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02C-8EBE-48C4-A3D6-9F33610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B6E-866B-4223-8857-A9E4766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405-C6EF-484F-8D8E-C5D9E66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264-A28A-4177-8CB2-DE5C272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05C-FE1E-4554-BDC3-438A6D9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11F-1CA9-491D-AD1E-481996F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E387-C20A-44B2-9B0C-D97D919422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3D3-4C0A-41A0-8C15-BA86FFB148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5;&#1075;&#1083;&#1080;&#1081;&#1089;&#1082;&#1080;&#1081;_&#1103;&#1079;&#1099;&#1082;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6600"/>
                </a:solidFill>
                <a:latin typeface="Comic Sans MS"/>
              </a:rPr>
              <a:t>Crosswor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Филвор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ли венгерский кроссворд – в сетку уже вписаны все слова, задача заключается в их нахождении и вычёркивании, возможно, с поиском лишних букв для составления ключевого сл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4753080" cy="3563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0560" y="1628640"/>
            <a:ext cx="45734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3026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Сканворд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кандинавский кроссворд – представляет собой сплошное поле, в котором расположены стрелочки и определения внутри сет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Чайнвор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цепочка слов – линейный кроссворд, в котором последняя буква предыдущего слова является началом следующе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65534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795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4321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3816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Кейвор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овидность кроссворда, в клетках которого указаны числа заменяющие буквы. Для одинаковых букв одинаковые числа. Возможно, для упрощения разгадывания кроссворда, в нём уже указывается какое либо сло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87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3827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рисс-кро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сетка кроссворда и слова, которые необходимо в ней разместить. Возможно, также как и в кейворде, в сетке вписано слово или буквы, чтобы упростить начальный проце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513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кроссворд может быть не только материалом для проверки и закрепления знаний, но и эффективным способом развития </a:t>
            </a:r>
            <a:r>
              <a:rPr b="0" i="1" lang="ru-RU" sz="2400" spc="-1" strike="noStrike">
                <a:solidFill>
                  <a:srgbClr val="9933ff"/>
                </a:solidFill>
                <a:latin typeface="Arial"/>
              </a:rPr>
              <a:t>креативного мыш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учащихся. Креативное мышление – одно из направлений формирования функциональной грамотности. Креативное мышление – это способность продуктивно участвовать в процессе выработки, оценки и совершенствовании идей, направленных на получение инновационных и эффективных решений, и/или эффектного выражения воображения. Составляя кроссворд как домашнее задание, учащиеся вынуждены обращаться к дополнительной литературе, стараются придумать интересный, нетрадиционный вопрос, что развивает их творческие спосо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интернете можно найти кроссворды на любую тему, которые служат подспорьем в работе учителя. А вот придумать  идею, самим сконструировать и проиллюстрировать кроссворд является захватывающим процессом для учеников. Кроссворды можно приурочить к любой теме учебного процесса. Главное, какую цель при этом преследовать. Можно составить кроссворд с целью контроля усвоения лексического материала, а можно провести командное соревнование, тогда и настрой на уроке будет дру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кроссворда  обычно сводится к выполнению следующих эта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придумывание набора слов, из которых будет состоять кроссвор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формулирование заданий-вопросов, по которым данные слова будут угады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составление самого кроссворда, расположение клеточек-букв на ли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  имеется  готовый набор слов, которые должны быть в кроссворде, можно воспользовать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нлайн програм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  его создания.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crossmaker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s://www.esolcourses.com/content/exercises/crosswords/crosswo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www.learn-english-today.com/wordgame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time4crosswords.webtm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s://www.englishclub.com/esl-games/vocabulary/crossword.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biouroki.ru/workshop/crossg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wordwall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en.islcollectiv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ярное использование кроссвордов помогает обогащать лексический запас учащихся, а положительные эмоции, появляющиеся у детей в процессе разгадывания кроссвордов, способствуют снижению перегрузки. Решение кроссвордов расширяет кругозор и тренирует память, учит работать со справочниками и словарями. При этом у учащихся повышается самооценка. При использовании кроссвордов в качестве домашних заданий они служат для закрепления лексики и одновременно являются игр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гадывание кроссвордов является одним из самых популярных в мире хобби. Игра в слова имеет большую историю. Исследователям встречались находки, похожие на кроссворд, датированные еще 1—4 вв. н. э. Например, во время раскопок, производимых в Помпеях, была обнаружена головоломка, очень напоминающая современный кроссворд.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оссворды стали популярны в начале 20 века. На звание родины кроссвордов претендуют Великобритания, США и ЮАР. Первый кроссворд, соответствующий современным представлениям о кроссворде, был создан журналистом Артуром Уинном и опубликован в газете в 1913 году. Считается, что в России впервые кроссворд появился в журнале “Огонёк” в 1929 год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оссво́р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(</a:t>
            </a:r>
            <a:r>
              <a:rPr b="0" lang="ru-RU" sz="3200" spc="-1" strike="noStrike" u="sng">
                <a:solidFill>
                  <a:srgbClr val="6767ff"/>
                </a:solidFill>
                <a:uFillTx/>
                <a:latin typeface="Times New Roman"/>
                <a:hlinkClick r:id="rId1"/>
              </a:rPr>
              <a:t>анг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" sz="3200" spc="-1" strike="noStrike">
                <a:solidFill>
                  <a:srgbClr val="000000"/>
                </a:solidFill>
                <a:latin typeface="Times New Roman"/>
              </a:rPr>
              <a:t>Crosswor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— пересечение слов) — головоломка, представляющая собой переплетение рядов клеточек, которые заполняются словами по заданным значе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 обучающих возможностях использования игрового метода известно давно. Ведь игра – это организованное занятие, требующее напряжения эмоциональных и умственных сил. Игра на уроках английского языка повышает интерес и желание к изучению предмету. Игровые упражнения позволяют организовать тренировку и активизацию речевых навыков и умений. Развивающее значение игры – это работа воображения, внимания, мышления, памяти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россворд является прекрасным средством активизации мыслительной деятельности учащихся на уроках английского язы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чителя используют в своей работе кроссворды в качестве наглядного обучающего матери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зависимости от того, какие навыки формируются на уроке  иностранного языка, кроссворды можно разделить н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грамматически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тематически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лексически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апример, с  помощью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мматически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кроссвордов  можно проверить знание 2 и 3 формы  неправильных глаголов английского язы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09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Тематически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кроссворды являются одним из способов эффективного введения и закрепления лексического материала в игровой форме, а также расширения кругозора и повышения мотивации учащихся в изучении иностранного языка. Решая тематические кроссворды, дети не только пополняют свой лексический запас, но и стараются как можно больше узнать об изучаемых объектах кроссворда. Решение кроссворда превращается для них в увлекательное путешествие по миру книг и словарей, учит их мыслить логически, прививает навыки поиска информации. В детях просыпается азарт и творчество. Такой обучающий процесс становится эффективным инструментом в работе учит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тические (лексические) кроссворды могут использоваться при изучении любой новой темы. С помощью лексических кроссвордов учитель может проверить уровень усвоения  обучающимися новых слов  и умение записать эти слова правильно,  умение обучающихся  догадываться по описанию, предложенным антонимам, дефинициям о каком слове по изученной теме идет речь и правильно записа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Виды кроссворд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35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ff0066"/>
                </a:solidFill>
                <a:latin typeface="Comic Sans MS"/>
              </a:rPr>
              <a:t>Классический кроссворд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– это головоломка, в которой нужно вписать буквы в сетку из пересекающихся линий таким образом, чтобы при их пересечении по вертикали и по горизонтали получились слова, являющиеся ответами на вопрос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2232000"/>
            <a:ext cx="5905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ллюстрирова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россворды как вариант классических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енно удобно использовать на начальном этапе обучения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1562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29T15:36:02Z</dcterms:created>
  <dc:creator>Таня</dc:creator>
  <dc:description/>
  <dc:language>en-US</dc:language>
  <cp:lastModifiedBy>Таня</cp:lastModifiedBy>
  <dcterms:modified xsi:type="dcterms:W3CDTF">2023-05-29T18:53:10Z</dcterms:modified>
  <cp:revision>2</cp:revision>
  <dc:subject/>
  <dc:title>Crosswords </dc:title>
</cp:coreProperties>
</file>