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2DD-5742-4C41-8B3B-23C41D3E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5AE-E994-44B0-AB82-5DE5AB38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BFA-1D19-453D-B6FB-D9DF1E90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AD2-CA23-458D-84F6-7B5C1C70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BAA-705C-4214-A59A-0F16E30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2B7-70E6-4E03-A296-96839516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44E-7ADB-4676-837F-B0E4610F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EED-B107-4591-8955-98F1049C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19C-62AD-4A16-838D-4A7BC6EF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090-7D2D-4F25-A1DD-2B81506F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E89-469F-436D-833A-DD502E00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AB0-FA4F-42B4-ABD7-121E718C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B867-FDE9-430D-A790-9C21D0279B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Bookman Old Style"/>
              </a:rPr>
              <a:t>ТЕСТ</a:t>
            </a:r>
            <a:br>
              <a:rPr sz="4400"/>
            </a:br>
            <a:r>
              <a:rPr b="1" i="1" lang="ru-RU" sz="4400" spc="-1" strike="noStrike">
                <a:solidFill>
                  <a:srgbClr val="16165d"/>
                </a:solidFill>
                <a:latin typeface="Bookman Old Style"/>
              </a:rPr>
              <a:t>по теме </a:t>
            </a:r>
            <a:br>
              <a:rPr sz="4400"/>
            </a:br>
            <a:r>
              <a:rPr b="1" i="1" lang="ru-RU" sz="4400" spc="-1" strike="noStrike">
                <a:solidFill>
                  <a:srgbClr val="16165d"/>
                </a:solidFill>
                <a:latin typeface="Bookman Old Style"/>
              </a:rPr>
              <a:t>«Действия с положительными и отрицательными числам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1193400" y="3284640"/>
            <a:ext cx="11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2,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264320" y="436572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263240" y="5445000"/>
            <a:ext cx="7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264680" y="220500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8,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24000" y="260280"/>
            <a:ext cx="83516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опрос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Корнем уравнения |-3| + х = 15,3 является чис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8"/>
          <p:cNvSpPr/>
          <p:nvPr/>
        </p:nvSpPr>
        <p:spPr>
          <a:xfrm>
            <a:off x="1193760" y="4365720"/>
            <a:ext cx="10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122840" y="321300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5,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192680" y="544500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120320" y="2205000"/>
            <a:ext cx="7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24000" y="260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tretch/>
        </p:blipFill>
        <p:spPr>
          <a:xfrm>
            <a:off x="1357200" y="785880"/>
            <a:ext cx="688680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8"/>
          <p:cNvSpPr/>
          <p:nvPr/>
        </p:nvSpPr>
        <p:spPr>
          <a:xfrm>
            <a:off x="977400" y="436572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047600" y="32590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90880" y="5445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050840" y="225108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 0,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4000" y="260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3" descr=""/>
          <p:cNvPicPr/>
          <p:nvPr/>
        </p:nvPicPr>
        <p:blipFill>
          <a:blip r:embed="rId1"/>
          <a:stretch/>
        </p:blipFill>
        <p:spPr>
          <a:xfrm>
            <a:off x="1143000" y="285840"/>
            <a:ext cx="688644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975240" y="436572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45800" y="3259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218600" y="542916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047600" y="22510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Решите урав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1"/>
          <a:stretch/>
        </p:blipFill>
        <p:spPr>
          <a:xfrm>
            <a:off x="2500200" y="1071720"/>
            <a:ext cx="3838680" cy="59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8"/>
          <p:cNvSpPr/>
          <p:nvPr/>
        </p:nvSpPr>
        <p:spPr>
          <a:xfrm>
            <a:off x="903960" y="32846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118880" y="429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191960" y="54450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48680" y="2251080"/>
            <a:ext cx="98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0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Решите урав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1"/>
          <a:stretch/>
        </p:blipFill>
        <p:spPr>
          <a:xfrm>
            <a:off x="2786040" y="1000080"/>
            <a:ext cx="331488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8"/>
          <p:cNvSpPr/>
          <p:nvPr/>
        </p:nvSpPr>
        <p:spPr>
          <a:xfrm>
            <a:off x="1046520" y="2205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119600" y="4292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190880" y="5445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120680" y="32130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3" descr=""/>
          <p:cNvPicPr/>
          <p:nvPr/>
        </p:nvPicPr>
        <p:blipFill>
          <a:blip r:embed="rId1"/>
          <a:stretch/>
        </p:blipFill>
        <p:spPr>
          <a:xfrm>
            <a:off x="1571760" y="214200"/>
            <a:ext cx="6000480" cy="16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8"/>
          <p:cNvSpPr/>
          <p:nvPr/>
        </p:nvSpPr>
        <p:spPr>
          <a:xfrm>
            <a:off x="1045800" y="5445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119600" y="32590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165320" y="434016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119600" y="21798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3" descr=""/>
          <p:cNvPicPr/>
          <p:nvPr/>
        </p:nvPicPr>
        <p:blipFill>
          <a:blip r:embed="rId1"/>
          <a:stretch/>
        </p:blipFill>
        <p:spPr>
          <a:xfrm>
            <a:off x="1214280" y="0"/>
            <a:ext cx="684864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7"/>
          <p:cNvSpPr/>
          <p:nvPr/>
        </p:nvSpPr>
        <p:spPr>
          <a:xfrm>
            <a:off x="857160" y="214200"/>
            <a:ext cx="7891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Разность наибольшей и наименьшей из дробей</a:t>
            </a: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                                                7,42;   -4,31;   -2,54 и 7,24 рав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395000" y="227664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,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1252080" y="321300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1,7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338480" y="434016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3,8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264680" y="534816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,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7"/>
          <p:cNvSpPr/>
          <p:nvPr/>
        </p:nvSpPr>
        <p:spPr>
          <a:xfrm>
            <a:off x="974520" y="436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045800" y="3259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191600" y="54450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046880" y="225108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324000" y="260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Значением выражения является чис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30794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"/>
          <p:cNvSpPr/>
          <p:nvPr/>
        </p:nvSpPr>
        <p:spPr>
          <a:xfrm>
            <a:off x="1046880" y="2205000"/>
            <a:ext cx="83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120680" y="4292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,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192320" y="544500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/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123200" y="3213000"/>
            <a:ext cx="123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,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Вычислит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1"/>
          <a:stretch/>
        </p:blipFill>
        <p:spPr>
          <a:xfrm>
            <a:off x="3000240" y="928800"/>
            <a:ext cx="278604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685800" y="5335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Вопрос 1:  Выполните действ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1407600" y="2276640"/>
            <a:ext cx="7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1407600" y="3213000"/>
            <a:ext cx="8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9"/>
          <p:cNvSpPr/>
          <p:nvPr/>
        </p:nvSpPr>
        <p:spPr>
          <a:xfrm>
            <a:off x="1408680" y="429264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1407600" y="5300640"/>
            <a:ext cx="7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1" descr=""/>
          <p:cNvPicPr/>
          <p:nvPr/>
        </p:nvPicPr>
        <p:blipFill>
          <a:blip r:embed="rId1"/>
          <a:stretch/>
        </p:blipFill>
        <p:spPr>
          <a:xfrm>
            <a:off x="3214800" y="1285920"/>
            <a:ext cx="202860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7"/>
          <p:cNvSpPr/>
          <p:nvPr/>
        </p:nvSpPr>
        <p:spPr>
          <a:xfrm>
            <a:off x="324000" y="260280"/>
            <a:ext cx="835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5d"/>
                </a:solidFill>
                <a:latin typeface="Times New Roman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= -42 – (-6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406880" y="2276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263600" y="32130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336680" y="43401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63600" y="534816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Найдите значение выра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406880" y="2276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26180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335600" y="434016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263600" y="534816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3" descr=""/>
          <p:cNvPicPr/>
          <p:nvPr/>
        </p:nvPicPr>
        <p:blipFill>
          <a:blip r:embed="rId1"/>
          <a:stretch/>
        </p:blipFill>
        <p:spPr>
          <a:xfrm>
            <a:off x="2786040" y="928800"/>
            <a:ext cx="367524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7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324000" y="260280"/>
            <a:ext cx="835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опрос 2: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Выполните действие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-13 - 1,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409040" y="2276640"/>
            <a:ext cx="98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,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410480" y="321300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4,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324800" y="4340160"/>
            <a:ext cx="123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1,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265400" y="5348160"/>
            <a:ext cx="10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,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8"/>
          <p:cNvSpPr/>
          <p:nvPr/>
        </p:nvSpPr>
        <p:spPr>
          <a:xfrm>
            <a:off x="1406880" y="2276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407960" y="32130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406880" y="429264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408680" y="530064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опрос 3: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Выполните действ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1"/>
          <a:stretch/>
        </p:blipFill>
        <p:spPr>
          <a:xfrm>
            <a:off x="3429000" y="1000080"/>
            <a:ext cx="2214720" cy="14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9"/>
          <p:cNvSpPr/>
          <p:nvPr/>
        </p:nvSpPr>
        <p:spPr>
          <a:xfrm>
            <a:off x="1265400" y="2349360"/>
            <a:ext cx="13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/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336320" y="4292640"/>
            <a:ext cx="7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382760" y="5300640"/>
            <a:ext cx="10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0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264320" y="32590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опрос 4: </a:t>
            </a: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Выполните действ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"/>
          <p:cNvPicPr/>
          <p:nvPr/>
        </p:nvPicPr>
        <p:blipFill>
          <a:blip r:embed="rId1"/>
          <a:stretch/>
        </p:blipFill>
        <p:spPr>
          <a:xfrm>
            <a:off x="3429000" y="1071720"/>
            <a:ext cx="21430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1479960" y="5445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480680" y="3309840"/>
            <a:ext cx="7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1526400" y="431784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1406160" y="2276640"/>
            <a:ext cx="51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опрос 5: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Вычислит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1"/>
          <a:stretch/>
        </p:blipFill>
        <p:spPr>
          <a:xfrm>
            <a:off x="1785960" y="1071720"/>
            <a:ext cx="50194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8"/>
          <p:cNvSpPr/>
          <p:nvPr/>
        </p:nvSpPr>
        <p:spPr>
          <a:xfrm>
            <a:off x="1408680" y="436572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481040" y="321300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4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1479240" y="5445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1407240" y="2276640"/>
            <a:ext cx="6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24000" y="26028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опрос 6: </a:t>
            </a: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Вычислит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3" descr=""/>
          <p:cNvPicPr/>
          <p:nvPr/>
        </p:nvPicPr>
        <p:blipFill>
          <a:blip r:embed="rId1"/>
          <a:stretch/>
        </p:blipFill>
        <p:spPr>
          <a:xfrm>
            <a:off x="1857240" y="1000080"/>
            <a:ext cx="497232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8"/>
          <p:cNvSpPr/>
          <p:nvPr/>
        </p:nvSpPr>
        <p:spPr>
          <a:xfrm>
            <a:off x="1551600" y="5445000"/>
            <a:ext cx="6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481760" y="321300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554120" y="4365720"/>
            <a:ext cx="10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0,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06160" y="2276640"/>
            <a:ext cx="51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57120" y="21420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опрос 7: </a:t>
            </a: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Вычислит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3" descr=""/>
          <p:cNvPicPr/>
          <p:nvPr/>
        </p:nvPicPr>
        <p:blipFill>
          <a:blip r:embed="rId1"/>
          <a:stretch/>
        </p:blipFill>
        <p:spPr>
          <a:xfrm>
            <a:off x="1785960" y="1071720"/>
            <a:ext cx="554364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8"/>
          <p:cNvSpPr/>
          <p:nvPr/>
        </p:nvSpPr>
        <p:spPr>
          <a:xfrm>
            <a:off x="1411560" y="227664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5,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483560" y="4365720"/>
            <a:ext cx="140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482120" y="5445000"/>
            <a:ext cx="11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5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411560" y="328464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-15,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24000" y="26028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5d"/>
                </a:solidFill>
                <a:latin typeface="Times New Roman"/>
              </a:rPr>
              <a:t>Вопрос 8: </a:t>
            </a:r>
            <a:r>
              <a:rPr b="1" lang="ru-RU" sz="4000" spc="-1" strike="noStrike">
                <a:solidFill>
                  <a:srgbClr val="16165d"/>
                </a:solidFill>
                <a:latin typeface="Times New Roman"/>
              </a:rPr>
              <a:t>Вычислите удобным способ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1"/>
          <a:stretch/>
        </p:blipFill>
        <p:spPr>
          <a:xfrm>
            <a:off x="3214800" y="1428840"/>
            <a:ext cx="4929120" cy="103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Пользователь</cp:lastModifiedBy>
  <dcterms:modified xsi:type="dcterms:W3CDTF">2024-03-08T15:25:29Z</dcterms:modified>
  <cp:revision>45</cp:revision>
  <dc:subject/>
  <dc:title>Заголовок</dc:title>
</cp:coreProperties>
</file>