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1858-78AA-434A-8097-FDBB2690F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414-F09A-415E-B0E8-8FB3BF6D2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9CC-E77B-48F3-8933-DA1151F6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FDF-73BE-4BD5-AE4D-14FCC97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FE21-9C37-4795-A6E4-212167A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0AB-3150-4F83-948D-D329BE7D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2CA-3DFA-465B-A4B8-D668EC77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909-CAE1-41EE-9AAA-D231E9E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996-C5FC-4AE1-8FB0-1296238B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E9C-E3A7-48B6-9636-88EA87EC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5F6-BE4A-47B5-8439-0AB5F7E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AC9-A3DE-4ACF-8406-1FC30EA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2F9-EDBF-4CB0-B2F9-58F44307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7A1-3F4E-4D80-AC32-D3026F9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B853-542D-4B9F-A1C1-7C98A685D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4"/>
            <p:cNvSpPr/>
            <p:nvPr/>
          </p:nvSpPr>
          <p:spPr>
            <a:xfrm>
              <a:off x="711360" y="304920"/>
              <a:ext cx="7721280" cy="144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749160" y="6502320"/>
              <a:ext cx="7696440" cy="18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8813880" y="711360"/>
              <a:ext cx="144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317520" y="711360"/>
              <a:ext cx="25560" cy="535932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317520" y="6058080"/>
              <a:ext cx="43164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 flipH="1">
              <a:off x="8420040" y="604512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 flipH="1" rot="16200000">
              <a:off x="8407440" y="26676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 rot="5400000">
              <a:off x="279360" y="266400"/>
              <a:ext cx="432000" cy="457200"/>
            </a:xfrm>
            <a:prstGeom prst="pie">
              <a:avLst/>
            </a:prstGeom>
            <a:noFill/>
            <a:ln w="7632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2"/>
          <p:cNvSpPr txBox="1"/>
          <p:nvPr/>
        </p:nvSpPr>
        <p:spPr>
          <a:xfrm>
            <a:off x="685800" y="1600200"/>
            <a:ext cx="79246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ест по теме 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«Действия с положительными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и отрицательными числами»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7">
            <a:hlinkClick r:id="" action="ppaction://hlinkshowjump?jump=endshow"/>
          </p:cNvPr>
          <p:cNvSpPr/>
          <p:nvPr/>
        </p:nvSpPr>
        <p:spPr>
          <a:xfrm>
            <a:off x="845964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2895480" y="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ите значения выра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28600" y="685800"/>
            <a:ext cx="213372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,2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0,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9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1"/>
          <p:cNvSpPr/>
          <p:nvPr/>
        </p:nvSpPr>
        <p:spPr>
          <a:xfrm>
            <a:off x="304920" y="2133720"/>
            <a:ext cx="2286000" cy="368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5 · 0,6 – 14 : (-0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2"/>
          <p:cNvSpPr/>
          <p:nvPr/>
        </p:nvSpPr>
        <p:spPr>
          <a:xfrm>
            <a:off x="228600" y="3124080"/>
            <a:ext cx="213372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252 : (-9) : (-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3"/>
          <p:cNvSpPr/>
          <p:nvPr/>
        </p:nvSpPr>
        <p:spPr>
          <a:xfrm>
            <a:off x="228600" y="4724280"/>
            <a:ext cx="228600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,62 – 12,8 : (-3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4952880" y="685800"/>
            <a:ext cx="205740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64 : (-14 + 6 ·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5"/>
          <p:cNvSpPr/>
          <p:nvPr/>
        </p:nvSpPr>
        <p:spPr>
          <a:xfrm>
            <a:off x="4952880" y="2057400"/>
            <a:ext cx="221004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4 – 4,2 : 1,5) · (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4952880" y="3276720"/>
            <a:ext cx="2286000" cy="368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3,2 – 1,6 · 2,5) : (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7"/>
          <p:cNvSpPr/>
          <p:nvPr/>
        </p:nvSpPr>
        <p:spPr>
          <a:xfrm>
            <a:off x="4572000" y="4648320"/>
            <a:ext cx="2895480" cy="398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/17 · 1,47 – 5/17 · 18,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3-08T14:33:3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