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0D53-CFAF-45A7-A623-89CC376F0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AEE1-AEAB-47EC-9BF8-3FE6C92F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13F0-AD2F-4348-A37A-18155C1F3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6C0A-7D68-487F-BFB6-CCF8FE02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BC1B-0BEF-4C8C-B578-004B682C4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77CB-9F08-4BC4-AC6E-AA5A96BA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26B0-0D7A-46F3-81A8-BB428C7B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E6BE-BE40-475E-AA9A-29923236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95E1-2D21-452E-AA74-86133C36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FF02-8D5D-41A1-9D55-BE731E4E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242E-FA46-4265-998F-A33DB66C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458C-B2F0-4602-8852-A1E7C35C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4EFA-2662-4E32-854B-93B25A81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5902-8B3A-4654-B781-B88CE2DC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0AEB-9BD5-4723-9699-A63ED81E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17EA-E939-44A8-A053-06A18DC7A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C8C0-FC2F-41B0-8688-2E07D21B6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643B5-14BE-4023-9C1C-5E55C837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BFA44-0679-4431-A87F-C9367A01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283C4-3C2C-4E77-8922-813602C4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612D7-7943-46E7-9980-5221E232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AAC99-783D-494C-8B5D-EE017F45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C8C0-F013-48D1-BA89-1D876707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C88C1-9026-4D49-BFC3-D329705C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E3D82-591D-4954-89FB-B4C04653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86DF2-71B1-4441-B464-416241DB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124FB-4F79-4129-9D39-C034FB1E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A776D-4449-4925-AE86-E13F7FF3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03060-6330-49B7-B31E-815443D5E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3500A-D8C3-41A5-BC8F-40E2F97C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94CAF-C3EC-4AFC-9602-404A9643A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D020F-29BD-4F9B-9A13-8A3C9D98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6E178-D72E-4D58-92CB-2291888C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84AC-C8D0-4499-9E1B-F882724B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63D01-1CB3-4F00-8296-05C414B4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70B20-858B-4A82-8342-41C84DF7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3AE93-2628-4BF5-86EA-37336AAC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CBA7D-4A16-407A-98F7-785F0349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B90B3-BBF8-45A8-903E-7B9CF72C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FC082-3DEF-419F-8391-6E8814B4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8425D-92A7-4AB3-B279-41B6497A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925C8-181B-4B55-9FE3-C54515F5B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556E7-87EE-44F6-8F33-5825079C0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47E43-3A83-4F5D-950B-36085C9B5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2356-420A-4125-A276-DB81A2AD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635DC-57E5-4355-8B0A-1BB676E1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802F1-DB6C-4E25-BA2E-8F8A4A27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3B3AA-ECD1-4752-8904-BD5ED1D3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4CD08-DBF6-4F3F-BF61-C5284F7C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3B338-5EEB-4F69-BD54-E47F6F23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71C84-8A58-4603-9E13-8A732852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D013A-EFA7-4785-885C-C372A766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72B14-DA48-4FD7-9916-ECD43DB8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3ADC5-EB40-4A32-B8B0-D3F78DD3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2F696-CC75-4674-A718-4EEF39B87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51B8-8D18-41A0-89A4-1FD9359B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FFA82-A870-442E-B554-1DCC10496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D55D-2BF9-42A8-BDC6-8D780578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55C7-EC41-4650-8032-A295FBE0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6792-4F71-44AB-BABE-8F29BE0E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282e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989aa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989a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989aa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989aa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2818-ACB3-426F-8564-6070BBBF0F1F}" type="slidenum">
              <a:rPr b="0" lang="ru-RU" sz="11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282e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989aa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989a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989aa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989aa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64BB-B31C-47CA-BD1A-9D7AEDB4E766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282e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989aa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989a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989aa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989aa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FF0E-305D-42D9-8BEF-578009949DC9}" type="slidenum">
              <a:rPr b="0" lang="ru-RU" sz="11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8c8b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989aa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989a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989aa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989aa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8c8b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2038-92E5-433A-8E83-33D09160529A}" type="slidenum">
              <a:rPr b="0" lang="ru-RU" sz="1100" spc="-1" strike="noStrike">
                <a:solidFill>
                  <a:srgbClr val="c8c8b1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282e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989aa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989a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989aa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989aa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9BC0-2368-4091-8581-7B197F241005}" type="slidenum">
              <a:rPr b="0" lang="ru-RU" sz="11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378000" y="853920"/>
            <a:ext cx="8388000" cy="22798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4"/>
          <p:cNvSpPr/>
          <p:nvPr/>
        </p:nvSpPr>
        <p:spPr>
          <a:xfrm>
            <a:off x="228600" y="6400800"/>
            <a:ext cx="5410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дагог дополнительного образования - Доброва И.А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Rectangle 2" descr=""/>
          <p:cNvPicPr/>
          <p:nvPr/>
        </p:nvPicPr>
        <p:blipFill>
          <a:blip r:embed="rId1"/>
          <a:stretch/>
        </p:blipFill>
        <p:spPr>
          <a:xfrm>
            <a:off x="755640" y="530280"/>
            <a:ext cx="7711920" cy="927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Для получения от 500 до 5000 копий документа используется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i="1" lang="ru-RU" sz="2800" spc="-1" strike="noStrike">
                <a:solidFill>
                  <a:srgbClr val="d1282e"/>
                </a:solidFill>
                <a:latin typeface="Trebuchet MS"/>
              </a:rPr>
              <a:t>трафаретная печать.</a:t>
            </a:r>
            <a:r>
              <a:rPr b="1" lang="ru-RU" sz="2600" spc="-1" strike="noStrike">
                <a:solidFill>
                  <a:srgbClr val="d1282e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2"/>
          <a:stretch/>
        </p:blipFill>
        <p:spPr>
          <a:xfrm>
            <a:off x="457200" y="3505320"/>
            <a:ext cx="3809880" cy="24476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"/>
          <p:cNvPicPr/>
          <p:nvPr/>
        </p:nvPicPr>
        <p:blipFill>
          <a:blip r:embed="rId3"/>
          <a:stretch/>
        </p:blipFill>
        <p:spPr>
          <a:xfrm>
            <a:off x="5029200" y="2286000"/>
            <a:ext cx="238140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6.24277E-006 C -0.00243 -0.02313 -0.01632 -0.07538 -0.03646 -0.09087 C -0.0566 -0.10636 -0.08802 -0.10475 -0.12049 -0.09319 C -0.15295 -0.08162 -0.21892 -0.06151 -0.2316 -0.02128 C -0.24427 0.01895 -0.2276 0.10543 -0.1967 0.14797 C -0.1658 0.19051 -0.10364 0.22127 -0.04601 0.23468 C 0.01163 0.24809 0.09028 0.25456 0.14931 0.2282 C 0.20833 0.20184 0.31997 0.09086 0.30799 0.07606 C 0.29601 0.06127 0.13281 0.14404 0.07778 0.13942 C 0.02274 0.13479 -0.0092 0.07144 -0.02222 0.04855 C -0.03524 0.02566 0.00243 0.02312 -4.16667E-006 -6.24277E-006 Z">
                                      <p:cBhvr>
                                        <p:cTn id="47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250" autoRev="1" fill="hold"/>
                                        <p:tgtEl>
                                          <p:spTgt spid="2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Rectangle 2" descr=""/>
          <p:cNvPicPr/>
          <p:nvPr/>
        </p:nvPicPr>
        <p:blipFill>
          <a:blip r:embed="rId1"/>
          <a:stretch/>
        </p:blipFill>
        <p:spPr>
          <a:xfrm>
            <a:off x="755640" y="530280"/>
            <a:ext cx="7711920" cy="7747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раска наносится на бумагу через трафарет. Трафарет изготавливается на восковой, желатиновой или коллоидной бумаге или на пленке. Суть изготовления печатной формы состоит  в пробивании в ней микроотверстий, через которые впоследствии будет продавливаться краска на машинах, называемых </a:t>
            </a:r>
            <a:r>
              <a:rPr b="1" i="1" lang="ru-RU" sz="2800" spc="-1" strike="noStrike">
                <a:solidFill>
                  <a:srgbClr val="d1282e"/>
                </a:solidFill>
                <a:latin typeface="Trebuchet MS"/>
              </a:rPr>
              <a:t>ротаторам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3886200" cy="51055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"/>
          <p:cNvPicPr/>
          <p:nvPr/>
        </p:nvPicPr>
        <p:blipFill>
          <a:blip r:embed="rId2"/>
          <a:stretch/>
        </p:blipFill>
        <p:spPr>
          <a:xfrm>
            <a:off x="4332240" y="380880"/>
            <a:ext cx="3691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250" autoRev="1" fill="hold"/>
                                        <p:tgtEl>
                                          <p:spTgt spid="2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2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Rectangle 2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533520" y="17521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изображений на футболках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на металле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на различных видах бумаг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на пластике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на игрушках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на передних панелях телевизоров,    приемников и т.п.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на упаковке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на электронных платах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крупноформатных изданий (рекламные плакаты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Rectangle 2" descr=""/>
          <p:cNvPicPr/>
          <p:nvPr/>
        </p:nvPicPr>
        <p:blipFill>
          <a:blip r:embed="rId1"/>
          <a:stretch/>
        </p:blipFill>
        <p:spPr>
          <a:xfrm>
            <a:off x="755640" y="530280"/>
            <a:ext cx="7711920" cy="8478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304560" y="1599840"/>
            <a:ext cx="4647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Если требуется получить более 5000 копий, используется </a:t>
            </a:r>
            <a:r>
              <a:rPr b="1" i="1" lang="ru-RU" sz="2800" spc="-1" strike="noStrike">
                <a:solidFill>
                  <a:srgbClr val="d1282e"/>
                </a:solidFill>
                <a:latin typeface="Trebuchet MS"/>
              </a:rPr>
              <a:t>офсетная печать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еренос краски с печатной формы на запечатываемый материал не напрямую, а через промежуточный офсетный цилиндр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2"/>
          <a:stretch/>
        </p:blipFill>
        <p:spPr>
          <a:xfrm>
            <a:off x="4800600" y="1600200"/>
            <a:ext cx="297180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2" descr=""/>
          <p:cNvPicPr/>
          <p:nvPr/>
        </p:nvPicPr>
        <p:blipFill>
          <a:blip r:embed="rId1"/>
          <a:stretch/>
        </p:blipFill>
        <p:spPr>
          <a:xfrm>
            <a:off x="755640" y="530280"/>
            <a:ext cx="7711920" cy="8478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380520" y="1980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 основе ее лежит принцип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не смешиваемости масла и воды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2"/>
          <a:stretch/>
        </p:blipFill>
        <p:spPr>
          <a:xfrm>
            <a:off x="457200" y="3200400"/>
            <a:ext cx="5867280" cy="27432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6" descr=""/>
          <p:cNvPicPr/>
          <p:nvPr/>
        </p:nvPicPr>
        <p:blipFill>
          <a:blip r:embed="rId3"/>
          <a:stretch/>
        </p:blipFill>
        <p:spPr>
          <a:xfrm>
            <a:off x="6172200" y="4572000"/>
            <a:ext cx="2133720" cy="133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250" autoRev="1" fill="hold"/>
                                        <p:tgtEl>
                                          <p:spTgt spid="2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250" autoRev="1" fill="hold"/>
                                        <p:tgtEl>
                                          <p:spTgt spid="2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Rectangle 2" descr=""/>
          <p:cNvPicPr/>
          <p:nvPr/>
        </p:nvPicPr>
        <p:blipFill>
          <a:blip r:embed="rId1"/>
          <a:stretch/>
        </p:blipFill>
        <p:spPr>
          <a:xfrm>
            <a:off x="755640" y="500040"/>
            <a:ext cx="7711920" cy="7254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7315200" cy="4572000"/>
          </a:xfrm>
          <a:prstGeom prst="rect">
            <a:avLst/>
          </a:prstGeom>
          <a:ln w="0">
            <a:noFill/>
          </a:ln>
        </p:spPr>
      </p:pic>
      <p:sp>
        <p:nvSpPr>
          <p:cNvPr id="274" name="AutoShape 4"/>
          <p:cNvSpPr/>
          <p:nvPr/>
        </p:nvSpPr>
        <p:spPr>
          <a:xfrm>
            <a:off x="6477120" y="198108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7a7a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6477120" y="335268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7a7a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6"/>
          <p:cNvSpPr/>
          <p:nvPr/>
        </p:nvSpPr>
        <p:spPr>
          <a:xfrm>
            <a:off x="4572000" y="2590920"/>
            <a:ext cx="457200" cy="304560"/>
          </a:xfrm>
          <a:prstGeom prst="leftArrow">
            <a:avLst>
              <a:gd name="adj1" fmla="val 50000"/>
              <a:gd name="adj2" fmla="val 37530"/>
            </a:avLst>
          </a:prstGeom>
          <a:solidFill>
            <a:srgbClr val="7a7a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7"/>
          <p:cNvSpPr/>
          <p:nvPr/>
        </p:nvSpPr>
        <p:spPr>
          <a:xfrm>
            <a:off x="3429000" y="3733920"/>
            <a:ext cx="457200" cy="304560"/>
          </a:xfrm>
          <a:prstGeom prst="leftArrow">
            <a:avLst>
              <a:gd name="adj1" fmla="val 50000"/>
              <a:gd name="adj2" fmla="val 37530"/>
            </a:avLst>
          </a:prstGeom>
          <a:solidFill>
            <a:srgbClr val="7a7a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Rectangle 2" descr=""/>
          <p:cNvPicPr/>
          <p:nvPr/>
        </p:nvPicPr>
        <p:blipFill>
          <a:blip r:embed="rId1"/>
          <a:stretch/>
        </p:blipFill>
        <p:spPr>
          <a:xfrm>
            <a:off x="755640" y="530280"/>
            <a:ext cx="7711920" cy="7747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304560" y="13712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282e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Форма для такой печати может быть изготовлена на металлической или гидро­фильной бумажной пластине с использованием жирового красителя. Далее на форму накатывается краска, налипающая на жирные места, а затем контактным способом через эластичное промежуточное звено (офсетный барабан) краска переносится на бумагу для получения копии. Устройства для такой печати называются </a:t>
            </a:r>
            <a:r>
              <a:rPr b="1" i="1" lang="ru-RU" sz="2400" spc="-1" strike="noStrike">
                <a:solidFill>
                  <a:srgbClr val="d1282e"/>
                </a:solidFill>
                <a:latin typeface="Trebuchet MS"/>
              </a:rPr>
              <a:t>ротапринтам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и печати используется четырехцветная цветовая модель CMYK и цвета Pantone®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Rectangle 2" descr=""/>
          <p:cNvPicPr/>
          <p:nvPr/>
        </p:nvPicPr>
        <p:blipFill>
          <a:blip r:embed="rId1"/>
          <a:stretch/>
        </p:blipFill>
        <p:spPr>
          <a:xfrm>
            <a:off x="755640" y="530280"/>
            <a:ext cx="7711920" cy="7747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304920" y="144792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 1980 году японской фирмой Riso был разработан метод трафаретной печати, названный  по созвучию с наименованием предприятия  – ризография. Копируемый оригинал помещается на встроенный сканер </a:t>
            </a:r>
            <a:r>
              <a:rPr b="1" lang="ru-RU" sz="2400" spc="-1" strike="noStrike">
                <a:solidFill>
                  <a:srgbClr val="d1282e"/>
                </a:solidFill>
                <a:latin typeface="Trebuchet MS"/>
              </a:rPr>
              <a:t>ризографа.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Считываемая сканером информация преобразуется в цифровую форму и термоголовка прожигает мельчайшие отверстия в мастер-пленке…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2" name="Picture 5" descr=""/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3200400" y="3886200"/>
            <a:ext cx="266220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13873E-006 C -0.00903 0.00277 -0.05 0.00462 -0.05712 0.00208 C -0.06423 -0.00047 -0.05191 -0.01203 -0.04288 -0.0148 C -0.03385 -0.01758 -0.01128 -0.01734 -0.00312 -0.0148 C 0.00504 -0.01226 0.00903 -0.00278 1.38889E-006 2.13873E-006 Z">
                                      <p:cBhvr>
                                        <p:cTn id="123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4.16185E-006 C -0.0019 0.00393 0.03265 0.01087 0.04133 0.00833 C 0.05001 0.00578 0.05817 -0.01341 0.05244 -0.01479 C 0.04671 -0.01618 0.00192 -0.00393 5.83333E-006 -4.16185E-006 Z">
                                      <p:cBhvr>
                                        <p:cTn id="126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Rectangle 2" descr=""/>
          <p:cNvPicPr/>
          <p:nvPr/>
        </p:nvPicPr>
        <p:blipFill>
          <a:blip r:embed="rId1"/>
          <a:stretch/>
        </p:blipFill>
        <p:spPr>
          <a:xfrm>
            <a:off x="755640" y="530280"/>
            <a:ext cx="7711920" cy="7747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228240" y="1752120"/>
            <a:ext cx="4343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За 10-20 минут можно получить несколько тысяч качественных оттисков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Рекомендованный объем –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т 100 до 10000 копий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1282e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2"/>
          <a:stretch/>
        </p:blipFill>
        <p:spPr>
          <a:xfrm>
            <a:off x="4267080" y="1828800"/>
            <a:ext cx="350532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250" autoRev="1" fill="hold"/>
                                        <p:tgtEl>
                                          <p:spTgt spid="2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grpSp>
        <p:nvGrpSpPr>
          <p:cNvPr id="223" name="Group 15"/>
          <p:cNvGrpSpPr/>
          <p:nvPr/>
        </p:nvGrpSpPr>
        <p:grpSpPr>
          <a:xfrm>
            <a:off x="838080" y="1952640"/>
            <a:ext cx="6438960" cy="3444480"/>
            <a:chOff x="838080" y="1952640"/>
            <a:chExt cx="6438960" cy="3444480"/>
          </a:xfrm>
        </p:grpSpPr>
        <p:sp>
          <p:nvSpPr>
            <p:cNvPr id="224" name="Rectangle 5"/>
            <p:cNvSpPr/>
            <p:nvPr/>
          </p:nvSpPr>
          <p:spPr>
            <a:xfrm>
              <a:off x="1942920" y="1952640"/>
              <a:ext cx="4819680" cy="837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d128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редства размнож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6"/>
            <p:cNvSpPr/>
            <p:nvPr/>
          </p:nvSpPr>
          <p:spPr>
            <a:xfrm>
              <a:off x="838080" y="4559760"/>
              <a:ext cx="1752840" cy="837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d128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Гектограф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7"/>
            <p:cNvSpPr/>
            <p:nvPr/>
          </p:nvSpPr>
          <p:spPr>
            <a:xfrm>
              <a:off x="2857320" y="4488120"/>
              <a:ext cx="2286000" cy="837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d128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Ротаторы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ризограф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8"/>
            <p:cNvSpPr/>
            <p:nvPr/>
          </p:nvSpPr>
          <p:spPr>
            <a:xfrm>
              <a:off x="5295960" y="4488120"/>
              <a:ext cx="1981080" cy="837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d128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Ротапринте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0"/>
            <p:cNvSpPr/>
            <p:nvPr/>
          </p:nvSpPr>
          <p:spPr>
            <a:xfrm>
              <a:off x="1714320" y="3650760"/>
              <a:ext cx="4572000" cy="0"/>
            </a:xfrm>
            <a:prstGeom prst="line">
              <a:avLst/>
            </a:prstGeom>
            <a:ln w="9360">
              <a:solidFill>
                <a:srgbClr val="d128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1"/>
            <p:cNvSpPr/>
            <p:nvPr/>
          </p:nvSpPr>
          <p:spPr>
            <a:xfrm>
              <a:off x="1714320" y="3650760"/>
              <a:ext cx="0" cy="837360"/>
            </a:xfrm>
            <a:prstGeom prst="line">
              <a:avLst/>
            </a:prstGeom>
            <a:ln w="9360">
              <a:solidFill>
                <a:srgbClr val="d128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2"/>
            <p:cNvSpPr/>
            <p:nvPr/>
          </p:nvSpPr>
          <p:spPr>
            <a:xfrm>
              <a:off x="3924360" y="3650760"/>
              <a:ext cx="0" cy="837360"/>
            </a:xfrm>
            <a:prstGeom prst="line">
              <a:avLst/>
            </a:prstGeom>
            <a:ln w="9360">
              <a:solidFill>
                <a:srgbClr val="d128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3"/>
            <p:cNvSpPr/>
            <p:nvPr/>
          </p:nvSpPr>
          <p:spPr>
            <a:xfrm>
              <a:off x="6286320" y="3650760"/>
              <a:ext cx="0" cy="837360"/>
            </a:xfrm>
            <a:prstGeom prst="line">
              <a:avLst/>
            </a:prstGeom>
            <a:ln w="9360">
              <a:solidFill>
                <a:srgbClr val="d128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4"/>
            <p:cNvSpPr/>
            <p:nvPr/>
          </p:nvSpPr>
          <p:spPr>
            <a:xfrm>
              <a:off x="3924360" y="2813040"/>
              <a:ext cx="0" cy="837360"/>
            </a:xfrm>
            <a:prstGeom prst="line">
              <a:avLst/>
            </a:prstGeom>
            <a:ln w="9360">
              <a:solidFill>
                <a:srgbClr val="d128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Rectangle 2" descr=""/>
          <p:cNvPicPr/>
          <p:nvPr/>
        </p:nvPicPr>
        <p:blipFill>
          <a:blip r:embed="rId1"/>
          <a:stretch/>
        </p:blipFill>
        <p:spPr>
          <a:xfrm>
            <a:off x="755640" y="500040"/>
            <a:ext cx="7711920" cy="7254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 точном соответствии с оригиналом и указаниями пользователя о яркости печати, масштабе оригинала, готовый мастер автоматически переносится на поверхность красящего цилиндра, внутрь которого вставлена туба с краской. Внутренний слой мастера пропитывается краской, после чего Ризограф делает контрольный оттиск. Этот этап длится 17 секунд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"/>
          <p:cNvPicPr/>
          <p:nvPr/>
        </p:nvPicPr>
        <p:blipFill>
          <a:blip r:embed="rId1"/>
          <a:stretch/>
        </p:blipFill>
        <p:spPr>
          <a:xfrm>
            <a:off x="0" y="685800"/>
            <a:ext cx="5105520" cy="57150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"/>
          <p:cNvPicPr/>
          <p:nvPr/>
        </p:nvPicPr>
        <p:blipFill>
          <a:blip r:embed="rId2"/>
          <a:stretch/>
        </p:blipFill>
        <p:spPr>
          <a:xfrm>
            <a:off x="5181480" y="304920"/>
            <a:ext cx="2743200" cy="22096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"/>
          <p:cNvPicPr/>
          <p:nvPr/>
        </p:nvPicPr>
        <p:blipFill>
          <a:blip r:embed="rId3"/>
          <a:stretch/>
        </p:blipFill>
        <p:spPr>
          <a:xfrm>
            <a:off x="5105520" y="2362320"/>
            <a:ext cx="2743200" cy="3895560"/>
          </a:xfrm>
          <a:prstGeom prst="rect">
            <a:avLst/>
          </a:prstGeom>
          <a:ln w="0">
            <a:noFill/>
          </a:ln>
        </p:spPr>
      </p:pic>
      <p:sp>
        <p:nvSpPr>
          <p:cNvPr id="291" name="AutoShape 7"/>
          <p:cNvSpPr/>
          <p:nvPr/>
        </p:nvSpPr>
        <p:spPr>
          <a:xfrm>
            <a:off x="4419720" y="105552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1"/>
          <p:cNvSpPr/>
          <p:nvPr/>
        </p:nvSpPr>
        <p:spPr>
          <a:xfrm rot="16200000">
            <a:off x="2819160" y="129528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2"/>
          <p:cNvSpPr/>
          <p:nvPr/>
        </p:nvSpPr>
        <p:spPr>
          <a:xfrm rot="16200000">
            <a:off x="3276360" y="159984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3"/>
          <p:cNvSpPr/>
          <p:nvPr/>
        </p:nvSpPr>
        <p:spPr>
          <a:xfrm>
            <a:off x="3505320" y="251460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4"/>
          <p:cNvSpPr/>
          <p:nvPr/>
        </p:nvSpPr>
        <p:spPr>
          <a:xfrm rot="16450200">
            <a:off x="2819160" y="289548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5"/>
          <p:cNvSpPr/>
          <p:nvPr/>
        </p:nvSpPr>
        <p:spPr>
          <a:xfrm>
            <a:off x="2514600" y="1905120"/>
            <a:ext cx="457200" cy="304560"/>
          </a:xfrm>
          <a:prstGeom prst="leftArrow">
            <a:avLst>
              <a:gd name="adj1" fmla="val 50000"/>
              <a:gd name="adj2" fmla="val 3753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9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9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9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9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Rectangle 2" descr=""/>
          <p:cNvPicPr/>
          <p:nvPr/>
        </p:nvPicPr>
        <p:blipFill>
          <a:blip r:embed="rId1"/>
          <a:stretch/>
        </p:blipFill>
        <p:spPr>
          <a:xfrm>
            <a:off x="755640" y="530280"/>
            <a:ext cx="7711920" cy="77472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 процессе печати точная механика подает бумагу из подающего лотка под вращающийся цилиндр. Контролируемая сенсором краска наносится на бумагу через отверстия в мастере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спользованный мастер автоматически сбрасывается в специальный бокс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Rectangl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и тиражах более 1000 стоимость оттиска вообще приближается к стоимости бумаг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Ризографы очень надежны, способны без поломок производить </a:t>
            </a:r>
            <a:r>
              <a:rPr b="1" lang="ru-RU" sz="2800" spc="-1" strike="noStrike">
                <a:solidFill>
                  <a:srgbClr val="d1282e"/>
                </a:solidFill>
                <a:latin typeface="Trebuchet MS"/>
              </a:rPr>
              <a:t>МИЛЛИОНЫ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оттисков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2" descr=""/>
          <p:cNvPicPr/>
          <p:nvPr/>
        </p:nvPicPr>
        <p:blipFill>
          <a:blip r:embed="rId1"/>
          <a:stretch/>
        </p:blipFill>
        <p:spPr>
          <a:xfrm>
            <a:off x="590400" y="103320"/>
            <a:ext cx="7255080" cy="13842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 разрешение изображения не выше 600х600 точек на дюйм, а наиболее распространенным является разрешение 400х400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 использование глянцевой и мелованной бумаги исключено (зато, высохнув, оттиск не размывается водой); </a:t>
            </a: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краска прозрачна, а значит, на темной бумаге печатать нельзя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1282e"/>
                </a:solidFill>
                <a:latin typeface="Trebuchet MS"/>
              </a:rPr>
              <a:t>    </a:t>
            </a:r>
            <a:r>
              <a:rPr b="1" lang="ru-RU" sz="2000" spc="-1" strike="noStrike">
                <a:solidFill>
                  <a:srgbClr val="d1282e"/>
                </a:solidFill>
                <a:latin typeface="Trebuchet MS"/>
              </a:rPr>
              <a:t>многим условиям должен отвечать и оригинал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нежелательно наличие </a:t>
            </a: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больших темных площадей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, например, крупных фотографий;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необходимо </a:t>
            </a: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наличие у оригинала полей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, а большие запечатываемые области должны располагаться симметрично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печать разными цветами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а ризографе 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сложна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и затратна. Максимум, на что способен дупликатор – печать двумя-тремя цветами в два-три прогона, поскольку для смены цвета приходится менять весь красящий цилиндр (барабан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3" name="Picture 7" descr=""/>
          <p:cNvPicPr/>
          <p:nvPr/>
        </p:nvPicPr>
        <p:blipFill>
          <a:blip r:embed="rId2"/>
          <a:stretch/>
        </p:blipFill>
        <p:spPr>
          <a:xfrm>
            <a:off x="8077320" y="4800600"/>
            <a:ext cx="685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75564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456840" y="5486400"/>
            <a:ext cx="3521160" cy="838080"/>
          </a:xfrm>
          <a:prstGeom prst="rect">
            <a:avLst/>
          </a:prstGeom>
          <a:noFill/>
          <a:ln w="12600">
            <a:solidFill>
              <a:srgbClr val="d1282e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1282e"/>
                </a:solidFill>
                <a:latin typeface="Trebuchet MS"/>
              </a:rPr>
              <a:t>Вариант 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1282e"/>
                </a:solidFill>
                <a:latin typeface="Trebuchet MS"/>
              </a:rPr>
              <a:t>На рисунке изображен…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177800" y="5486400"/>
            <a:ext cx="3521160" cy="838080"/>
          </a:xfrm>
          <a:prstGeom prst="rect">
            <a:avLst/>
          </a:prstGeom>
          <a:noFill/>
          <a:ln w="12600">
            <a:solidFill>
              <a:srgbClr val="d1282e"/>
            </a:solidFill>
            <a:miter/>
          </a:ln>
        </p:spPr>
        <p:txBody>
          <a:bodyPr anchor="ctr">
            <a:normAutofit fontScale="99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1282e"/>
                </a:solidFill>
                <a:latin typeface="Trebuchet MS"/>
              </a:rPr>
              <a:t>Вариант 2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1282e"/>
                </a:solidFill>
                <a:latin typeface="Trebuchet MS"/>
              </a:rPr>
              <a:t>На рисунке изображен…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7" name="Picture 4" descr=""/>
          <p:cNvPicPr/>
          <p:nvPr/>
        </p:nvPicPr>
        <p:blipFill>
          <a:blip r:embed="rId2"/>
          <a:stretch/>
        </p:blipFill>
        <p:spPr>
          <a:xfrm>
            <a:off x="533520" y="1143000"/>
            <a:ext cx="3520800" cy="37339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"/>
          <p:cNvPicPr/>
          <p:nvPr/>
        </p:nvPicPr>
        <p:blipFill>
          <a:blip r:embed="rId3"/>
          <a:stretch/>
        </p:blipFill>
        <p:spPr>
          <a:xfrm>
            <a:off x="4876920" y="1828800"/>
            <a:ext cx="281916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250" autoRev="1" fill="hold"/>
                                        <p:tgtEl>
                                          <p:spTgt spid="3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75564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56840" y="5486400"/>
            <a:ext cx="3521160" cy="838080"/>
          </a:xfrm>
          <a:prstGeom prst="rect">
            <a:avLst/>
          </a:prstGeom>
          <a:noFill/>
          <a:ln w="12600">
            <a:solidFill>
              <a:srgbClr val="d1282e"/>
            </a:solidFill>
            <a:miter/>
          </a:ln>
        </p:spPr>
        <p:txBody>
          <a:bodyPr anchor="ctr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d1282e"/>
                </a:solidFill>
                <a:latin typeface="Trebuchet MS"/>
              </a:rPr>
              <a:t>Вариант 1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d1282e"/>
                </a:solidFill>
                <a:latin typeface="Trebuchet MS"/>
              </a:rPr>
              <a:t>На рисунке изображен ризограф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177800" y="5486400"/>
            <a:ext cx="3521160" cy="838080"/>
          </a:xfrm>
          <a:prstGeom prst="rect">
            <a:avLst/>
          </a:prstGeom>
          <a:noFill/>
          <a:ln w="12600">
            <a:solidFill>
              <a:srgbClr val="d1282e"/>
            </a:solidFill>
            <a:miter/>
          </a:ln>
        </p:spPr>
        <p:txBody>
          <a:bodyPr anchor="ctr">
            <a:normAutofit fontScale="92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1282e"/>
                </a:solidFill>
                <a:latin typeface="Trebuchet MS"/>
              </a:rPr>
              <a:t>Вариант 2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1282e"/>
                </a:solidFill>
                <a:latin typeface="Trebuchet MS"/>
              </a:rPr>
              <a:t>На рисунке изображен гектограф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2"/>
          <a:stretch/>
        </p:blipFill>
        <p:spPr>
          <a:xfrm>
            <a:off x="533520" y="1143000"/>
            <a:ext cx="3520800" cy="37339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"/>
          <p:cNvPicPr/>
          <p:nvPr/>
        </p:nvPicPr>
        <p:blipFill>
          <a:blip r:embed="rId3"/>
          <a:stretch/>
        </p:blipFill>
        <p:spPr>
          <a:xfrm>
            <a:off x="4648320" y="1676520"/>
            <a:ext cx="2819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2" dur="250" autoRev="1" fill="hold"/>
                                        <p:tgtEl>
                                          <p:spTgt spid="3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6840" y="5867280"/>
            <a:ext cx="3521160" cy="457200"/>
          </a:xfrm>
          <a:prstGeom prst="rect">
            <a:avLst/>
          </a:prstGeom>
          <a:noFill/>
          <a:ln w="12600">
            <a:solidFill>
              <a:srgbClr val="d1282e"/>
            </a:solidFill>
            <a:miter/>
          </a:ln>
        </p:spPr>
        <p:txBody>
          <a:bodyPr anchor="ctr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1282e"/>
                </a:solidFill>
                <a:latin typeface="Trebuchet MS"/>
              </a:rPr>
              <a:t>Вариант 1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177800" y="5867280"/>
            <a:ext cx="3521160" cy="457200"/>
          </a:xfrm>
          <a:prstGeom prst="rect">
            <a:avLst/>
          </a:prstGeom>
          <a:noFill/>
          <a:ln w="12600">
            <a:solidFill>
              <a:srgbClr val="d1282e"/>
            </a:solidFill>
            <a:miter/>
          </a:ln>
        </p:spPr>
        <p:txBody>
          <a:bodyPr anchor="ctr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1282e"/>
                </a:solidFill>
                <a:latin typeface="Trebuchet MS"/>
              </a:rPr>
              <a:t>Вариант 2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6840" y="1711440"/>
            <a:ext cx="352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Вариант 1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Где применяетс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трафарет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177800" y="1711440"/>
            <a:ext cx="352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Вариант 2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еречислите достоинства ризограф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456840" y="5867280"/>
            <a:ext cx="3521160" cy="457200"/>
          </a:xfrm>
          <a:prstGeom prst="rect">
            <a:avLst/>
          </a:prstGeom>
          <a:noFill/>
          <a:ln w="12600">
            <a:solidFill>
              <a:srgbClr val="d1282e"/>
            </a:solidFill>
            <a:miter/>
          </a:ln>
        </p:spPr>
        <p:txBody>
          <a:bodyPr anchor="ctr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1282e"/>
                </a:solidFill>
                <a:latin typeface="Trebuchet MS"/>
              </a:rPr>
              <a:t>Вариант 1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177800" y="5867280"/>
            <a:ext cx="3521160" cy="457200"/>
          </a:xfrm>
          <a:prstGeom prst="rect">
            <a:avLst/>
          </a:prstGeom>
          <a:noFill/>
          <a:ln w="12600">
            <a:solidFill>
              <a:srgbClr val="d1282e"/>
            </a:solidFill>
            <a:miter/>
          </a:ln>
        </p:spPr>
        <p:txBody>
          <a:bodyPr anchor="ctr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1282e"/>
                </a:solidFill>
                <a:latin typeface="Trebuchet MS"/>
              </a:rPr>
              <a:t>Вариант 2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6840" y="1371600"/>
            <a:ext cx="352116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Вариант 1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Где применяетс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трафарет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для изображений на бумаге, металле, пластике, футболках; упаковках, передних панелях телевизоров, рекламных плакатах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038480" y="1447920"/>
            <a:ext cx="373392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Вариант 2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еречислите достоинства ризограф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- ризографы очень надежны, редко ломаются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- при тиражах более 1000 стоимость оттиска вообще приближается к стоимости бумаг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755640" y="530280"/>
            <a:ext cx="7711920" cy="9270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http://ru.wikipedia.org/wiki/Гектограф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http://shelkotrafaret.narod.ru/article12.ht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http://www.tcs.ru/reviews/?id=341&amp;shc=1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1282e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1282e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1282e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1282e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9874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оцесс документирования обычно связан с необходимостью копирования и размножения составленных документов. В средние века с этой целью приходилось переписывать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документы от руки. Изобретение книгопечатания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зволило в массовом порядке размножать информацию. Однако этот способ был невыгоден для получения небольшого количества копий. Поэтому и после изобретения книгопечатания ещё длительное время в учреждениях по-прежнему продолжали трудиться многочисленные переписчики.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 целью ускорить и  облегчить этот процесс с начала 19 столетия стала использоваться копировальная бумага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("копирка").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чавшийся в конце 19 века массовый выпуск пишущих машин привёл к появлению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чёрной копирки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близкой по качеству к современной. Её использование позволило изготавливать несколько копий документ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6840" y="1609200"/>
            <a:ext cx="75438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учно-технический прогресс привёл к изобретению в 19-20 веках технологий копирования и тиражирования документов и х средств репрографии и оперативной полиграфии,распространённых в этот период способов копирования относились такие как: фотографический, термографическое копирование (термография), электрографическое копирование (ксерография), цифровое электрографическое копирование (цифровое копирование) и др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304920" y="1609200"/>
            <a:ext cx="76960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чень часто необходимо размножать документы тиражом в 50-100 и более экземпляров. С этой целью использовали традиционные методы оперативной полиграфии -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гектографическую (спиртовую), офсетную (ротапринтную), трафаретную (ротаторную) печать.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2"/>
          <a:stretch/>
        </p:blipFill>
        <p:spPr>
          <a:xfrm>
            <a:off x="380880" y="4081320"/>
            <a:ext cx="2819520" cy="26053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"/>
          <p:cNvPicPr/>
          <p:nvPr/>
        </p:nvPicPr>
        <p:blipFill>
          <a:blip r:embed="rId3"/>
          <a:stretch/>
        </p:blipFill>
        <p:spPr>
          <a:xfrm>
            <a:off x="5334120" y="4081320"/>
            <a:ext cx="238104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250" autoRev="1" fill="hold"/>
                                        <p:tgtEl>
                                          <p:spTgt spid="2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Rectangle 2" descr=""/>
          <p:cNvPicPr/>
          <p:nvPr/>
        </p:nvPicPr>
        <p:blipFill>
          <a:blip r:embed="rId1"/>
          <a:stretch/>
        </p:blipFill>
        <p:spPr>
          <a:xfrm>
            <a:off x="755640" y="530280"/>
            <a:ext cx="7686720" cy="847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-152640" y="1905120"/>
            <a:ext cx="6615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При небольшом тиражировании (25-250 экземпляров) используется гектографическая (спиртовая) печать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2"/>
          <a:stretch/>
        </p:blipFill>
        <p:spPr>
          <a:xfrm>
            <a:off x="5257800" y="3962520"/>
            <a:ext cx="2819520" cy="26049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5181480" cy="1901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"/>
          <p:cNvPicPr/>
          <p:nvPr/>
        </p:nvPicPr>
        <p:blipFill>
          <a:blip r:embed="rId4"/>
          <a:stretch/>
        </p:blipFill>
        <p:spPr>
          <a:xfrm>
            <a:off x="5889600" y="2286000"/>
            <a:ext cx="2209680" cy="1752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"/>
          <p:cNvPicPr/>
          <p:nvPr/>
        </p:nvPicPr>
        <p:blipFill>
          <a:blip r:embed="rId5"/>
          <a:stretch/>
        </p:blipFill>
        <p:spPr>
          <a:xfrm>
            <a:off x="5410080" y="4114800"/>
            <a:ext cx="2819520" cy="26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Rectangle 2" descr=""/>
          <p:cNvPicPr/>
          <p:nvPr/>
        </p:nvPicPr>
        <p:blipFill>
          <a:blip r:embed="rId1"/>
          <a:stretch/>
        </p:blipFill>
        <p:spPr>
          <a:xfrm>
            <a:off x="225360" y="530280"/>
            <a:ext cx="7785000" cy="8478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152280" y="1904760"/>
            <a:ext cx="5105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Гектограф дает до 100 оттисков, но только первые 30-50 отчетливы. Мокрой губкой оттиск на массе смывается и гектограф вновь годен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 употреблению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зобретён в России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 1869 г.  М. И. Алисовым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5562720" y="5791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лама гектографа, 1876 г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6" descr=""/>
          <p:cNvPicPr/>
          <p:nvPr/>
        </p:nvPicPr>
        <p:blipFill>
          <a:blip r:embed="rId2"/>
          <a:stretch/>
        </p:blipFill>
        <p:spPr>
          <a:xfrm>
            <a:off x="5410080" y="1913040"/>
            <a:ext cx="259092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Rectangle 2" descr=""/>
          <p:cNvPicPr/>
          <p:nvPr/>
        </p:nvPicPr>
        <p:blipFill>
          <a:blip r:embed="rId1"/>
          <a:stretch/>
        </p:blipFill>
        <p:spPr>
          <a:xfrm>
            <a:off x="755640" y="530280"/>
            <a:ext cx="7711920" cy="8478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456840" y="1752480"/>
            <a:ext cx="7467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льзуясь гектографическими или литографическими чернилами, тушью и литографической лентой для пишущей машинки, необходимо написать на листе бумаги текст, который надо размножить. Когда чернила высохнут, положите лист бумаги исписанной стороной на гектографическую массу. Чернила 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впечатаются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в массу. Через минуту бумагу снимите и положите лист чистой бумаги, заранее слегка смоченный спиртом, на гектографическую массу и пригладьте его. Когда  снимете бумагу,  увидите на ней отпечатанным то, что было перенесено на масс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Учитель</cp:lastModifiedBy>
  <dcterms:modified xsi:type="dcterms:W3CDTF">2021-06-03T11:57:50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