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comments/comment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Дмитрий" initials="Д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<Relationship Id="rId21" Type="http://schemas.openxmlformats.org/officeDocument/2006/relationships/commentAuthors" Target="commentAuthors.xml"/>
</Relationships>
</file>

<file path=ppt/comments/comment6.xml><?xml version="1.0" encoding="utf-8"?>
<p:cmLst xmlns:p="http://schemas.openxmlformats.org/presentationml/2006/main">
  <p:cm authorId="0" dt="2008-11-16T18:21:45.125000000" idx="1">
    <p:pos x="5989" y="4019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3A32-CE9E-42BF-A9ED-6C1CF279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452B-14EF-4CC4-ABA9-F9D46385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1FD8-2EF8-4B5C-BC3B-2BCBCE41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414A-393E-4D34-9D3B-A3A6C3D4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4352-9639-4F46-A233-7686A4DD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34AC-C52C-4347-9171-F14026FF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23CB-D1D9-48D3-8F80-2360C321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028A-BE85-47DF-9730-3B6BEBFE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73AF-5041-4C16-8544-143F2315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8826-C4DD-4D1B-AC69-8A4EBBF8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1F9A-2A7C-446C-A894-0D7D5CA1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1218-D832-4D27-99FB-ED633179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BA2A-6D39-47CB-A4A3-F3E6844D1A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1;&#1083;&#1077;&#1073;&#1085;&#1099;&#1077;_&#1079;&#1077;&#1088;&#1085;&#1086;&#1074;&#1099;&#1077;_&#1082;&#1091;&#1083;&#1100;&#1090;&#1091;&#1088;&#1099;" TargetMode="External"/><Relationship Id="rId3" Type="http://schemas.openxmlformats.org/officeDocument/2006/relationships/hyperlink" Target="http://ru.wikipedia.org/wiki/&#1055;&#1096;&#1077;&#1085;&#1080;&#1094;&#1072;" TargetMode="External"/><Relationship Id="rId4" Type="http://schemas.openxmlformats.org/officeDocument/2006/relationships/hyperlink" Target="http://ru.wikipedia.org/wiki/&#1056;&#1086;&#1078;&#1100;" TargetMode="External"/><Relationship Id="rId5" Type="http://schemas.openxmlformats.org/officeDocument/2006/relationships/hyperlink" Target="http://ru.wikipedia.org/wiki/&#1054;&#1074;&#1105;&#1089;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D0015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ДЕРАЛЬНОЕ КАЗЕННОЕ ПРОФЕССИОНАЛЬНОЕ ОБРАЗОВАТЕЛЬНОЕ УЧРЕЖДЕНИЕ № 117 ФСИН РОССИИ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ЛИАЛ № 6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ПОСОБИЕ ДЛЯ  САМОСТОЯТЕЛЬНОГ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ВОЕНИЯ УЧЕБНОГО МАТЕРИАЛА ПО ТЕМЕ:</a:t>
            </a:r>
            <a:br>
              <a:rPr sz="20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делия из пресного теста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хнология приготовления пельмен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85480" y="4857840"/>
            <a:ext cx="864396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л: мастер производствен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галова Нина Ива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20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9" descr="DD0015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3. ФОРМОВАНИЕ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Содержимое 9" descr="IMG_1823.JPG"/>
          <p:cNvPicPr/>
          <p:nvPr/>
        </p:nvPicPr>
        <p:blipFill>
          <a:blip r:embed="rId2"/>
          <a:stretch/>
        </p:blipFill>
        <p:spPr>
          <a:xfrm>
            <a:off x="357120" y="2143080"/>
            <a:ext cx="4038840" cy="37861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4214880" y="1428840"/>
            <a:ext cx="44719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лотное тесто плохо усваивается организмом, поэтому его следует раскатывают как можно тоньше. Кроме того, если тесто толстое, оно размокает и делается липк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8"/>
          <p:cNvSpPr/>
          <p:nvPr/>
        </p:nvSpPr>
        <p:spPr>
          <a:xfrm>
            <a:off x="781200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одержимое 10"/>
          <p:cNvSpPr/>
          <p:nvPr/>
        </p:nvSpPr>
        <p:spPr>
          <a:xfrm>
            <a:off x="428760" y="1428840"/>
            <a:ext cx="39290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Раскатка те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9" descr="DD0015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ФОРМОВАНИЕ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0" y="1071360"/>
            <a:ext cx="418608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акладывание мя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781200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Содержимое 7" descr="IMG_1816.JPG"/>
          <p:cNvPicPr/>
          <p:nvPr/>
        </p:nvPicPr>
        <p:blipFill>
          <a:blip r:embed="rId2"/>
          <a:stretch/>
        </p:blipFill>
        <p:spPr>
          <a:xfrm>
            <a:off x="142920" y="1714680"/>
            <a:ext cx="4324320" cy="324324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оугольник 8"/>
          <p:cNvSpPr/>
          <p:nvPr/>
        </p:nvSpPr>
        <p:spPr>
          <a:xfrm>
            <a:off x="285840" y="1071720"/>
            <a:ext cx="41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Вырезание круж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E:\Фото пельмени\IMG_1821.JPG"/>
          <p:cNvPicPr/>
          <p:nvPr/>
        </p:nvPicPr>
        <p:blipFill>
          <a:blip r:embed="rId3"/>
          <a:stretch/>
        </p:blipFill>
        <p:spPr>
          <a:xfrm>
            <a:off x="4572000" y="1714680"/>
            <a:ext cx="4286160" cy="32144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2"/>
          <p:cNvSpPr/>
          <p:nvPr/>
        </p:nvSpPr>
        <p:spPr>
          <a:xfrm>
            <a:off x="285840" y="5214960"/>
            <a:ext cx="86580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ружки из тес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ырезают стакан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ормуют жгут, режут его на куски и раскатывают в кружо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уски мяса укладывают на серед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9" descr="DD0015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ФОРМОВАНИЕ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8"/>
          <p:cNvSpPr/>
          <p:nvPr/>
        </p:nvSpPr>
        <p:spPr>
          <a:xfrm>
            <a:off x="781200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8"/>
          <p:cNvSpPr/>
          <p:nvPr/>
        </p:nvSpPr>
        <p:spPr>
          <a:xfrm>
            <a:off x="285840" y="1071720"/>
            <a:ext cx="84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Леп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285840" y="5214960"/>
            <a:ext cx="86580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льмени формуют в виде уголков, «ушек», четырехугольников, а также используют различные приспособ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Содержимое 13" descr="IMG_1817.JPG"/>
          <p:cNvPicPr/>
          <p:nvPr/>
        </p:nvPicPr>
        <p:blipFill>
          <a:blip r:embed="rId2"/>
          <a:stretch/>
        </p:blipFill>
        <p:spPr>
          <a:xfrm>
            <a:off x="142920" y="1714680"/>
            <a:ext cx="4476600" cy="3714480"/>
          </a:xfrm>
          <a:prstGeom prst="rect">
            <a:avLst/>
          </a:prstGeom>
          <a:ln w="0">
            <a:noFill/>
          </a:ln>
        </p:spPr>
      </p:pic>
      <p:pic>
        <p:nvPicPr>
          <p:cNvPr id="178" name="Содержимое 8" descr="пельмень5.jpg"/>
          <p:cNvPicPr/>
          <p:nvPr/>
        </p:nvPicPr>
        <p:blipFill>
          <a:blip r:embed="rId3"/>
          <a:stretch/>
        </p:blipFill>
        <p:spPr>
          <a:xfrm>
            <a:off x="4729320" y="1714680"/>
            <a:ext cx="3881160" cy="3714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9" descr="DD0015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142560"/>
            <a:ext cx="89298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«Мясные орешки! Пельмени – пельмешки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781200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Содержимое 12" descr="IMG_1835.JPG"/>
          <p:cNvPicPr/>
          <p:nvPr/>
        </p:nvPicPr>
        <p:blipFill>
          <a:blip r:embed="rId2"/>
          <a:stretch/>
        </p:blipFill>
        <p:spPr>
          <a:xfrm>
            <a:off x="214200" y="1643040"/>
            <a:ext cx="4529160" cy="44290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4500360" y="1499760"/>
            <a:ext cx="44290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одготовленные пельмени укладывают на доску, посыпают мукой и выносят на мороз или помещают в морозильную камеру. После того, как они полностью замерзнут, их ссыпают в чистые пакеты и хранят на холод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9" descr="DD0015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142560"/>
            <a:ext cx="89298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Варка пельме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"/>
          <p:cNvSpPr/>
          <p:nvPr/>
        </p:nvSpPr>
        <p:spPr>
          <a:xfrm>
            <a:off x="781200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4428720"/>
            <a:ext cx="900108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Пельмени отваривают, бросая маленькими порциями в кипящую, слегка присоленную воду. Для пикантности в воду можно добавить 1-2 лавровых листа.  Как только пельмени всплывут, их надо достать шумовкой, подавать к столу со сметаной, маслом или уксусом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 Р И Я Т Н О Г О    А П П Е Т И Т А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Содержимое 7" descr="IMG_1840.JPG"/>
          <p:cNvPicPr/>
          <p:nvPr/>
        </p:nvPicPr>
        <p:blipFill>
          <a:blip r:embed="rId2"/>
          <a:stretch/>
        </p:blipFill>
        <p:spPr>
          <a:xfrm>
            <a:off x="214200" y="642960"/>
            <a:ext cx="4643640" cy="3691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E:\Фото пельмени\IMG_1847.JPG"/>
          <p:cNvPicPr/>
          <p:nvPr/>
        </p:nvPicPr>
        <p:blipFill>
          <a:blip r:embed="rId3"/>
          <a:stretch/>
        </p:blipFill>
        <p:spPr>
          <a:xfrm>
            <a:off x="4786200" y="642960"/>
            <a:ext cx="4143600" cy="3714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DD0015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5716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опросы  для самоконтрол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"/>
          <p:cNvSpPr/>
          <p:nvPr/>
        </p:nvSpPr>
        <p:spPr>
          <a:xfrm>
            <a:off x="571680" y="1453320"/>
            <a:ext cx="821520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еречислите ингредиенты  для замеса пресного теста.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ой консистенции замешивают пельменное тесто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 какой целью приготовленное тесто оставляют на 20-30мин., закрыв салфеткой.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еречислите состав фарша для приготовления пельмене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Для чего пресное тесто следует  раскатывать как можно тоньше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зовите виды лепки пельмене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равила хранения готовых пельмене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Отпуск и подача пельмене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DD0015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5716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Эталон ответ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"/>
          <p:cNvSpPr/>
          <p:nvPr/>
        </p:nvSpPr>
        <p:spPr>
          <a:xfrm>
            <a:off x="571680" y="1430280"/>
            <a:ext cx="8215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"/>
          <p:cNvSpPr/>
          <p:nvPr/>
        </p:nvSpPr>
        <p:spPr>
          <a:xfrm>
            <a:off x="500040" y="1125360"/>
            <a:ext cx="828684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ка, вода, яйца, соль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Крутой консистен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Для набухания клейковины и придания тесту эластичност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Говядину, свинину, баранину, соль, перец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Для лучшего усваивания организм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зелки, уголки, ушк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Готовые пельмени замораживают, и хранят в морозильник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Отпускают  с маслом, уксусом, сметаной, в бульон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DD0015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Информационное обеспе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. Анфимова Н.А., Татарская Л.Л. «Кулинария» Москва 2013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.  Цыганова Т.Б. «Технология и организация производства хлебобулочных изделий» 2012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. Слисаревская И.В. «Пироги, торты, кексы, печенье. Домашняя выпечка из всех видов муки» Москва 2017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4. Сайт электронно-библиотечная система «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nanium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5. Сайт «Академия»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ademia-moscow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"/>
          <p:cNvSpPr/>
          <p:nvPr/>
        </p:nvSpPr>
        <p:spPr>
          <a:xfrm>
            <a:off x="571680" y="1358640"/>
            <a:ext cx="8215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DD0015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643960" cy="628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ННОТАЦИЯ</a:t>
            </a:r>
            <a:br>
              <a:rPr sz="2400"/>
            </a:br>
            <a:br>
              <a:rPr sz="2400"/>
            </a:b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Предлагаемое Вашему вниманию пособие создано Вам в помощь для самостоятельного освоения учебного материала. В нем содержится:</a:t>
            </a:r>
            <a:br>
              <a:rPr sz="2300"/>
            </a:b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-  описание  технологических операций приготовления из пресного  теста пельменей;</a:t>
            </a:r>
            <a:br>
              <a:rPr sz="2300"/>
            </a:b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-  пищевая ценность и исторические факты  традиционного блюда в России;</a:t>
            </a:r>
            <a:br>
              <a:rPr sz="2300"/>
            </a:b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-  приготовление фарша и разновидность лепки изделий;</a:t>
            </a:r>
            <a:br>
              <a:rPr sz="2300"/>
            </a:b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- правила и подача горячего блюда «Пельмени»;</a:t>
            </a:r>
            <a:br>
              <a:rPr sz="2300"/>
            </a:b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С помощью этого пособия Вы можете сформировать необходимые знания по теме и проверить себя, ответив на вопросы для самоконтроля и сравнить ответы с эталоном.</a:t>
            </a:r>
            <a:br>
              <a:rPr sz="2300"/>
            </a:br>
            <a:br>
              <a:rPr sz="2300"/>
            </a:b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ЖЕЛАЮ УСПЕХОВ В ОСВОЕНИИ МАТЕРИАЛА!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DD0015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Пресное т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714240"/>
            <a:ext cx="867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сное тест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- тесто, приготовленное из муки, воды. Его роль - подчеркнуть вкусовые качества того продукта, которому оно как бы подчин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сное тест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применяется при приготовлени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апши домашней,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ареников, пельменей, чебуреко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сное тест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должно быть замешено как можно круч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итательная ценность блюд из пресного т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ются источнико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тательных вещест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белков, жиров, углеводов, минералов, витаминов)-за счет продуктов, входящих в состав теста и начи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сококалори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т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eda26[1]"/>
          <p:cNvPicPr/>
          <p:nvPr/>
        </p:nvPicPr>
        <p:blipFill>
          <a:blip r:embed="rId2"/>
          <a:stretch/>
        </p:blipFill>
        <p:spPr>
          <a:xfrm>
            <a:off x="7143840" y="497988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DD0015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Мука - основной компонент те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356840"/>
            <a:ext cx="8002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рошкообразный продукт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полученный при измельчении зерен злаковых куль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оброкачествен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того продукта мож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предел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рганолептическим способ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по запаху, цвету, вкус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состав этого продук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ходят белки, которы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бухая в вод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бразую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лейковин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ука может изготовля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 таких сортов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хлебных зерновых культур</a:t>
            </a:r>
            <a:r>
              <a:rPr b="0" i="1" lang="ru-RU" sz="2000" spc="-1" strike="noStrike" u="sng">
                <a:solidFill>
                  <a:srgbClr val="008000"/>
                </a:solidFill>
                <a:uFillTx/>
                <a:latin typeface="Arial"/>
              </a:rPr>
              <a:t>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ак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шеница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рожь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овёс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, ячмень, просо, кукуруза и ри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6"/>
          <a:stretch/>
        </p:blipFill>
        <p:spPr>
          <a:xfrm>
            <a:off x="5143680" y="2357280"/>
            <a:ext cx="3665520" cy="30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3" descr="DD0015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Изделия из пресного те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0L90LJCAC9LPMLCACULZ49CAXQDPODCA06EEPGCA03OCK1CAKKO9OMCAZG47UFCAB03N9VCA24601SCATLCFS0CA4PS7BDCAT5CXRSCA0JNT1TCAB3J41ZCACY67LICAZDCG31CAVX1RY4CAA38S9MCAQZ5G6W"/>
          <p:cNvPicPr/>
          <p:nvPr/>
        </p:nvPicPr>
        <p:blipFill>
          <a:blip r:embed="rId2"/>
          <a:stretch/>
        </p:blipFill>
        <p:spPr>
          <a:xfrm>
            <a:off x="684360" y="3068640"/>
            <a:ext cx="1904760" cy="1434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5480" y="10000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льмен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3"/>
          <a:stretch/>
        </p:blipFill>
        <p:spPr>
          <a:xfrm>
            <a:off x="3714840" y="3071880"/>
            <a:ext cx="1800000" cy="142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3" descr=""/>
          <p:cNvPicPr/>
          <p:nvPr/>
        </p:nvPicPr>
        <p:blipFill>
          <a:blip r:embed="rId4"/>
          <a:stretch/>
        </p:blipFill>
        <p:spPr>
          <a:xfrm>
            <a:off x="5500800" y="1413000"/>
            <a:ext cx="2857320" cy="1358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3" name="Picture 14" descr=""/>
          <p:cNvPicPr/>
          <p:nvPr/>
        </p:nvPicPr>
        <p:blipFill>
          <a:blip r:embed="rId5"/>
          <a:stretch/>
        </p:blipFill>
        <p:spPr>
          <a:xfrm>
            <a:off x="1908000" y="1413000"/>
            <a:ext cx="14418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Picture 15" descr=""/>
          <p:cNvPicPr/>
          <p:nvPr/>
        </p:nvPicPr>
        <p:blipFill>
          <a:blip r:embed="rId6"/>
          <a:stretch/>
        </p:blipFill>
        <p:spPr>
          <a:xfrm>
            <a:off x="1643040" y="4929120"/>
            <a:ext cx="1440000" cy="12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" name="Picture 16" descr=""/>
          <p:cNvPicPr/>
          <p:nvPr/>
        </p:nvPicPr>
        <p:blipFill>
          <a:blip r:embed="rId7"/>
          <a:stretch/>
        </p:blipFill>
        <p:spPr>
          <a:xfrm>
            <a:off x="6500880" y="3071880"/>
            <a:ext cx="1689120" cy="136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" name="AutoShape 17">
            <a:hlinkClick r:id="" action="ppaction://hlinkshowjump?jump=nextslide"/>
          </p:cNvPr>
          <p:cNvSpPr/>
          <p:nvPr/>
        </p:nvSpPr>
        <p:spPr>
          <a:xfrm>
            <a:off x="755640" y="3068640"/>
            <a:ext cx="1403280" cy="1403280"/>
          </a:xfrm>
          <a:custGeom>
            <a:avLst/>
            <a:gdLst>
              <a:gd name="textAreaLeft" fmla="*/ 90720 w 1403280"/>
              <a:gd name="textAreaRight" fmla="*/ 1312560 w 1403280"/>
              <a:gd name="textAreaTop" fmla="*/ 90720 h 1403280"/>
              <a:gd name="textAreaBottom" fmla="*/ 1312560 h 14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8"/>
          <p:cNvSpPr/>
          <p:nvPr/>
        </p:nvSpPr>
        <p:spPr>
          <a:xfrm>
            <a:off x="3132000" y="3141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9"/>
          <p:cNvSpPr/>
          <p:nvPr/>
        </p:nvSpPr>
        <p:spPr>
          <a:xfrm>
            <a:off x="2286000" y="4929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0"/>
          <p:cNvSpPr/>
          <p:nvPr/>
        </p:nvSpPr>
        <p:spPr>
          <a:xfrm>
            <a:off x="1979640" y="1557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2" descr=""/>
          <p:cNvPicPr/>
          <p:nvPr/>
        </p:nvPicPr>
        <p:blipFill>
          <a:blip r:embed="rId8"/>
          <a:stretch/>
        </p:blipFill>
        <p:spPr>
          <a:xfrm>
            <a:off x="3929040" y="4857840"/>
            <a:ext cx="1731960" cy="127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Text Box 26"/>
          <p:cNvSpPr/>
          <p:nvPr/>
        </p:nvSpPr>
        <p:spPr>
          <a:xfrm>
            <a:off x="2050920" y="148428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7"/>
          <p:cNvSpPr/>
          <p:nvPr/>
        </p:nvSpPr>
        <p:spPr>
          <a:xfrm>
            <a:off x="3857760" y="35719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ре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8"/>
          <p:cNvSpPr/>
          <p:nvPr/>
        </p:nvSpPr>
        <p:spPr>
          <a:xfrm>
            <a:off x="1714680" y="55720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нк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9"/>
          <p:cNvSpPr/>
          <p:nvPr/>
        </p:nvSpPr>
        <p:spPr>
          <a:xfrm>
            <a:off x="5651640" y="1413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пша домашня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1"/>
          <p:cNvSpPr/>
          <p:nvPr/>
        </p:nvSpPr>
        <p:spPr>
          <a:xfrm>
            <a:off x="6500880" y="3429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буре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2"/>
          <p:cNvSpPr/>
          <p:nvPr/>
        </p:nvSpPr>
        <p:spPr>
          <a:xfrm>
            <a:off x="4067280" y="5516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ва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3"/>
          <p:cNvSpPr/>
          <p:nvPr/>
        </p:nvSpPr>
        <p:spPr>
          <a:xfrm>
            <a:off x="6072120" y="4714920"/>
            <a:ext cx="2519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ду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иль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шбарм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4"/>
          <p:cNvSpPr/>
          <p:nvPr/>
        </p:nvSpPr>
        <p:spPr>
          <a:xfrm>
            <a:off x="6372360" y="16286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5"/>
          <p:cNvSpPr/>
          <p:nvPr/>
        </p:nvSpPr>
        <p:spPr>
          <a:xfrm>
            <a:off x="6858000" y="3357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6"/>
          <p:cNvSpPr/>
          <p:nvPr/>
        </p:nvSpPr>
        <p:spPr>
          <a:xfrm>
            <a:off x="4357800" y="50720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8" descr="DD0015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m02610"/>
          <p:cNvPicPr/>
          <p:nvPr/>
        </p:nvPicPr>
        <p:blipFill>
          <a:blip r:embed="rId2"/>
          <a:stretch/>
        </p:blipFill>
        <p:spPr>
          <a:xfrm>
            <a:off x="6572160" y="3786120"/>
            <a:ext cx="2098800" cy="2729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213920"/>
            <a:ext cx="88012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кулинарию 17 века сильное влияние оказали восточная и татарская кухня, что связано с присоединением во второй половине 16 века к Русскому государству Астраханского и Казанского ханств, Башкирии и Сибири. Именно в этот период в русскую кухню и попали блюда из пресного теста: лапша, пельмени и др. С тех пор блюда из пресного теста стали в Росс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дицион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7" descr="DD0015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2"/>
          <p:cNvSpPr/>
          <p:nvPr/>
        </p:nvSpPr>
        <p:spPr>
          <a:xfrm>
            <a:off x="-2097000" y="-9882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-2097000" y="-9043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-2097000" y="-738180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-2097000" y="-57196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-2097000" y="-40575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-2097000" y="-2395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-2097000" y="-1557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-2097000" y="104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0"/>
          <p:cNvSpPr/>
          <p:nvPr/>
        </p:nvSpPr>
        <p:spPr>
          <a:xfrm>
            <a:off x="-2097000" y="17668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-2097000" y="34290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-2097000" y="50911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3"/>
          <p:cNvSpPr/>
          <p:nvPr/>
        </p:nvSpPr>
        <p:spPr>
          <a:xfrm>
            <a:off x="-2097000" y="6753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4"/>
          <p:cNvSpPr/>
          <p:nvPr/>
        </p:nvSpPr>
        <p:spPr>
          <a:xfrm>
            <a:off x="-2097000" y="8415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5"/>
          <p:cNvSpPr/>
          <p:nvPr/>
        </p:nvSpPr>
        <p:spPr>
          <a:xfrm>
            <a:off x="-2097000" y="10077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6"/>
          <p:cNvSpPr/>
          <p:nvPr/>
        </p:nvSpPr>
        <p:spPr>
          <a:xfrm>
            <a:off x="-2097000" y="117396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7"/>
          <p:cNvSpPr/>
          <p:nvPr/>
        </p:nvSpPr>
        <p:spPr>
          <a:xfrm>
            <a:off x="-2097000" y="134017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8"/>
          <p:cNvSpPr/>
          <p:nvPr/>
        </p:nvSpPr>
        <p:spPr>
          <a:xfrm>
            <a:off x="-2097000" y="15063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9"/>
          <p:cNvSpPr/>
          <p:nvPr/>
        </p:nvSpPr>
        <p:spPr>
          <a:xfrm>
            <a:off x="-2097000" y="167259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0"/>
          <p:cNvSpPr/>
          <p:nvPr/>
        </p:nvSpPr>
        <p:spPr>
          <a:xfrm>
            <a:off x="-2097000" y="-1571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1"/>
          <p:cNvSpPr/>
          <p:nvPr/>
        </p:nvSpPr>
        <p:spPr>
          <a:xfrm>
            <a:off x="-2097000" y="-7333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2"/>
          <p:cNvSpPr/>
          <p:nvPr/>
        </p:nvSpPr>
        <p:spPr>
          <a:xfrm>
            <a:off x="-2097000" y="92880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3"/>
          <p:cNvSpPr/>
          <p:nvPr/>
        </p:nvSpPr>
        <p:spPr>
          <a:xfrm>
            <a:off x="-2097000" y="2590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4"/>
          <p:cNvSpPr/>
          <p:nvPr/>
        </p:nvSpPr>
        <p:spPr>
          <a:xfrm>
            <a:off x="-2097000" y="4253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5"/>
          <p:cNvSpPr/>
          <p:nvPr/>
        </p:nvSpPr>
        <p:spPr>
          <a:xfrm>
            <a:off x="-2097000" y="59151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6"/>
          <p:cNvSpPr/>
          <p:nvPr/>
        </p:nvSpPr>
        <p:spPr>
          <a:xfrm>
            <a:off x="-2097000" y="6753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7"/>
          <p:cNvSpPr/>
          <p:nvPr/>
        </p:nvSpPr>
        <p:spPr>
          <a:xfrm>
            <a:off x="-2097000" y="8415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1"/>
          <p:cNvSpPr/>
          <p:nvPr/>
        </p:nvSpPr>
        <p:spPr>
          <a:xfrm>
            <a:off x="-4593960" y="3079080"/>
            <a:ext cx="37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Приготовление пельменей</a:t>
            </a:r>
            <a:br>
              <a:rPr sz="44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стоит из трех операций: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. Замес теста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. Приготовление фарша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3. Формовани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m02604"/>
          <p:cNvPicPr/>
          <p:nvPr/>
        </p:nvPicPr>
        <p:blipFill>
          <a:blip r:embed="rId2"/>
          <a:stretch/>
        </p:blipFill>
        <p:spPr>
          <a:xfrm>
            <a:off x="3286080" y="2714760"/>
            <a:ext cx="2786040" cy="36208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15" name="Picture 5" descr="m02607"/>
          <p:cNvPicPr/>
          <p:nvPr/>
        </p:nvPicPr>
        <p:blipFill>
          <a:blip r:embed="rId3"/>
          <a:stretch/>
        </p:blipFill>
        <p:spPr>
          <a:xfrm>
            <a:off x="6429240" y="2714760"/>
            <a:ext cx="2527560" cy="3643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16" name="Rectangle 33"/>
          <p:cNvSpPr/>
          <p:nvPr/>
        </p:nvSpPr>
        <p:spPr>
          <a:xfrm>
            <a:off x="500040" y="4786200"/>
            <a:ext cx="2357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3"/>
          <p:cNvSpPr/>
          <p:nvPr/>
        </p:nvSpPr>
        <p:spPr>
          <a:xfrm>
            <a:off x="652320" y="4938840"/>
            <a:ext cx="2357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3"/>
          <p:cNvSpPr/>
          <p:nvPr/>
        </p:nvSpPr>
        <p:spPr>
          <a:xfrm>
            <a:off x="804960" y="5091120"/>
            <a:ext cx="2357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6" descr="m02603"/>
          <p:cNvPicPr/>
          <p:nvPr/>
        </p:nvPicPr>
        <p:blipFill>
          <a:blip r:embed="rId4"/>
          <a:stretch/>
        </p:blipFill>
        <p:spPr>
          <a:xfrm>
            <a:off x="214200" y="2714760"/>
            <a:ext cx="2692440" cy="36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7" descr="DD0015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2"/>
          <p:cNvSpPr/>
          <p:nvPr/>
        </p:nvSpPr>
        <p:spPr>
          <a:xfrm>
            <a:off x="-2097000" y="-9882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-2097000" y="-9043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-2097000" y="-738180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-2097000" y="-57196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-2097000" y="-40575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-2097000" y="-2395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-2097000" y="-1557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-2097000" y="104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-2097000" y="17668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-2097000" y="34290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2"/>
          <p:cNvSpPr/>
          <p:nvPr/>
        </p:nvSpPr>
        <p:spPr>
          <a:xfrm>
            <a:off x="-2097000" y="50911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-2097000" y="6753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4"/>
          <p:cNvSpPr/>
          <p:nvPr/>
        </p:nvSpPr>
        <p:spPr>
          <a:xfrm>
            <a:off x="-2097000" y="8415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-2097000" y="10077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-2097000" y="117396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7"/>
          <p:cNvSpPr/>
          <p:nvPr/>
        </p:nvSpPr>
        <p:spPr>
          <a:xfrm>
            <a:off x="-2097000" y="134017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8"/>
          <p:cNvSpPr/>
          <p:nvPr/>
        </p:nvSpPr>
        <p:spPr>
          <a:xfrm>
            <a:off x="-2097000" y="15063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9"/>
          <p:cNvSpPr/>
          <p:nvPr/>
        </p:nvSpPr>
        <p:spPr>
          <a:xfrm>
            <a:off x="-2097000" y="167259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0"/>
          <p:cNvSpPr/>
          <p:nvPr/>
        </p:nvSpPr>
        <p:spPr>
          <a:xfrm>
            <a:off x="-2097000" y="-1571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1"/>
          <p:cNvSpPr/>
          <p:nvPr/>
        </p:nvSpPr>
        <p:spPr>
          <a:xfrm>
            <a:off x="-2097000" y="-7333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2"/>
          <p:cNvSpPr/>
          <p:nvPr/>
        </p:nvSpPr>
        <p:spPr>
          <a:xfrm>
            <a:off x="-2097000" y="92880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3"/>
          <p:cNvSpPr/>
          <p:nvPr/>
        </p:nvSpPr>
        <p:spPr>
          <a:xfrm>
            <a:off x="-2097000" y="2590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24"/>
          <p:cNvSpPr/>
          <p:nvPr/>
        </p:nvSpPr>
        <p:spPr>
          <a:xfrm>
            <a:off x="-2097000" y="4253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5"/>
          <p:cNvSpPr/>
          <p:nvPr/>
        </p:nvSpPr>
        <p:spPr>
          <a:xfrm>
            <a:off x="-2097000" y="59151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6"/>
          <p:cNvSpPr/>
          <p:nvPr/>
        </p:nvSpPr>
        <p:spPr>
          <a:xfrm>
            <a:off x="-2097000" y="6753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7"/>
          <p:cNvSpPr/>
          <p:nvPr/>
        </p:nvSpPr>
        <p:spPr>
          <a:xfrm>
            <a:off x="-2097000" y="8415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1"/>
          <p:cNvSpPr/>
          <p:nvPr/>
        </p:nvSpPr>
        <p:spPr>
          <a:xfrm>
            <a:off x="-4593960" y="3079080"/>
            <a:ext cx="37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1. ЗАМЕС ТЕСТА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4200" y="1071360"/>
            <a:ext cx="3929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Муку просеять через мелкое сито, насыпать горкой на стол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Сделать в вершине горки углубление и влить в него яйца. </a:t>
            </a:r>
            <a:br>
              <a:rPr sz="2300"/>
            </a:b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В некоторых рецептах в пресное тесто добавляется щепотка сол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Готовое тесто закрывают салфеткой, дают постоять 20-30 минут для набухания клейковины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5" descr="m02602"/>
          <p:cNvPicPr/>
          <p:nvPr/>
        </p:nvPicPr>
        <p:blipFill>
          <a:blip r:embed="rId2"/>
          <a:stretch/>
        </p:blipFill>
        <p:spPr>
          <a:xfrm>
            <a:off x="4357800" y="1285920"/>
            <a:ext cx="2071440" cy="2692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1" name="Picture 36" descr="m02603"/>
          <p:cNvPicPr/>
          <p:nvPr/>
        </p:nvPicPr>
        <p:blipFill>
          <a:blip r:embed="rId3"/>
          <a:stretch/>
        </p:blipFill>
        <p:spPr>
          <a:xfrm>
            <a:off x="6643800" y="1285920"/>
            <a:ext cx="1928880" cy="271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Picture 7" descr="№1"/>
          <p:cNvPicPr/>
          <p:nvPr/>
        </p:nvPicPr>
        <p:blipFill>
          <a:blip r:embed="rId4"/>
          <a:stretch/>
        </p:blipFill>
        <p:spPr>
          <a:xfrm>
            <a:off x="5000760" y="4214880"/>
            <a:ext cx="2952720" cy="221436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6" descr="DD0015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2.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Приготовление фарша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ук, говядину, баранину и свин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вернуть через мясоруб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солить, поперчить по вкусу и тщательно перемешать.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m02604"/>
          <p:cNvPicPr/>
          <p:nvPr/>
        </p:nvPicPr>
        <p:blipFill>
          <a:blip r:embed="rId2"/>
          <a:stretch/>
        </p:blipFill>
        <p:spPr>
          <a:xfrm>
            <a:off x="4286160" y="1314360"/>
            <a:ext cx="2357640" cy="30639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57" name="Picture 5" descr="m02605"/>
          <p:cNvPicPr/>
          <p:nvPr/>
        </p:nvPicPr>
        <p:blipFill>
          <a:blip r:embed="rId3"/>
          <a:stretch/>
        </p:blipFill>
        <p:spPr>
          <a:xfrm>
            <a:off x="6643800" y="3600360"/>
            <a:ext cx="2289240" cy="29764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12:05:51Z</dcterms:created>
  <dc:creator>Дмитрий</dc:creator>
  <dc:description/>
  <dc:language>en-US</dc:language>
  <cp:lastModifiedBy>Школа</cp:lastModifiedBy>
  <dcterms:modified xsi:type="dcterms:W3CDTF">2020-11-12T08:02:54Z</dcterms:modified>
  <cp:revision>42</cp:revision>
  <dc:subject/>
  <dc:title>Пресное тесто и изделия из него</dc:title>
</cp:coreProperties>
</file>