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4A2-9DE5-4F16-BC88-40650945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75E-9B4F-4F35-84F6-34E25305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A6F-485F-4641-9B82-F5F19178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49C-BB38-4C81-8B4E-46E99B38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6F51-82DC-4EBF-ADD3-41581A47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7602-7581-47F1-9B92-5DACB9A7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415B-EE20-4E46-8427-D9FA7015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581A-14A6-46AF-8688-4E545B38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C01F-207F-4D1D-9C22-4C1CD6BF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5C8E-F846-42FA-80A4-83012BF5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91CA-A157-4E94-9946-37F9F820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16E-0A25-4C51-81E6-87AC8F76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2D2D-7D5F-4EA2-8CD3-003FE560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7E07-AC4F-4031-B2DA-085229D0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6F5E-6256-46B8-8A23-CAC62BC4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3ADD-A320-4F31-90ED-4B801A8A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C1D8-4DD2-45D9-B093-722A045B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B9536-033F-4D8F-92CB-0FE87310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9455A-8533-44C2-BF5A-9A89B5A0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5BDE1-EE19-49D9-A2AD-F654B02E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C7244-E873-48AD-AF7B-FD9823D2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9989F-05FD-4E1B-A700-0394F687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FFD-F642-46FE-A385-940A5B45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64407-DA6B-4C9D-8EAC-E8081DB0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71BCC-3523-46EE-87D7-F84544F4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DA764-6C98-43AD-B195-8A44A509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C6702-E349-40A0-8502-4AC6C88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7CBC3-40AA-479B-A8EF-8BD71737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18796-ADB4-4B63-8FA5-D363B85D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BC17C-4DAC-47FC-9D5C-2191A54D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B2A8B-4711-40A4-A62E-AFCEA28A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111E-94E5-447D-ADA5-1A55AAD1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41CC-818D-4954-8194-B241070A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C24-709F-4191-900F-7ED54937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4D77A-0183-4663-B27B-80AA3CDF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77BE-0DC2-469A-B584-F6CC006E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65A08-DC5E-4AD8-BC3E-A9E9787D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24BF1-992C-4187-96E2-5FF29A1B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F72F1-8364-49D2-A541-98132C41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4DA85-52A6-454D-8A3C-8C50C01B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053AE-1572-4696-AF51-E7DCD940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09EA-E931-4872-9A2B-2EA78A1A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454B2-A22C-4569-B219-720EF4B2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BA451-2A86-4A61-9B31-15C9A54F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4CD-2F10-42B7-9C3F-679962F1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E3A64-9E35-4CE1-8F6E-7A637CD3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BB191-9D9A-4454-9887-F2EADA61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D64DE-93F7-4D21-8486-1C25B399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91B24-8198-4DBB-A143-24BC50E0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E88331-78E9-4652-8585-51605513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DC54B-9CF3-4D3D-9DD9-DEC2801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6A5EE-129F-41B0-820D-FFA59F9B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FABF6-5851-4693-9DC9-2A8D3E60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81EB2-56ED-4F76-B33F-5F56B224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122C4-E6FF-4235-A850-8020BA86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1CD-9A91-44FC-87EB-ABB9160D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09397-7298-4262-9422-B1AD99EE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2E697-0F46-47F3-96DD-B74E35F1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9B58B-4486-4D2B-9B80-E9432978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A1A73-D06E-438B-A310-944E1D46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D31DB2-5E1E-4983-8681-AE3B9DBF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6FD82-43CA-4225-B81F-CA8232EB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9B8869-C75A-459F-961B-837DA2F6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E0A79-3D9D-4047-8E04-CC38EB35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13B82-6C46-46D8-A36B-B2DC8B73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A783F-6E0A-4820-9302-E943DDE3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0F5-E4AE-4A58-83B4-97AE7EC9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FE114-AE78-4873-B735-DC753240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914C7-AFA9-4770-BF65-9A2D7416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64359-8F47-445F-82A9-736B505F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E607C8-134A-4A79-8EB6-5FEA70F0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56667D-A7A6-41FB-AA0A-6FB16FC7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AC9C6-3ACB-485D-83BD-DC7D89F5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6B03B7-FB46-4794-8616-374DA74C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8A0083-38DF-40B2-BB0D-55BAC2CC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FAA99-C94C-467D-9AD8-8353545D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F983D-2E0D-459E-B5D3-A0C54988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281-1331-4B99-B6C3-39E848B3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49005-AF96-4293-B1F4-CEC5C8D4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74615-7802-4E80-8788-093EF996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B327E-B5BC-4293-B917-8848C8FC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E79CD-1AF1-4993-8528-52E36A22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368D5-EE29-47CA-B7B7-C9AF0206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8B530-9872-4346-8887-33A089ED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FA073-97AF-435C-9108-29F520ED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4D5FB-76B9-4BAA-9F84-56846A0C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AA5E2-A0D9-4CE4-B954-317B4814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BC197-1EC0-4EAF-B8EE-3622EB4B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FD9-1263-40A1-A16A-7DFF23BD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0BCFA-56CA-4533-994D-2B5738E1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30B9F-DE80-40BD-BF56-CEB30A97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BC463-A985-42A1-99B6-A8F89618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7773F-F47E-4CE9-B99E-2787C18F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35E24-3ECC-49FC-9B2B-3EA35733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4381D-59AE-498B-A0F3-7C3630D9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C2732-DD44-4008-A77E-A993E0B4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BEDA-28C1-4732-AA36-05DA4F236E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12F8-702C-4289-8BC0-5D7F196CAE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7D14-508D-433B-9A38-02A21BC0F1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1FD1-429D-4B90-A952-FFDFE68E84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1322-6277-4104-9C10-6C4A8A2E35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B816-3291-4BCC-9DCA-565CF4756B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D873-5E3A-4412-A6ED-BA9A53386C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7CDB-616B-4A9D-AE9A-C13CA258E9E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Rectangle 2"/>
          <p:cNvGrpSpPr/>
          <p:nvPr/>
        </p:nvGrpSpPr>
        <p:grpSpPr>
          <a:xfrm>
            <a:off x="2152800" y="4230720"/>
            <a:ext cx="6589440" cy="2243160"/>
            <a:chOff x="2152800" y="4230720"/>
            <a:chExt cx="6589440" cy="2243160"/>
          </a:xfrm>
        </p:grpSpPr>
        <p:pic>
          <p:nvPicPr>
            <p:cNvPr id="399" name="Rectangle 2" descr=""/>
            <p:cNvPicPr/>
            <p:nvPr/>
          </p:nvPicPr>
          <p:blipFill>
            <a:blip r:embed="rId1"/>
            <a:stretch/>
          </p:blipFill>
          <p:spPr>
            <a:xfrm>
              <a:off x="2152800" y="4230720"/>
              <a:ext cx="65894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209680" y="4267080"/>
              <a:ext cx="6477120" cy="21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b32c16"/>
                  </a:solidFill>
                  <a:latin typeface="Century Gothic"/>
                </a:rPr>
                <a:t>ПСИХОЛОГИЧЕСКАЯ ПОДГОТОВКА К ЕГЭ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1" name="Picture 46" descr="Экзамен"/>
          <p:cNvPicPr/>
          <p:nvPr/>
        </p:nvPicPr>
        <p:blipFill>
          <a:blip r:embed="rId2"/>
          <a:stretch/>
        </p:blipFill>
        <p:spPr>
          <a:xfrm>
            <a:off x="2362320" y="380880"/>
            <a:ext cx="6265800" cy="452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КАК ПОБЕДИТЬ ТРЕВОЖНОСТЬ?</a:t>
            </a: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1. </a:t>
            </a: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ПРИСПОСОБЛЕНИЕ К ОКРУЖАЮЩЕЙ СРЕДЕ. 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Опыт показывает, что мощным источником стресса для школьников, сдающих ЕГЭ, является незнакомое место проведения экзамена и незнакомые педагоги — члены экзаменационных комиссий. 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ля ослабления влияния этого стрессогенного фактора на учащихся целесообразно по возможности побывать на месте проведения будущего экзамена, осмотреться, отметить достоинства и недостатки этого места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ля того чтобы снизить тревогу школьников, связанную с присутствием на экзамене «чужих» учителей, администрации школы, стоит пригласить членов экзаменационных комиссий на встречу с учащимися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Цель этой встречи — демонстрация приглашенными педагогами доброжелательного отношения к детям, готовности к пониманию и поддержке их в предстоящем испытании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32c16"/>
                </a:solidFill>
                <a:latin typeface="Century Gothic"/>
              </a:rPr>
              <a:t>КАК ПОБЕДИТЬ ТРЕВОЖНОСТЬ?</a:t>
            </a:r>
            <a:endParaRPr b="0" lang="en-US" sz="44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1" lang="ru-RU" sz="2100" spc="-1" strike="noStrike">
                <a:solidFill>
                  <a:srgbClr val="000000"/>
                </a:solidFill>
                <a:latin typeface="Century Gothic"/>
              </a:rPr>
              <a:t>ПЕРЕМЕИНОВАНИЕ. 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Gothic"/>
              </a:rPr>
              <a:t>Наибольшую тревогу вызывает не само событие (например, предстоящий экзамен), а мысли по поводу этого события. 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b32c16"/>
                </a:solidFill>
                <a:latin typeface="Century Gothic"/>
              </a:rPr>
              <a:t>ВАЖНА УВЕРЕННОСТЬ В ТОМ, ЧТО ВСЁ БУДЕТ ХОРОШО,  МЫСЛИ об экзамене ДОЛЖНЫ БЫТЬ ТОЛЬКО ПОЗИТИВНЫЕ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entury Gothic"/>
              </a:rPr>
              <a:t>Полезно дать позитивное или нейтральное мысленное определение экзамену, делающее восприятие этого события более спокойным: 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Century Gothic"/>
              </a:rPr>
              <a:t>не «трудное испытание», не «стресс», не «крах», а просто «тестирование» или «очередной экзамен». 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Gothic"/>
              </a:rPr>
              <a:t>КАК ПОБЕДИТЬ  ТРЕВОЖНОСТЬ?</a:t>
            </a:r>
            <a:endParaRPr b="0" lang="en-US" sz="4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3. </a:t>
            </a: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ОБСУЖДЕНИЕ ВОЗМОЖНЫХ НЕПРЕДСКАЗУЕМЫХ СТРЕССОВЫХ СИТУАЦИЙ  НА ЭКЗАМЕНЕ  И ЗАРАНЕЕ ПРОДУМАТЬ СВОИ ДЕЙСТВИЯ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Обсудить вопросы: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1. Что делать, если ты допустил ошибку при заполнении теста и заметил её?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2. Как вести себя, если не знаешь ответ?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И другие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Gothic"/>
              </a:rPr>
              <a:t>КАК ПОБЕДИТЬ ТРЕВОЖНОСТЬ?</a:t>
            </a:r>
            <a:endParaRPr b="0" lang="en-US" sz="4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38080" y="1905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БЫ СНИЗИТЬ ТРЕВОЖНОСТЬ ПОЛЕЗНО  ДЕТАЛЬНО НАРИСОВАТЬ СИТУАЦИЮ ЭКЗАМЕНА В ВООБРАЖЕНИИ, А ЗАТЕМ ПОСЛЕ КАЖДОЙ ВООБРАЖАЕМОЙ КАРТИНЫ  ПОСТАРАТЬСЯ  РАССЛАБИТЬСЯ НА НЕСКОЛЬКО СЕКУНД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686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ажным шагом к успеху на экзамене является психологическая установка на успех, абсолютная уверенность в том,  что цель будет достигнута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2c16"/>
                </a:solidFill>
                <a:latin typeface="Century Gothic"/>
              </a:rPr>
              <a:t>Необходимо настраивать детей на успех, удачу!</a:t>
            </a:r>
            <a:r>
              <a:rPr b="0" lang="ru-RU" sz="2400" spc="-1" strike="noStrike">
                <a:solidFill>
                  <a:srgbClr val="b32c1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8" name="Picture 5" descr="examen"/>
          <p:cNvPicPr/>
          <p:nvPr/>
        </p:nvPicPr>
        <p:blipFill>
          <a:blip r:embed="rId1"/>
          <a:stretch/>
        </p:blipFill>
        <p:spPr>
          <a:xfrm>
            <a:off x="1122480" y="2511360"/>
            <a:ext cx="6753240" cy="691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ПСИХОЛОГИЧЕСКИЕ СОВЕТЫ ПО ИНДИВИДУАЛЬНОМУ ПОДХОДУ ПРИ ПОДГОТОВКЕ К СДАЧЕ ЕГЭ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8153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Calibri"/>
                <a:ea typeface="Times New Roman"/>
              </a:rPr>
              <a:t>Правополушарные дет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ткая психологическая характеристика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богатое воображени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хорошо развитое образное мышлени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екрасно воспринимают метафоры, образы, сравнен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ые трудности, возникающие при сдаче ЕГЭ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затруднения при необходимости четко логически мыслить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трудно сосредоточиться на фактах и теоретических построениях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деятельность прохождения тестирования левополушарна по своей сут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тегии поддержк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необходимо задействовать воображение и образное мышление: использовать сравнения, образы, метафоры, рисунк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возможно, им стоит начинать именно с заданий В и С, там, где требуется развернутый ответ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Century Gothic"/>
              </a:rPr>
              <a:t>Дети – синтетик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Gothic"/>
              </a:rPr>
              <a:t>Краткая психологическая характеристика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-          опираются в большей степени на общее, а не на частности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-          мало времени уделяют деталям, потому что их интересуют общие взаимосвяз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Gothic"/>
              </a:rPr>
              <a:t>Основные трудности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-          трудности с анализом, выделением опорных моментов в информации, делением материала на смысловые блоки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-          при сдаче ЕГЭ могут испытывать затруднения, связанные с необходимостью аналитической деятельности и оперирования конкретными фактам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Gothic"/>
              </a:rPr>
              <a:t>Стратегии поддержки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-          при изучении каждой темы следует ее обобщить, выделить основные боки и наполнять их конкретным материалом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-          при работе с тестами синтетиков нужно ориентировать на выявление основного в каждом задании: что здесь является главным, на что стоит обращать внимание в первую очередь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-          в начале работы с тестовым материалом стоит ознакомиться с материалом в целом: просмотреть имеющиеся задания, бегло ознакомиться с их содержанием. Это поможет им сориентироватьс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ПСИХОЛОГИЧЕСКИЕ СОВЕТЫ ПО ИНДИВИДУАЛЬНОМУ ПОДХОДУ ПРИ ПОДГОТОВКЕ К СДАЧЕ ЕГЭ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Century Gothic"/>
              </a:rPr>
              <a:t>Тревожные дет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Краткая характеристика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часто перепроверяют уже сделанное, постоянно исправляют написанно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задают множество уточняющих вопросов, часто переспрашивают учителя, проверяя, верно ли они его понял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часто грызут ручки, теребят пальцы или волосы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Основные трудност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отсутствие эмоционального контакта со взрослым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Стратегии поддержк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ельзя нагнетать обстановку, напоминая о серьезности предстоящего экзамена и значимости его результатов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создавать ситуацию успеха, поощрения, поддержан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ПСИХОЛОГИЧЕСКИЕ СОВЕТЫ ПО ИНДИВИДУАЛЬНОМУ ПОДХОДУ ПРИ ПОДГОТОВКЕ К СДАЧЕ ЕГЭ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0" y="1600200"/>
            <a:ext cx="914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32c16"/>
                </a:solidFill>
                <a:latin typeface="Century Gothic"/>
              </a:rPr>
              <a:t>Неуверенные дет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Краткая характеристика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        не умеют опираться на собственное мнение,  склонны прибегать к помощи других людей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        хорошо справляются с заданиями по образцу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        часто подолгу не могут приступить к выполнению задания, но достаточно педагогу подсказать им первый шаг, как они начинают работать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Основные трудности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необходимость опираться только на собственные ресурсы и принимать самостоятельное решени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Стратегии поддержки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ри работе с такими детьми необходимо воздерживаться от советов и рекомендаций. Лучше предложить выбрать ему самому и терпеливо дождаться, когда он примет решение. («Как ты думаешь, с чего лучше начинать: с простых или сложных заданий?»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ПСИХОЛОГИЧЕСКИЕ СОВЕТЫ ПО ИНДИВИДУАЛЬНОМУ ПОДХОДУ ПРИ ПОДГОТОВКЕ К СДАЧЕ ЕГЭ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-360" y="1600200"/>
            <a:ext cx="89154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Century Gothic"/>
              </a:rPr>
              <a:t>Дети, испытывающие недостаток произвольности и самоорганизации 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Краткая характеристика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          обычно эти дети характеризуют как «невнимательных», «рассеянных»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          у таких детей часто неустойчивая работоспособность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          они могут часто отвлекатьс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Основные трудност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непроизвольные дети при общем высоком уровне могут нерационально использовать врем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Стратегии поддержк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          важно научить ребенка использовать для саморегуляции деятельности различные материальные средства (часы, линейка, указывающая нужную строку и т.д.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ПСИХОЛОГИЧЕСКИЕ СОВЕТЫ ПО ИНДИВИДУАЛЬНОМУ ПОДХОДУ ПРИ ПОДГОТОВКЕ К СДАЧЕ ЕГЭ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2c16"/>
                </a:solidFill>
                <a:latin typeface="Century Gothic"/>
              </a:rPr>
              <a:t>ПСИХОЛОГИЧЕСКИЕ ТРУДНОСТИ ЕГЭ</a:t>
            </a:r>
            <a:endParaRPr b="0" lang="en-US" sz="36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50292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Познавательные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Личностные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Процессуальные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4" name="Picture 7" descr="Чтение"/>
          <p:cNvPicPr/>
          <p:nvPr/>
        </p:nvPicPr>
        <p:blipFill>
          <a:blip r:embed="rId1"/>
          <a:stretch/>
        </p:blipFill>
        <p:spPr>
          <a:xfrm>
            <a:off x="5257800" y="2133720"/>
            <a:ext cx="342900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6840" y="1600200"/>
            <a:ext cx="8458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Century Gothic"/>
              </a:rPr>
              <a:t>Перфекционисты и «отличники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Краткая психологическая характеристика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          высокая или очень высокая успеваемость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          ответственность, организованность, исполнительность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          перфекционисты очень чувствительны к похвале, для них характерен очень высокий уровень притязаний и крайне неустойчивая самооцен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Основные трудност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им нужно сделать все, причем безошибочно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Стратегии поддержк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помочь осознать разницу между «достаточным» и «превосходным»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им необходимо понять, что для получения отличной оценки не необходимости выполнять все задан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ПСИХОЛОГИЧЕСКИЕ СОВЕТЫ ПО ИНДИВИДУАЛЬНОМУ ПОДХОДУ ПРИ ПОДГОТОВКЕ К СДАЧЕ ЕГЭ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ПСИХОЛОГИЧЕСКИЕ СОВЕТЫ ПО ИНДИВИДУАЛЬНОМУ ПОДХОДУ ПРИ ПОДГОТОВКЕ К СДАЧЕ ЕГЭ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Century Gothic"/>
              </a:rPr>
              <a:t>Астеничные дет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Краткая психологическая характеристика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высокая утомляемость, истощаемость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при утомляемости резко увеличивается количество ошибок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Основные трудност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высокая вероятность снижения качества работы, возникновения ощущения усталост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Стратегии поддержк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оптимальный режим подготовки, чтобы ребенок не переутомился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консультация у невролога о возможности поддержать ребенка с помощью витаминов или травяных сборо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0" y="1295280"/>
            <a:ext cx="914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32c16"/>
                </a:solidFill>
                <a:latin typeface="Century Gothic"/>
              </a:rPr>
              <a:t>Гипертимные дет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Краткая психологическая характеристика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 очень быстрые, энергичные, активные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        импульсивны, порой несдержанн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        склонны пренебрегать точностью и аккуратностью во имя скорости и результативности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        сниженная учебная мотивация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Основные трудности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- «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лабое место» гипертимных детей – собранность, концентрация внимания, тщательность и аккуратность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Стратегии поддержки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        необходимо развивать навыки самопроверки: по завершении работы найти ошибки, самостоятельно проверить результаты выполнения зад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        необходимо создать ощущение важности ситуации экзамена. Это именно тот случай, когда нужно со всей серьезностью разъяснить, какое огромное значение имеют результаты ЕГЭ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ПСИХОЛОГИЧЕСКИЕ СОВЕТЫ ПО ИНДИВИДУАЛЬНОМУ ПОДХОДУ ПРИ ПОДГОТОВКЕ К СДАЧЕ ЕГЭ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0" y="1676520"/>
            <a:ext cx="914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32c16"/>
                </a:solidFill>
                <a:latin typeface="Century Gothic"/>
              </a:rPr>
              <a:t>Застревающие дет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Краткая психологическая характеристика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        они с трудом переключаются с одного задания на другое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        им требуется длительный ориентировочный период при выполнении каждого зад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        если их начинают торопить, темп их деятельности еще больше снижается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Основные трудности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необходимо быстро переключаться с одного задания на другое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актуализировать знания из различных разделов школьной программы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Стратегии поддержки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        Научить ребенка пользоваться часами для того, чтобы определять время, необходимое для каждого задани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          Можно заранее определить, сколько времени следует отвести на каждое задание на экзамен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ПСИХОЛОГИЧЕСКИЕ СОВЕТЫ ПО ИНДИВИДУАЛЬНОМУ ПОДХОДУ ПРИ ПОДГОТОВКЕ К СДАЧЕ ЕГЭ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0" y="1676520"/>
            <a:ext cx="914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Century Gothic"/>
              </a:rPr>
              <a:t>Аудиалы и кинестетик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Краткая психологическая характеристика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          основная модальность восприятия: аудиальная (слуховая) и кинестетическая (тактильная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Основные трудност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          ЕГЭ имеет исключительно визуальную форму. Это облегчает задачу для визуалов, одновременно усложняя ее для аудиалов и кинестетик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Стратегии поддержки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аудиалы могут воспользоваться речью, то есть очень тихо проговаривать задания вслух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кинестетики могут помогать себе простыми движениями (например, подвигать ногами под столом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ПСИХОЛОГИЧЕСКИЕ СОВЕТЫ ПО ИНДИВИДУАЛЬНОМУ ПОДХОДУ ПРИ ПОДГОТОВКЕ К СДАЧЕ ЕГЭ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b32c16"/>
                </a:solidFill>
                <a:latin typeface="Century Gothic"/>
              </a:rPr>
              <a:t>КАК ВЕСТИ СЕБЯ ВО ВРЕМЯ СДАЧИ ЭКЗАМЕНОВ  В ФОРМЕ ЕГЭ?</a:t>
            </a:r>
            <a:endParaRPr b="0" lang="en-US" sz="26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Будь внимателен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Соблюдай правила поведения на экзамене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Сосредоточься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Не бойся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Начни с лёгкого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Пропускай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1" name="Picture 7" descr="2004590-83621-3-embed-embed"/>
          <p:cNvPicPr/>
          <p:nvPr/>
        </p:nvPicPr>
        <p:blipFill>
          <a:blip r:embed="rId1"/>
          <a:stretch/>
        </p:blipFill>
        <p:spPr>
          <a:xfrm>
            <a:off x="3924360" y="2997360"/>
            <a:ext cx="4375080" cy="335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Читай задание до конца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Думай только о текущем задании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Исключай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Запланируй два круга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Угадывай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Проверяй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Не огорчайся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3049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b32c16"/>
                </a:solidFill>
                <a:latin typeface="Calibri"/>
              </a:rPr>
              <a:t>Как вести себя во время сдачи экзаменов  в форме ЕГЭ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9" descr="1244648426_b_49785"/>
          <p:cNvPicPr/>
          <p:nvPr/>
        </p:nvPicPr>
        <p:blipFill>
          <a:blip r:embed="rId1"/>
          <a:stretch/>
        </p:blipFill>
        <p:spPr>
          <a:xfrm>
            <a:off x="4716360" y="314172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Gothic"/>
              </a:rPr>
              <a:t>Я ГОТОВ К ЕГЭ !</a:t>
            </a:r>
            <a:endParaRPr b="0" lang="en-US" sz="4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79280" y="1699920"/>
            <a:ext cx="8715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 </a:t>
            </a:r>
            <a:r>
              <a:rPr b="1" lang="ru-RU" sz="2400" spc="-1" strike="noStrike" u="sng">
                <a:solidFill>
                  <a:srgbClr val="b32c16"/>
                </a:solidFill>
                <a:uFillTx/>
                <a:latin typeface="Century Gothic"/>
              </a:rPr>
              <a:t>Я ДОЛЖЕН</a:t>
            </a:r>
            <a:r>
              <a:rPr b="1" lang="ru-RU" sz="2400" spc="-1" strike="noStrike">
                <a:solidFill>
                  <a:srgbClr val="b32c16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b32c1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СДЕЛАТЬ ТО, ЧТО СОБИРАЮСЬ</a:t>
            </a:r>
            <a:r>
              <a:rPr b="1" lang="ru-RU" sz="2400" spc="-1" strike="noStrike">
                <a:solidFill>
                  <a:srgbClr val="4bcf3d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b32c16"/>
                </a:solidFill>
                <a:uFillTx/>
                <a:latin typeface="Century Gothic"/>
              </a:rPr>
              <a:t>Я МОГУ</a:t>
            </a:r>
            <a:r>
              <a:rPr b="1" lang="ru-RU" sz="2400" spc="-1" strike="noStrike">
                <a:solidFill>
                  <a:srgbClr val="b32c16"/>
                </a:solidFill>
                <a:latin typeface="Century Gothic"/>
              </a:rPr>
              <a:t>,</a:t>
            </a:r>
            <a:r>
              <a:rPr b="1" lang="ru-RU" sz="2400" spc="-1" strike="noStrike">
                <a:solidFill>
                  <a:srgbClr val="b32c16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СПОСОБЕН, СДАТЬ ЕГЭ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 </a:t>
            </a:r>
            <a:r>
              <a:rPr b="1" lang="ru-RU" sz="2400" spc="-1" strike="noStrike" u="sng">
                <a:solidFill>
                  <a:srgbClr val="b32c16"/>
                </a:solidFill>
                <a:uFillTx/>
                <a:latin typeface="Century Gothic"/>
              </a:rPr>
              <a:t>Я ХОЧУ </a:t>
            </a:r>
            <a:r>
              <a:rPr b="1" lang="ru-RU" sz="2400" spc="-1" strike="noStrike">
                <a:solidFill>
                  <a:srgbClr val="b32c16"/>
                </a:solidFill>
                <a:latin typeface="Century Gothic"/>
              </a:rPr>
              <a:t>       </a:t>
            </a: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ПРОЙТИ ЭТО ИСПЫТАН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00"/>
                </a:solidFill>
                <a:uFillTx/>
                <a:latin typeface="Century Gothic"/>
              </a:rPr>
              <a:t> </a:t>
            </a:r>
            <a:r>
              <a:rPr b="1" lang="ru-RU" sz="2400" spc="-1" strike="noStrike" u="sng">
                <a:solidFill>
                  <a:srgbClr val="b32c16"/>
                </a:solidFill>
                <a:uFillTx/>
                <a:latin typeface="Century Gothic"/>
              </a:rPr>
              <a:t>Я ДЕЛАЮ</a:t>
            </a:r>
            <a:r>
              <a:rPr b="1" lang="ru-RU" sz="2400" spc="-1" strike="noStrike">
                <a:solidFill>
                  <a:srgbClr val="b32c16"/>
                </a:solidFill>
                <a:latin typeface="Century Gothic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ВСЕ, ЧТОБЫ ДОСТИЧЬ ЭТОЙ ЦЕЛИ –      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    ОДНОЙ ИЗ </a:t>
            </a:r>
            <a:r>
              <a:rPr b="1" lang="ru-RU" sz="2400" spc="-1" strike="noStrike">
                <a:solidFill>
                  <a:srgbClr val="b32c16"/>
                </a:solidFill>
                <a:latin typeface="Century Gothic"/>
              </a:rPr>
              <a:t>ОЧЕНЬ, ОЧЕНЬ, ОЧЕН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entury Gothic"/>
              </a:rPr>
              <a:t>                        </a:t>
            </a:r>
            <a:r>
              <a:rPr b="1" lang="ru-RU" sz="2400" spc="-1" strike="noStrike">
                <a:solidFill>
                  <a:srgbClr val="b32c16"/>
                </a:solidFill>
                <a:latin typeface="Century Gothic"/>
              </a:rPr>
              <a:t>МНОГИХ</a:t>
            </a:r>
            <a:r>
              <a:rPr b="1" lang="ru-RU" sz="2400" spc="-1" strike="noStrike">
                <a:solidFill>
                  <a:srgbClr val="008000"/>
                </a:solidFill>
                <a:latin typeface="Century Gothic"/>
              </a:rPr>
              <a:t> ЦЕЛЕЙ МОЕЙ ЖИЗНИ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4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32c16"/>
                </a:solidFill>
                <a:latin typeface="Arial"/>
              </a:rPr>
              <a:t>ОСНОВНЫЕ ПРОБЛЕМЫ</a:t>
            </a:r>
            <a:endParaRPr b="0" lang="en-US" sz="54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784872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Обезвоживание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Нарушение гармоничной работы </a:t>
            </a:r>
            <a:r>
              <a:rPr b="1" lang="ru-RU" sz="3300" spc="-1" strike="noStrike">
                <a:solidFill>
                  <a:srgbClr val="b32c16"/>
                </a:solidFill>
                <a:latin typeface="Arial"/>
              </a:rPr>
              <a:t>левого и правого полушарий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Кислородное голодание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Arial"/>
              </a:rPr>
              <a:t>ОБЕЗВОЖИВАНИЕ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Перед экзаменом или во время него целесообразно выпить несколько глотков воды.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В антистрессовых целях воду пьют за 20 минут до или через 30 минут после еды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Лучше всего подходит минеральная вода, ибо она содержит ионы калия или натрия, участвующие в электрохимических реакциях. Можно пить просто чистую воду или зеленый чай.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32c16"/>
                </a:solidFill>
                <a:latin typeface="Century Gothic"/>
              </a:rPr>
              <a:t>ПОЗНАВАТЕЛЬНЫЕ ТРУДНОСТИ: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Century Gothic"/>
              </a:rPr>
              <a:t>Причины познавательных трудностей</a:t>
            </a:r>
            <a:r>
              <a:rPr b="0" lang="ru-RU" sz="2000" spc="-1" strike="noStrike">
                <a:solidFill>
                  <a:srgbClr val="b32c16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едостаточный объем знани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едостаточная сформированность навыков работы с тестовыми заданиям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еспособность гибко  оперировать системой учебных понятий предмет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270320" y="1523880"/>
            <a:ext cx="4492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32c16"/>
                </a:solidFill>
                <a:latin typeface="Century Gothic"/>
              </a:rPr>
              <a:t>Необходимые психические функции</a:t>
            </a:r>
            <a:r>
              <a:rPr b="0" lang="ru-RU" sz="1800" spc="-1" strike="noStrike">
                <a:solidFill>
                  <a:srgbClr val="b32c16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сокая мобильность, переключаемость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сокий уровень организации деятельност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сокая и устойчивая работоспособность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сокий уровень концентрации внимания, произвольности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еткость и структурированность, комбинаторность мышлен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формированность внутреннего плана действий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b32c16"/>
                </a:solidFill>
                <a:latin typeface="Arial"/>
              </a:rPr>
              <a:t>НАРУШЕНИЕ ГАРМОНИЧНОЙ РАБОТЫ ЛЕВОГО И ПРАВОГО ПОЛУШАРИЙ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) Физическое упражнение, влияющее на гармонизацию работы левого и правого полушарий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«перекрестный шаг»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) Нарисовать на чистом листе бумаги косой крест, похожий на букву «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», и несколько минут созерцать его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95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Arial"/>
              </a:rPr>
              <a:t>КИСЛОРОДНОЕ ГОЛОДАНИЕ</a:t>
            </a: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Для борьбы с кислородным голоданием существует прием под названием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«энергетическое зевание»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Зевать необходимо тем чаще, чем более интенсивной умственной деятельностью вы заняты. Зевание во время экзамена очень полезно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Для того чтобы оградить свой организм от кислородного голодания, достаточно 3-5 зевков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32c16"/>
                </a:solidFill>
                <a:latin typeface="Century Gothic"/>
              </a:rPr>
              <a:t>ДЫХАТЕЛЬНАЯ  ГИМНАСТИКА.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Успокаивающее дыхание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- выдох почти в два раза длиннее вдоха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и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билизирующем  дыхании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 -после вдоха задерживается дыхани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 случае сильного напряжения нужно перед началом экзамена сделать вдох и затем глубокий выдох –вдвое длиннее вдоха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УПРАЖНЕНИЯ ДЛЯ СНЯТИЯ СТРЕССА</a:t>
            </a: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08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entury Gothic"/>
              </a:rPr>
              <a:t>Упражнение 1. </a:t>
            </a: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Этот комплекс очень прост и эффективен, для его выполнения вам не потребуется ничего, кроме стены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Нахмурьте лоб, сильно напрягите лобные мышцы на 10 секунд; расслабьте их тоже на 10 секунд. Повторите упражнение быстрее, напрягая и расслабляя лобные мышцы с интервалом в 1 секунду. Фиксируйте свои ощущения в каждый момент времени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Крепко зажмурьтесь, напрягите веки на 10 секунд, затем расслабьте — тоже на 10 секунд. Повторите упражнение быстрее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Наморщите нос на 10 секунд. Расслабьте. Повторите быстрее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Крепко сожмите губы. Расслабьте. Повторите быстрее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Сильно упритесь затылком в стену, пол или кровать. Расслабьтесь. Повторите быстрее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Упритесь в стену левой лопаткой, пожмите плечами. Расслабьтесь. Повторите быстрее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Упритесь в стену правой лопаткой, пожмите плечами. Расслабьтесь. Повторите быстрее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32c16"/>
                </a:solidFill>
                <a:latin typeface="Century Gothic"/>
              </a:rPr>
              <a:t>УПРАЖНЕНИЕ 2.</a:t>
            </a: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Если обстановка вокруг накалена и вы чувствуете, что теряете самообладание, этот комплекс можно выполнить прямо на месте, за столом, практически незаметно для окружающих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Так сильно, как можете, напрягите пальцы ног. Затем расслабьте их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Напрягите и расслабьте ступни ног и лодыжки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Напрягите и расслабьте икры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Напрягите и расслабьте колени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Напрягите и расслабьте бедра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Напрягите и расслабьте ягодичные мышцы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Напрягите и расслабьте живот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Расслабьте спину и плечи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Расслабьте кисти рук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Расслабьте предплечья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Расслабьте шею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Расслабьте лицевые мышцы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Gothic"/>
              </a:rPr>
              <a:t>Посидите спокойно несколько минут, наслаждаясь полным покоем. Когда вам покажется, что медленно плывете, — вы полностью расслабились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b32c16"/>
                </a:solidFill>
                <a:latin typeface="Century Gothic"/>
              </a:rPr>
              <a:t>УПРАЖНЕНИЕ 3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Это упражнение можно делать в любом месте. Нужно сесть поудобнее, сложить руки на коленях, поставить ноги на землю и найти глазами предмет, на котором можно сосредоточить свое внимание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Начните считать от 10 до 1, на каждом счете делая вдох и медленный выдох. (Выдох должен быть заметно длиннее вдоха.)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Закройте глаза. Снова посчитайте от 10 до 1, задерживая дыхание на каждом счете. Медленно выдыхайте, представляя, как с каждым выдохом уменьшается и наконец  исчезает напряжение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b32c16"/>
                </a:solidFill>
                <a:latin typeface="Century Gothic"/>
              </a:rPr>
              <a:t>УПРАЖНЕНИЕ 3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е раскрывая глаз, считайте от 10 до 1. На этот раз представьте, что выдыхаемый вами воздух окрашен в теплые пастельные тона. С каждым выдохом цветной туман  сгущается, превращается в облак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ывите по ласковым облакам до тех пор, пока глаза не откроются сам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тобы найти нужный ритм счета, дышите медленно и спокойно, отгораживаясь от всевозможных волнений при помо­щи воображения. Этот метод очень хорошо ослабляет стресс. Через неделю начните считать от 20 до 1, еще через неделю — от 30 и так до 50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32c16"/>
                </a:solidFill>
                <a:latin typeface="Century Gothic"/>
              </a:rPr>
              <a:t>ТИБЕТСКИЙ ТОЧЕЧНЫЙ МАССАЖ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4267080" y="14479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4114800" y="3857760"/>
            <a:ext cx="44197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4648320" y="1254600"/>
            <a:ext cx="34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ectangle 12"/>
          <p:cNvSpPr/>
          <p:nvPr/>
        </p:nvSpPr>
        <p:spPr>
          <a:xfrm>
            <a:off x="4038480" y="1240920"/>
            <a:ext cx="5105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 - головокружение, боли сосудистого происхождения, мочевой пузырь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середина человека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точка находится в верхней трети борозды)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ек лица, нервные тики глаз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активизирует мозг, внутренние органы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 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антистрессовая точка»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уг, высокий эмоциональный накал, неожиданные негативные извест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собрание всех болезней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высшая точка в теменной ямке) – бессонница, неврозы, головная боль, мигрень, дистония и др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нить бамбука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головная боль сосудистого происхождения, плохое зрени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ясный свет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зрение, заложенность носа;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ланхол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1" name="Picture 11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809880" cy="374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6252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986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пруд ветров»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ные боли, укачивание в транспорте, неврозы, стрессы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986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большой позвонок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ессы, неврозы с истерией, сосудиста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стония, слабость, подверженность апатии, судорог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986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581640" cy="351144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32c16"/>
                </a:solidFill>
                <a:latin typeface="Century Gothic"/>
              </a:rPr>
              <a:t>ТИБЕТСКИЙ ТОЧЕЧНЫЙ МАССАЖ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352320" y="1143000"/>
            <a:ext cx="5791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954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дворец труда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ьшение утомляемости, стимулирование деятельности сердца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4600" indent="954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маленькая точка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угол ногтевого ложа) - артериальное давле-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ие, недостаточный пульс, волнение, тревога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4600" indent="954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маленький район»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мущение, боязнь покраснеть, силь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вное напряжение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4600" indent="954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божественные ворота»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дцебиение, крайняя раздражительнос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сонница, повышенная чувствительность, обидчивость, склонность к слезам, отрицательным эмоциям. Необходимо массировать стержне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4600" indent="954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радость жизни»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ражительность, утомляемость, рассеянность, психологический дискомфорт, сердце. Точка отвечает за бодрость и оптимиз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4600" indent="954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6" name="Picture 5" descr=""/>
          <p:cNvPicPr/>
          <p:nvPr/>
        </p:nvPicPr>
        <p:blipFill>
          <a:blip r:embed="rId1"/>
          <a:stretch/>
        </p:blipFill>
        <p:spPr>
          <a:xfrm>
            <a:off x="0" y="2057400"/>
            <a:ext cx="3581280" cy="167652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32c16"/>
                </a:solidFill>
                <a:latin typeface="Century Gothic"/>
              </a:rPr>
              <a:t>ТИБЕТСКИЙ ТОЧЕЧНЫЙ МАССАЖ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32c16"/>
                </a:solidFill>
                <a:latin typeface="Century Gothic"/>
              </a:rPr>
              <a:t>ЛИЧНОСТНЫЕ ТРУДНОСТИ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ичины личностных трудносте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едостаток информации о процедуре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тсутствие возможности получить поддержку взрослых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16000" y="1676160"/>
            <a:ext cx="41036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иды личностных трудностей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вышенный уровень трево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Мифология»    (нереалистические убеждения и предрассудки о ЕГЭ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еадекватная самооценк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32c16"/>
                </a:solidFill>
                <a:latin typeface="Century Gothic"/>
              </a:rPr>
              <a:t>ЧТО СКАЗАТЬ РОДИТЕЛЯМ?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684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. Не проявлять тревожность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Тревожное состояние  может передаваться на их детей и отрицательно сказаться на результатах тес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 Подбадривайте детей, повышайте их уверенность в себ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0" name="Picture 4" descr="родительское собрание"/>
          <p:cNvPicPr/>
          <p:nvPr/>
        </p:nvPicPr>
        <p:blipFill>
          <a:blip r:embed="rId1"/>
          <a:stretch/>
        </p:blipFill>
        <p:spPr>
          <a:xfrm>
            <a:off x="4038480" y="3505320"/>
            <a:ext cx="4734000" cy="3135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32c16"/>
                </a:solidFill>
                <a:latin typeface="Century Gothic"/>
              </a:rPr>
              <a:t>ЧТО СКАЗАТЬ РОДИТЕЛЯМ?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еспечить дома условия для подготовки к экзамена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едоставьте ребенку возможность потренироваться с различными вариантами тестовых задани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онтролируйте режим подготовки к экзаменам, не допускайте перегрузок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32c16"/>
                </a:solidFill>
                <a:latin typeface="Century Gothic"/>
              </a:rPr>
              <a:t>ЧТО СКАЗАТЬ РОДИТЕЛЯМ?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следние 12 часов перед экзаменом должны уйти на подготовку организма, а не   знани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кануне экзамена обеспечьте ребёнку полноценный отдых, он должен отдохнуть и как следует выспатьс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советуйте взять пиджак или кофту, так как в помещении может быть прохладно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ратите внимание на питание ребёнка. Рыба, творог, орехи, курага –стимулируют работу головного мозг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МЕНЮ ИЗ ПРОДУКТОВ, КОТОРЫЕ ПОМОГУТ УЛУЧШИТЬ ПАМЯТЬ </a:t>
            </a: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ОРКОВЬ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-  облегчает заучивание наизусть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НАНАС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– для удержания в памяти большого объёма текст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ВОКАДО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– источник энергии для кратковременной памят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2c16"/>
                </a:solidFill>
                <a:latin typeface="Century Gothic"/>
              </a:rPr>
              <a:t>МЕНЮ ИЗ ПРОДУКТОВ, КОТОРЫЕ ПОМОГУТ СКОНЦЕНТРИРОВАТЬ ВНИМАНИЕ</a:t>
            </a: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РЕВЕТК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- не дадут вниманию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слабнуть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ЕПЧАТЫЙ ЛУК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- помогает при переутомлении или психической усталост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РЕХ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- укрепляют нервную систему, стимулируют деятельность мозг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2c16"/>
                </a:solidFill>
                <a:latin typeface="Century Gothic"/>
              </a:rPr>
              <a:t>МЕНЮ ИЗ ПРОДУКТОВ, КОТОРЫЕ ПОМОГУТ УСПЕШНО ГРЫЗТЬ ГРАНИТ НАУКИ</a:t>
            </a: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АПУСТ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– снимает нервозн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МОН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– освежает мысли 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легчает восприятие информаци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ЕРНИК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– способствует кровообращению мозг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32c16"/>
                </a:solidFill>
                <a:latin typeface="Century Gothic"/>
              </a:rPr>
              <a:t>ВЛИЯНИЕ ПИЩИ НА ЭМОЦИИ.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РИК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– способствует выделению «гармона счастья»- эндорфин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ЛУБНИК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- быстро нейтрализует отрицательные эмоци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АНАНЫ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содержат серотонин –вещество, необходимое мозгу, чтобы тот просигнализировал: «Вы счастливы»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Gothic"/>
              </a:rPr>
              <a:t>Не критикуйте ребенка после экзамена!!!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32c16"/>
                </a:solidFill>
                <a:latin typeface="Century Gothic"/>
              </a:rPr>
              <a:t>ЧТО СКАЗАТЬ РОДИТЕЛЯМ?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2" dur="3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0" y="4724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32c16"/>
                </a:solidFill>
                <a:latin typeface="Century Gothic"/>
              </a:rPr>
              <a:t>Каждый, кто сдаёт экзамены, независимо от их результата,  постигает самую важную в жизни науку – умение не сдаваться, а провалившись – вдохнуть полной грудью и идти дальш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6" name="Picture 2" descr="C:\Users\1\Pictures\картинки к презентациям\К егэ11.jpg"/>
          <p:cNvPicPr/>
          <p:nvPr/>
        </p:nvPicPr>
        <p:blipFill>
          <a:blip r:embed="rId1"/>
          <a:stretch/>
        </p:blipFill>
        <p:spPr>
          <a:xfrm>
            <a:off x="987480" y="298440"/>
            <a:ext cx="6888240" cy="434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32c16"/>
                </a:solidFill>
                <a:latin typeface="Century Gothic"/>
              </a:rPr>
              <a:t>ПРОЦЕССУАЛЬНЫЕ ТРУДНОСТИ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ичины трудностей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едостаточное знакомство с процедурой экзамен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тсутствие четкой стратегии деятельност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иды трудностей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удности, связанные со спецификой фиксирования ответов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удности, связанные с ролью взрослого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удности, связанные с критериями оценки.</a:t>
            </a:r>
            <a:r>
              <a:rPr b="0" lang="ru-RU" sz="2400" spc="-1" strike="noStrike">
                <a:solidFill>
                  <a:srgbClr val="228224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8224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32c16"/>
                </a:solidFill>
                <a:latin typeface="Century Gothic"/>
              </a:rPr>
              <a:t>ГОТОВНОСТЬ К ЕГЭ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Познавательный компонен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(как результат обучения в школе)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Высокая мобильность, переключаемость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Высокий уровень организации деятельност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Высокая и устойчивая работоспособность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Высокий уровень концентрации внимания, произвольности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Четкость и структурированность мышления, комбинаторность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Сформированность внутреннего плана действий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Личностный компонент: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Наличие собственного адекватного мнения о ЕГЭ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Самооценка – умение адекватно оценить свои знания, умения, способност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Самостоятельность мышления и действия, целеустремленность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Процессуальный компонент: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Знакомство с процедурой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Навык работы с тестовыми материалам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Умение устанавливать  контакты в новой обстановке и с незнакомыми людьм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Владение способами релаксаци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ЗАДАЧИ ПСИХОЛОГИЧЕСКОЙ РАБОТЫ С УЧАЩИМИСЯ</a:t>
            </a:r>
            <a:r>
              <a:rPr b="1" lang="ru-RU" sz="2700" spc="-1" strike="noStrike">
                <a:solidFill>
                  <a:srgbClr val="b32c16"/>
                </a:solidFill>
                <a:latin typeface="Century Gothic"/>
              </a:rPr>
              <a:t>: </a:t>
            </a:r>
            <a:endParaRPr b="0" lang="en-US" sz="27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3576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2c16"/>
                </a:solidFill>
                <a:latin typeface="Century Gothic"/>
              </a:rPr>
              <a:t>Познавательны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2c16"/>
                </a:solidFill>
                <a:latin typeface="Century Gothic"/>
              </a:rPr>
              <a:t>трудност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28840" y="1915920"/>
            <a:ext cx="3809880" cy="43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4208400" y="1675440"/>
            <a:ext cx="444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необходим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сихических функц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помощью психогимнастическ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 и упражн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685800" y="3355200"/>
            <a:ext cx="37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2c16"/>
                </a:solidFill>
                <a:latin typeface="Century Gothic"/>
              </a:rPr>
              <a:t>Личностные труд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4572000" y="2600280"/>
            <a:ext cx="396252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нижение уровня тревог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 оптимального, формирование адекватных установ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706320" y="480276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2c16"/>
                </a:solidFill>
                <a:latin typeface="Century Gothic"/>
              </a:rPr>
              <a:t>Процессуаль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2c16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b32c16"/>
                </a:solidFill>
                <a:latin typeface="Century Gothic"/>
              </a:rPr>
              <a:t>труд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4572000" y="4758120"/>
            <a:ext cx="3844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щь в выработк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дивидуальн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тегии деятель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овладении особенностя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цедуры ЕГЭ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Gothic"/>
              </a:rPr>
              <a:t>ЭКЗАМЕН – ЭТО ИСТОЧНИК ОПЫТА</a:t>
            </a:r>
            <a:endParaRPr b="0" lang="en-US" sz="4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Любой экзамен является источником стресса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Задача: выработать конструктивное отношение к экзамену, научиться и научить воспринимать экзамен не как испытание, а как возможность  проявить себя, улучшить оценки за год, приобрести экзаменационный опыт, стать более внимательными  и организованным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Gothic"/>
              </a:rPr>
              <a:t>ЧТО СОЗДАЕТ ВОЛНЕНИЕ ПЕРЕД ЭКЗАМЕНОМ?</a:t>
            </a: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. СТРАХ – «А ВДРУГ НЕ СДАМ»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2. НЕДОСТАТОК ПОДГОТОВК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3. ВОЛНЕНИЕ ОКРУЖАЮЩИХ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8" name="Picture 6" descr="экзамен 1"/>
          <p:cNvPicPr/>
          <p:nvPr/>
        </p:nvPicPr>
        <p:blipFill>
          <a:blip r:embed="rId1"/>
          <a:stretch/>
        </p:blipFill>
        <p:spPr>
          <a:xfrm>
            <a:off x="5181480" y="838080"/>
            <a:ext cx="4192560" cy="582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Psihologi</cp:lastModifiedBy>
  <dcterms:modified xsi:type="dcterms:W3CDTF">2010-02-26T11:28:47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