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DA9A-D6B0-4DE8-A314-A44C624B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49C1-48C9-4242-B587-B206BB9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8EBA-566E-4116-9AE4-5954304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BAFB-B9D6-4AC6-B002-E5EFC1B0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2C0-6935-43E3-B315-E1EDA847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DBD0-94A5-4DD8-914C-3783EB6E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E375-2A23-4127-8549-FFEA911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FD0-3627-41D4-8DB5-0C35789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32CB-E1D3-4867-B489-D644FBC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A2F1-4919-480B-A83B-76CB5DF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3B83-9212-4795-BC13-4EA4B52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4F87-C1C7-4A52-9770-5DD78EF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D1DE-5A34-4C37-886D-455B0C1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4D9-A0E5-4F3E-95C6-FF2F39F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106A-66ED-4822-AA29-1FB9D8B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A652-C095-4F74-86D1-2CA6C130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A72A-81F9-4350-88F9-D073D02E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3794-FF4D-4B28-B03D-42E514C3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2A2E-9AE3-4E4B-A00B-526575DA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B77E-0B64-49DB-80AE-7E79889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4157-E5B3-4DD7-BCED-ADB65A9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5549-0C97-4A2C-A951-D1EAF8FE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334E-FB47-49D6-B037-6C473E2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4554-A9A0-417E-943D-5621E6D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CEAD-27A9-413B-A464-A9A5F23840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1B8-F4EA-4DC4-992F-4F865C5AC2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aklass.ru/p/fizika" TargetMode="External"/><Relationship Id="rId2" Type="http://schemas.openxmlformats.org/officeDocument/2006/relationships/hyperlink" Target="http://class-fizika.ru/" TargetMode="External"/><Relationship Id="rId3" Type="http://schemas.openxmlformats.org/officeDocument/2006/relationships/hyperlink" Target="https://www.olimpis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Система организации внеурочной деятельности по физике с учётом требований ФГОС ОО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5880" y="548640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дер Е.И., учитель физики МКОУ Михайловская О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711320" y="620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оссия нуждается в инженерах, а не в юристах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женеры, специалисты - компьютерщики, биологи, физики, химики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люди, которые должны сформировать инновационную среду"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. А. Медвед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риалах ФГОС понятие «внеурочная деятельность», рассматривается как неотъемлемая часть образовательного процесса, и характеризуется как образовательная деятельность, осуществляемая в формах, отличных от классно-уро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неурочной деятельности: найти средство для самореализации и творческого развития каждого 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о- практические конферен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е научные 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ые и научные ис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енно-полезные практик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да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устойчивого интереса учащихся к физике и её прилож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и углубление знаний учащихся по программному матери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мальное развитие способностей у учащихся и привитие учащимся определенных навыков научно-исследовательского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ие высокой культуры математического 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у учащихся умение самостоятельно и творчески работать с учебной и научно-популярной литера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и углубление представлений учащимися о практическом значении физики в технике и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и углубление представлений учащимися о культурно-исторической ценности физ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ие у учащихся чувства коллективизма и умение сочетать индивидуальную работу с коллекти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зические кружки и к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911400" cy="2200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486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нимательные веч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1010094"/>
          <p:cNvPicPr/>
          <p:nvPr/>
        </p:nvPicPr>
        <p:blipFill>
          <a:blip r:embed="rId1"/>
          <a:stretch/>
        </p:blipFill>
        <p:spPr>
          <a:xfrm>
            <a:off x="533520" y="2057400"/>
            <a:ext cx="3025800" cy="226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P1010103"/>
          <p:cNvPicPr/>
          <p:nvPr/>
        </p:nvPicPr>
        <p:blipFill>
          <a:blip r:embed="rId2"/>
          <a:stretch/>
        </p:blipFill>
        <p:spPr>
          <a:xfrm>
            <a:off x="5257800" y="1981080"/>
            <a:ext cx="3559320" cy="266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28731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пуск информационных материа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194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648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ная и исследовательск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554200" cy="210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3733920" y="266688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КТ-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s://www.yaklass.ru/p/fizi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ass-fizika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s://www.olimpis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1-14T15:00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