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308F-41D9-41AF-945A-FEE4BE1E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CEAB-4397-478F-B674-CB87D8A9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5D8E-B89B-4344-A728-58A62CBF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4FBA-D62B-4870-9CAF-F42E9C12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7FBD-75BD-4726-992A-B840D20F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F46B-B670-4834-A3EA-40A13A03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CB33-744C-44F0-80D8-3DD38FF6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2EE8-523F-4857-8A38-71E14C98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5B00-3AB6-470D-ADED-EC92824F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E471-808D-42FE-BBD1-6923DF6E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9F04-D42D-4901-8049-DF819FD4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8D9D-049C-4883-88DA-BF0F7823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DCD8-034E-422C-9617-D01878ED0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s10098.vkontakte.ru/u378244/-14/x_26bd066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ystatic.ru/m/D9C8tZgwT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1/62/199/62199823_61316627_LETO7in.gif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4&amp;text=&#1082;&#1072;&#1088;&#1090;&#1080;&#1085;&#1082;&#1080;%20&#1074;&#1077;&#1088;&#1073;&#1083;&#1102;&#1076;&#1086;&#1074;&amp;noreask=1&amp;img_url=www.ice-scream.ru%2Fimages%2Fimg%2Fcamels06.JPG&amp;pos=147&amp;rpt=simage&amp;lr=2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s10098.vkontakte.ru/u378244/-14/x_26bd066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484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836640"/>
            <a:ext cx="914400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ок математики в 5 классе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технологии деятельностного метода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Сложение и вычитание дробей с разными знаменателями"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урок открытия новых знаний)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5373720"/>
            <a:ext cx="28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Учитель математики                     Ефимова Н.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Картинка 15 из 1045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189000"/>
            <a:ext cx="2195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В математике нельзя пропускать ни одного слова в некоторых правилах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.         О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НОЗ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сегда совпад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огда ещё не было электричества, мэр одного города любил вечером гулять по городским улицам. Как-то он столкнулся с одним горожанином, у него на лбу выскочила шишка. На следующий день он издал указ: “В тёмное время суток на улицу выходить с фонарём”. А вечером на него налетел тот же горожанин. Мэр потребовал у него фона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Вот, - сказал прохож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А где свеча? – спросил мэ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А в указе не написано, что в фонаре должна быть свеча, - ответил т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эр издал второй указ: “В тёмное время суток на улицу выходить с фонарём со свечой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третий день история повтори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эр уже вышел из с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Думаете, что ответил мэру прохож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приказе не написано, что свеча фонаря должна быть зажж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эру пришлось издать указ третий раз, только после этого прохожий оставил его в пок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наша задача – хорошо знать алгоритм и уметь его применят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1)  а)                                   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2)  а)                                    б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835280" y="836640"/>
                <a:ext cx="1512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56000" y="692280"/>
                <a:ext cx="15192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979640" y="1773360"/>
                <a:ext cx="1224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500720" y="1773360"/>
                <a:ext cx="15192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308720" y="907920"/>
            <a:ext cx="1366920" cy="2233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9280" y="189000"/>
            <a:ext cx="50508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амостоятельная работ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1197000"/>
            <a:ext cx="7200720" cy="331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1197000"/>
            <a:ext cx="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58920" y="1484280"/>
            <a:ext cx="66261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                                                       1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                                                      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80000" y="1627200"/>
            <a:ext cx="15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908000" y="2133720"/>
                <a:ext cx="1105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575320" y="2205000"/>
                <a:ext cx="1208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508720" y="3357720"/>
                <a:ext cx="1341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763640" y="3429000"/>
                <a:ext cx="1297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4" name="" descr="Картинка 265 из 148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5013360"/>
            <a:ext cx="2306520" cy="1671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11280" y="189000"/>
            <a:ext cx="50472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547640" y="3357720"/>
                <a:ext cx="10796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37" name=""/>
          <p:cNvGraphicFramePr/>
          <p:nvPr/>
        </p:nvGraphicFramePr>
        <p:xfrm>
          <a:off x="684360" y="1052640"/>
          <a:ext cx="5472000" cy="3338280"/>
        </p:xfrm>
        <a:graphic>
          <a:graphicData uri="http://schemas.openxmlformats.org/drawingml/2006/table">
            <a:tbl>
              <a:tblPr/>
              <a:tblGrid>
                <a:gridCol w="2754000"/>
                <a:gridCol w="2718000"/>
              </a:tblGrid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 вариант</a:t>
                      </a:r>
                      <a:r>
                        <a:rPr b="0" lang="en-US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 вари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403280" y="2349360"/>
                <a:ext cx="1440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356000" y="2421000"/>
                <a:ext cx="515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356000" y="3429000"/>
                <a:ext cx="7732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1403280" y="46656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ОТВ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476360" y="4149720"/>
                <a:ext cx="273672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755640" y="33336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Рефлекс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то нового узнали на уроке?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– Какую цель мы ставили в начале урока?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– Наша цель достигнута?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– Что нам помогло справиться с затруднением?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– Какие знания нам пригодились при выполнении заданий на уроке?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– Как вы можете оценить свою работ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50920" y="4076640"/>
                <a:ext cx="151272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79280" y="189000"/>
            <a:ext cx="50508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4076640"/>
            <a:ext cx="3311640" cy="2160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ffcc"/>
              </a:gs>
            </a:gsLst>
            <a:lin ang="81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Домашнее задание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Учебник   стр. 158,   п.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равило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№  546 (1)       №  548(а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1863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58920" y="333360"/>
            <a:ext cx="66261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1" name="" descr="Картинка 139 из 148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2133720"/>
            <a:ext cx="51134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фийская притча </a:t>
            </a:r>
            <a:r>
              <a:rPr b="0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«Делёж верблюд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Живший некогда Суфий хотел сделать так, чтобы ученики после его смерти нашли подходящего им учителя Пути. Поэтому в завещании, после обязательного по закону раздела имущества, он оставил своим ученика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емнадцать верблюд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таким указанием: «Разделите верблюдов между самым старшим, средним по возрасту и самым младшим из вас следующим образом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таршему пусть будет половина, среднему — треть, а младшему — одна девята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гда Суфий умер, и завещание было прочитано, ученики вначале были изумлены таким неумелым распределением имущества Мастера. Одни предлагали: «Давайте владеть верблюдами сообща»; другие искали совета и затем говорили: «Нам советовали разделить способом, наиболее близким к указанному»; третьим судья посоветовал продать верблюдов и поделить деньги; а ещё некоторые считали, что завещание утратило свою законную силу, поскольку его условия не могут быть выполн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устя некоторое время ученики пришли к мысли, что в завещании Мастера мог быть какой-то скрытый смысл, и они стали расспрашивать повсюду о человеке, который может решать неразрешимые задачи. К кому бы они ни обращались, никто не мог помочь им, пока они не постучали в дверь Хазрата Али, зятя Пророка. Он сказ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т вам решение. Я добавлю одного верблюда к этим семнадцати. Из восемнадцати верблюдов вы возьмете половину — девять верблюдов — для старшего ученика. Второй ученик возьмет треть — то есть шесть верблюдов. Третий получит одну девятую — двух верблюдов. Это как раз семнадцать. Остался один — мой верблюд, он вернётся ко м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Users\Лилия\Desktop\74504157_large_016.png"/>
          <p:cNvPicPr/>
          <p:nvPr/>
        </p:nvPicPr>
        <p:blipFill>
          <a:blip r:embed="rId1"/>
          <a:stretch/>
        </p:blipFill>
        <p:spPr>
          <a:xfrm>
            <a:off x="0" y="5522760"/>
            <a:ext cx="1427040" cy="1335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907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1280" y="189000"/>
            <a:ext cx="50472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О каких математических понятиях идет реч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651640" y="1413000"/>
                <a:ext cx="688680" cy="19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900000" y="3645000"/>
                <a:ext cx="752760" cy="19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265880" y="3716280"/>
                <a:ext cx="690840" cy="19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4292640"/>
            <a:ext cx="2808360" cy="1933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24000" y="1268280"/>
            <a:ext cx="2162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Актуализация зна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147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Arial"/>
              </a:rPr>
              <a:t>Устная рабо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993366"/>
                </a:solidFill>
                <a:latin typeface="Arial"/>
              </a:rPr>
              <a:t>1. сократите дроби:</a:t>
            </a: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993366"/>
                </a:solidFill>
                <a:latin typeface="Arial"/>
              </a:rPr>
              <a:t>2. Выделите целую ча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993366"/>
                </a:solidFill>
                <a:latin typeface="Arial"/>
              </a:rPr>
              <a:t>3.Приведи дроби к НО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427640" y="1268280"/>
                <a:ext cx="23050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292720" y="2997360"/>
                <a:ext cx="2592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148360" y="4869000"/>
                <a:ext cx="2592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611280" y="189000"/>
            <a:ext cx="50472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451640" y="476280"/>
                <a:ext cx="13683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с</m:t>
                            </m:r>
                          </m:num>
                          <m:den>
                            <m:r>
                              <m:t xml:space="preserve">а</m:t>
                            </m:r>
                          </m:den>
                        </m:f>
                        <m:r>
                          <m:t xml:space="preserve">±</m:t>
                        </m:r>
                        <m:f>
                          <m:num>
                            <m:r>
                              <m:t xml:space="preserve">в</m:t>
                            </m:r>
                          </m:num>
                          <m:den>
                            <m:r>
                              <m:t xml:space="preserve">а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411280" y="333360"/>
                <a:ext cx="15112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148360" y="260280"/>
                <a:ext cx="12240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395280" y="260280"/>
            <a:ext cx="638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66"/>
                </a:solidFill>
                <a:latin typeface="Arial"/>
              </a:rPr>
              <a:t>5. Вычисли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413000"/>
            <a:ext cx="8139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Правило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Суммой (или разностью) дробей является др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. Знаменатель оставить без изменения, записав его в знамен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. Сложить (или вычесть) числители и записать ответ в числитель суммы (или раз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4. Если возможно, сократить полученную дробь и выделить из нее целую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48704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56000" y="4869000"/>
            <a:ext cx="503280" cy="215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63640" y="52293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42920" y="52293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56000" y="52293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5157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24360" y="5229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30064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40360" y="4869000"/>
            <a:ext cx="2156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48360" y="4869000"/>
            <a:ext cx="503280" cy="215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79640" y="501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4724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27280" y="530064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530064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4869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6021360"/>
            <a:ext cx="532764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4437000"/>
            <a:ext cx="532764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4437000"/>
            <a:ext cx="0" cy="158436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27640" y="4437000"/>
            <a:ext cx="0" cy="158436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3860640"/>
            <a:ext cx="565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Составьте схему для пра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4437000"/>
            <a:ext cx="0" cy="158436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1471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6. Вычислит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258920" y="1628640"/>
                <a:ext cx="165744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012000" y="1989000"/>
                <a:ext cx="18730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924360" y="1557360"/>
                <a:ext cx="1152360" cy="23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2" name="" descr="Картинка 15 из 104515"/>
          <p:cNvPicPr/>
          <p:nvPr/>
        </p:nvPicPr>
        <p:blipFill>
          <a:blip r:embed="rId1"/>
          <a:stretch/>
        </p:blipFill>
        <p:spPr>
          <a:xfrm>
            <a:off x="3059280" y="4797360"/>
            <a:ext cx="2195280" cy="1727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9280" y="189000"/>
            <a:ext cx="50508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4358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Тема урока: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«Сложение и вычитание дробей с разными знаменателями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Цель урок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Учимся складывать и вычитать дроби с разными знамена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39640" y="4365720"/>
                <a:ext cx="18003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635280" y="5229360"/>
                <a:ext cx="20163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732720" y="4149720"/>
                <a:ext cx="19429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35164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Задание: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ополнить известный алгоритм, чтобы можно было по нему выполнить сложение и вычитание дробей с разными знаменателям и показать на предложенных примерах, как он действует. У каждой мини- группы на столе таблички известного алгоритм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3456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2060640"/>
            <a:ext cx="576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Алгорит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1. </a:t>
            </a: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Суммой (или разностью) дробей является др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Знаменатель оставить без изме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3.  Сложить (или вычесть) числители и записать ответ в числитель суммы (или раз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4.  Если возможно, сократить полученную дробь и выделить из нее целую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877080" y="2565360"/>
                <a:ext cx="1873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2" name="" descr="Картинка 15 из 1045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4653000"/>
            <a:ext cx="2592360" cy="1911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189000"/>
            <a:ext cx="50472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362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ом обсуждения является алгоритм сложения и вычитания дроб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.Суммой (или разностью) дробей является др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Найти НОЗ дроб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. найти дополнительные множители (НОЗ делим на каждый знаменате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.Найти новые числители действием умнож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.Сложить (или вычесть) числители и записать ответ в числитель суммы (или раз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6.Если возможно, сократить полученную дробь и выделить и нее целую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иведём дроби к наименьшему общему знаменателю, НОЗ (24,8)=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ополнительный множитель для первой дроби равен 1, для второй дроби –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кладываем числители, знаменатель оставляем без изменения. Дробь сократимая, сокраща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79280" y="3716280"/>
                <a:ext cx="53294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38520" y="33368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 flipH="1" flipV="1">
            <a:off x="611280" y="3715560"/>
            <a:ext cx="201600" cy="14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64" y="1046"/>
                </a:moveTo>
                <a:arcTo wR="10800" hR="10800" stAng="-6925324" swAng="6925324"/>
                <a:lnTo>
                  <a:pt x="10800" y="10800"/>
                </a:lnTo>
                <a:close/>
              </a:path>
              <a:path fill="none" w="21600" h="21600">
                <a:moveTo>
                  <a:pt x="6164" y="1046"/>
                </a:moveTo>
                <a:arcTo wR="10800" hR="10800" stAng="-6925324" swAng="692532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1116000" y="3717360"/>
            <a:ext cx="254880" cy="14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342" y="2989"/>
                </a:moveTo>
                <a:arcTo wR="10800" hR="10800" stAng="-8020601" swAng="8020601"/>
                <a:lnTo>
                  <a:pt x="10800" y="10800"/>
                </a:lnTo>
                <a:close/>
              </a:path>
              <a:path fill="none" w="21600" h="21600">
                <a:moveTo>
                  <a:pt x="3342" y="2989"/>
                </a:moveTo>
                <a:arcTo wR="10800" hR="10800" stAng="-8020601" swAng="802060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5640" y="4581360"/>
            <a:ext cx="0" cy="2160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39640" y="4797360"/>
            <a:ext cx="1656000" cy="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39640" y="4581360"/>
            <a:ext cx="0" cy="2160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4508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186920" y="4508640"/>
            <a:ext cx="863640" cy="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403280" y="4284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116000" y="5950080"/>
                <a:ext cx="201600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79280" y="189000"/>
            <a:ext cx="50508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09:04:26Z</dcterms:created>
  <dc:creator>User</dc:creator>
  <dc:description/>
  <dc:language>en-US</dc:language>
  <cp:lastModifiedBy>User</cp:lastModifiedBy>
  <dcterms:modified xsi:type="dcterms:W3CDTF">2015-09-08T21:53:31Z</dcterms:modified>
  <cp:revision>11</cp:revision>
  <dc:subject/>
  <dc:title>Слайд 1</dc:title>
</cp:coreProperties>
</file>