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5.png" ContentType="image/png"/>
  <Override PartName="/ppt/media/image22.gif" ContentType="image/gif"/>
  <Override PartName="/ppt/media/image2.png" ContentType="image/pn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anya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22.xml><?xml version="1.0" encoding="utf-8"?>
<p:cmLst xmlns:p="http://schemas.openxmlformats.org/presentationml/2006/main">
  <p:cm authorId="0" dt="2017-02-24T12:35:36.426000000" idx="1">
    <p:pos x="10" y="10"/>
    <p:text>Ефременкова Н.П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D1A2-1B8D-4702-BB1C-8ADA80C33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83A4-D766-4F2E-82DD-A8452EBBD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AF9-A6AA-405C-8067-DF66E016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92F-2FFB-4A00-8E22-E2CD5B8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811-66FC-477B-AF59-86131725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E0B-8022-4203-B0B1-5F30A991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EAA-364F-4EFB-8CC9-64D77B8A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A13-AA03-40A0-94B1-E98501D1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E38-E031-4928-AEB6-2A1FE30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531-2A09-42D6-9B00-4802EC9B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653-639B-4DCA-B776-F2516F69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DE9-68E1-4356-A041-0B97D76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643-6789-4F6E-8138-7B0CB87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11A-C7A6-4BB4-97BD-FC2C19E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420-9AC7-4AF6-88DF-723A6DC32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9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2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yandex.ru/images?parent-reqid=1487923636098271-884191910214830178223492-sfront8-019&amp;uinfo=sw-1366-sh-768-ww-1226-wh-566-pd-1.100000023841858-wp-16x10_1440x900" TargetMode="External"/><Relationship Id="rId2" Type="http://schemas.openxmlformats.org/officeDocument/2006/relationships/hyperlink" Target="https://yandex.ru/images?parent-reqid=1487924389009783-11906497361671298298232686-ws12-300&amp;uinfo=sw-1366-sh-768-ww-1226-wh-566-pd-1.100000023841858-wp-16x10_1440x900" TargetMode="External"/><Relationship Id="rId3" Type="http://schemas.openxmlformats.org/officeDocument/2006/relationships/hyperlink" Target="https://yandex.ru/images?parent-reqid=1487924436367720-5673148670729834908222646-ws36-860&amp;uinfo=sw-1366-sh-768-ww-1226-wh-566-pd-1.100000023841858-wp-16x10_1440x900" TargetMode="External"/><Relationship Id="rId4" Type="http://schemas.openxmlformats.org/officeDocument/2006/relationships/hyperlink" Target="https://yandex.ru/images?parent-reqid=1487924472692672-5988469898533715038229411-sfront3-039&amp;uinfo=sw-1366-sh-768-ww-1226-wh-566-pd-1.100000023841858-wp-16x10_1440x900" TargetMode="External"/><Relationship Id="rId5" Type="http://schemas.openxmlformats.org/officeDocument/2006/relationships/hyperlink" Target="https://yandex.ru/images?parent-reqid=1487924554437257-1738687293509366250228358-sfront3-006&amp;uinfo=sw-1366-sh-768-ww-1226-wh-566-pd-1.100000023841858-wp-16x10_1440x900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171360" y="1609560"/>
            <a:ext cx="9139320" cy="186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detochka.ru/upload/iblock/09f/logo%20250.jpg"/>
          <p:cNvPicPr/>
          <p:nvPr/>
        </p:nvPicPr>
        <p:blipFill>
          <a:blip r:embed="rId2"/>
          <a:stretch/>
        </p:blipFill>
        <p:spPr>
          <a:xfrm>
            <a:off x="357120" y="4214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4" descr=""/>
          <p:cNvPicPr/>
          <p:nvPr/>
        </p:nvPicPr>
        <p:blipFill>
          <a:blip r:embed="rId3"/>
          <a:stretch/>
        </p:blipFill>
        <p:spPr>
          <a:xfrm>
            <a:off x="835200" y="268200"/>
            <a:ext cx="66992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4"/>
          <a:stretch/>
        </p:blipFill>
        <p:spPr>
          <a:xfrm>
            <a:off x="3981600" y="4432320"/>
            <a:ext cx="48276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14200" y="0"/>
            <a:ext cx="8715600" cy="71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МЕР ЗАДА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Тур 1.Традиционная русская  оде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1. Главный вид  одежды наших предк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рубаха; 2-лапти; 3-пор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2. Обязательный элемент русского народного костюм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кокошник; 2-оберег; 3-поя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3. Длинная женская одежда без рукав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понева; 2-сарафан; 3-рубах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4. Из коры какого дерева делали лап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дуб; 2-осина; 3-ли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5. Самая теплая  обувь наших предк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лапти; 2-валенки; 3-саб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6. Важная часть женского костюма на Смоленщине называемая «хвартук»?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 1-передник; 2-височные кольца; 3-поне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7. Один из головных уборов женщин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 1-ондорак; 2-кокошник; 3-ухв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8.Длинные узкие полоски ткани, которые наматывались вокруг ног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онучи; 2-ленты; 3-подвяз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9. Какое растение выращивали наши предки для изготовления одеж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хлопок; 2-коноплю; 3-л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10. Чем украшали одежду наши пред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1-скань; 2-вышивка; 3-драгоценные кам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ttp://advantatravel.ru/userfiles/clauses/large/300_tablitsa-kategoriy-oteley.png"/>
          <p:cNvPicPr/>
          <p:nvPr/>
        </p:nvPicPr>
        <p:blipFill>
          <a:blip r:embed="rId1"/>
          <a:stretch/>
        </p:blipFill>
        <p:spPr>
          <a:xfrm>
            <a:off x="8358120" y="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playcast.ru/uploads/2013/11/14/6567571.gif"/>
          <p:cNvPicPr/>
          <p:nvPr/>
        </p:nvPicPr>
        <p:blipFill>
          <a:blip r:embed="rId2"/>
          <a:stretch/>
        </p:blipFill>
        <p:spPr>
          <a:xfrm>
            <a:off x="6164280" y="5924520"/>
            <a:ext cx="2979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28760" y="1071720"/>
          <a:ext cx="8286480" cy="4572000"/>
        </p:xfrm>
        <a:graphic>
          <a:graphicData uri="http://schemas.openxmlformats.org/drawingml/2006/table">
            <a:tbl>
              <a:tblPr/>
              <a:tblGrid>
                <a:gridCol w="1657080"/>
                <a:gridCol w="1657440"/>
                <a:gridCol w="1657440"/>
                <a:gridCol w="1657440"/>
                <a:gridCol w="1657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509400" y="214200"/>
            <a:ext cx="76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Тур 1.Традиционная русская одеж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ttp://advantatravel.ru/userfiles/clauses/large/300_tablitsa-kategoriy-oteley.png"/>
          <p:cNvPicPr/>
          <p:nvPr/>
        </p:nvPicPr>
        <p:blipFill>
          <a:blip r:embed="rId2"/>
          <a:stretch/>
        </p:blipFill>
        <p:spPr>
          <a:xfrm>
            <a:off x="8143920" y="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playcast.ru/uploads/2013/11/14/6567571.gif"/>
          <p:cNvPicPr/>
          <p:nvPr/>
        </p:nvPicPr>
        <p:blipFill>
          <a:blip r:embed="rId3"/>
          <a:stretch/>
        </p:blipFill>
        <p:spPr>
          <a:xfrm>
            <a:off x="6021360" y="5880240"/>
            <a:ext cx="31226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428760" y="5716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1. Главный вид  одежды наших предк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1-руба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2-лап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3-пор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ttp://advantatravel.ru/userfiles/clauses/large/300_tablitsa-kategoriy-oteley.png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playcast.ru/uploads/2013/11/14/6567571.gif"/>
          <p:cNvPicPr/>
          <p:nvPr/>
        </p:nvPicPr>
        <p:blipFill>
          <a:blip r:embed="rId2"/>
          <a:stretch/>
        </p:blipFill>
        <p:spPr>
          <a:xfrm>
            <a:off x="4811760" y="5500800"/>
            <a:ext cx="43322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46160"/>
            <a:ext cx="8229600" cy="196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im0-tub-ru.yandex.net/i?id=2dc7269a82581ee9bece35c14e51cb92-l&amp;n=13"/>
          <p:cNvPicPr/>
          <p:nvPr/>
        </p:nvPicPr>
        <p:blipFill>
          <a:blip r:embed="rId2"/>
          <a:stretch/>
        </p:blipFill>
        <p:spPr>
          <a:xfrm>
            <a:off x="2286000" y="2357280"/>
            <a:ext cx="4938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198360" y="659520"/>
            <a:ext cx="85885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Calibri"/>
              </a:rPr>
              <a:t>Оборудование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Жетоны за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рамоты каждому чле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анды-победитель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ьютер, прое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justclickit.ru/flash/other/other%20(562).gif"/>
          <p:cNvPicPr/>
          <p:nvPr/>
        </p:nvPicPr>
        <p:blipFill>
          <a:blip r:embed="rId1"/>
          <a:stretch/>
        </p:blipFill>
        <p:spPr>
          <a:xfrm>
            <a:off x="5572080" y="3500280"/>
            <a:ext cx="2928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28760" y="145080"/>
            <a:ext cx="84294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 АУКЦ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уются 3 команды, в каждой по 1 ученику из 6-9 классов, всего—4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гре разыгрывается 5 лотов: 1 лот—даты; 2 лот—имена исторических деятелей; 3 лот—места важных событий; 4 лота—термины; 5 лот –памятники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ый лот имеет  8 вопр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каждой команды в наличии имеется 100  жетонов. Это первоначальный капитал. После того как ведущий объявит вопрос, команды начинают торги. Команда, заявившая максимальную цену, получает право от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justclickit.ru/flash/other/other%20(562).gif"/>
          <p:cNvPicPr/>
          <p:nvPr/>
        </p:nvPicPr>
        <p:blipFill>
          <a:blip r:embed="rId1"/>
          <a:stretch/>
        </p:blipFill>
        <p:spPr>
          <a:xfrm>
            <a:off x="3286080" y="4572000"/>
            <a:ext cx="24289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28760" y="137160"/>
            <a:ext cx="84294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 АУКЦ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ответ правильный, то заявленная сумма выдается команде, если ответ неверный, то команда отдает эту сумму из своего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ример,  у вас 100 жетонов, стоимость вопроса – 20. Вы ответили правильно – у вас на счету теперь 120 жетонов, ошиблись – 80 жет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команда покупает вопрос на всю сумму, имеющуюся в наличии, и ошибается – то, увы, она выбывает из игры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ждает команда, набравшая максимальное количество жетонов. Все члены команды получают грамоты победителе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justclickit.ru/flash/other/other%20(562).gif"/>
          <p:cNvPicPr/>
          <p:nvPr/>
        </p:nvPicPr>
        <p:blipFill>
          <a:blip r:embed="rId1"/>
          <a:stretch/>
        </p:blipFill>
        <p:spPr>
          <a:xfrm>
            <a:off x="3500280" y="3786120"/>
            <a:ext cx="2786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14200" y="857160"/>
            <a:ext cx="7793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ЛОТ 1.   Д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1-Когда крестили  Ру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2- В каком году произошла Куликовская битва?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42920" y="2071800"/>
            <a:ext cx="8715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ЛОТ 2.   ИМЕНА ИСТОРИЧЕСКИХ  ДЕЯ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1-Имя основателя династии русских княз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2- Кто написал летопись «Повесть временных лет? 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214200" y="3214800"/>
            <a:ext cx="657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libri"/>
              </a:rPr>
              <a:t>ЛОТ 3.   МЕСТА ВАЖНЫХ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1-Где погиб князь Святосла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2- Где произошло Ледовое побоище?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14200" y="4357800"/>
            <a:ext cx="8715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3511"/>
                </a:solidFill>
                <a:latin typeface="Calibri"/>
              </a:rPr>
              <a:t>ЛОТ 4.   «ПЕРЕВОД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1-Что такое  полюд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2- Кто такой смерд? 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14200" y="5500800"/>
            <a:ext cx="8715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alibri"/>
              </a:rPr>
              <a:t>ЛОТ 5.   ПАМЯТНИКИ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1-Как назывались первые главные храмы в Киеве и Нов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2- Какую знаменитую икону написал Андрей Рублев? 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591280" y="14292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  <a:ea typeface="Calibri"/>
              </a:rPr>
              <a:t>ПРИМЕРЫ   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justclickit.ru/flash/other/other%20(562).gif"/>
          <p:cNvPicPr/>
          <p:nvPr/>
        </p:nvPicPr>
        <p:blipFill>
          <a:blip r:embed="rId1"/>
          <a:stretch/>
        </p:blipFill>
        <p:spPr>
          <a:xfrm>
            <a:off x="6286680" y="3286080"/>
            <a:ext cx="23572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-208080"/>
            <a:ext cx="935208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beautifulexistance.files.wordpress.com/2014/01/shutterstock_110989019.jpg"/>
          <p:cNvPicPr/>
          <p:nvPr/>
        </p:nvPicPr>
        <p:blipFill>
          <a:blip r:embed="rId2"/>
          <a:stretch/>
        </p:blipFill>
        <p:spPr>
          <a:xfrm>
            <a:off x="2857680" y="2214720"/>
            <a:ext cx="37274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28760" y="58680"/>
            <a:ext cx="721512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Обору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вадрат с 25 секторами (5х5) разных цв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зеле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желт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си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бел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крас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ый сектор пронумерован от 1 до 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Барабан с карточками  5 цветов с номерами вопр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Смайл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Диплом Побе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://damascus.ru/images/1-sentjabrja/c1f36904948939b40d6111a7ec6e3268.jpg"/>
          <p:cNvPicPr/>
          <p:nvPr/>
        </p:nvPicPr>
        <p:blipFill>
          <a:blip r:embed="rId1"/>
          <a:srcRect l="15256" t="0" r="17983" b="0"/>
          <a:stretch/>
        </p:blipFill>
        <p:spPr>
          <a:xfrm>
            <a:off x="7540560" y="0"/>
            <a:ext cx="1603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4214880" y="500040"/>
            <a:ext cx="4714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гра — это огромное светлое окно, через которое в духовный мир ребенка вливается живительный поток представлений, понятий об окружающем мире. Игра — это искра, зажигающая огонек пытливости и любозна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s://im2-tub-ru.yandex.net/i?id=ec14c82fea2d14258ac9750017ff0a85-l&amp;n=13"/>
          <p:cNvPicPr/>
          <p:nvPr/>
        </p:nvPicPr>
        <p:blipFill>
          <a:blip r:embed="rId1"/>
          <a:srcRect l="33457" t="22987" r="29827" b="10346"/>
          <a:stretch/>
        </p:blipFill>
        <p:spPr>
          <a:xfrm>
            <a:off x="285840" y="642960"/>
            <a:ext cx="3724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85840" y="58680"/>
            <a:ext cx="85723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игре принимают участие  5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Участники игры по очереди вытягивают из барабана карточки определенного цвета с номером вопроса. За каждый правильный ответ  игрок получает  смайлик.  Если игрок не дал правильного ответа, то ответить на вопросы может любой  другой иг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damascus.ru/images/1-sentjabrja/c1f36904948939b40d6111a7ec6e3268.jpg"/>
          <p:cNvPicPr/>
          <p:nvPr/>
        </p:nvPicPr>
        <p:blipFill>
          <a:blip r:embed="rId1"/>
          <a:srcRect l="15256" t="0" r="17975" b="0"/>
          <a:stretch/>
        </p:blipFill>
        <p:spPr>
          <a:xfrm>
            <a:off x="3643200" y="3500280"/>
            <a:ext cx="1785960" cy="302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s://im1-tub-ru.yandex.net/i?id=590cb9aaeb694d5e0e3a75891271fffa-l&amp;n=13"/>
          <p:cNvPicPr/>
          <p:nvPr/>
        </p:nvPicPr>
        <p:blipFill>
          <a:blip r:embed="rId2"/>
          <a:srcRect l="17498" t="0" r="17498" b="0"/>
          <a:stretch/>
        </p:blipFill>
        <p:spPr>
          <a:xfrm>
            <a:off x="6356520" y="3857760"/>
            <a:ext cx="2287440" cy="23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s://im1-tub-ru.yandex.net/i?id=590cb9aaeb694d5e0e3a75891271fffa-l&amp;n=13"/>
          <p:cNvPicPr/>
          <p:nvPr/>
        </p:nvPicPr>
        <p:blipFill>
          <a:blip r:embed="rId3"/>
          <a:srcRect l="17498" t="0" r="17498" b="0"/>
          <a:stretch/>
        </p:blipFill>
        <p:spPr>
          <a:xfrm>
            <a:off x="428760" y="3929040"/>
            <a:ext cx="22302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85840" y="58680"/>
            <a:ext cx="5214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Победителем игры считается тот, кто набрал наибольшее количество смайликов. Он получает  Диплом  Победителя  и звание  «Самый умны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damascus.ru/images/1-sentjabrja/c1f36904948939b40d6111a7ec6e3268.jpg"/>
          <p:cNvPicPr/>
          <p:nvPr/>
        </p:nvPicPr>
        <p:blipFill>
          <a:blip r:embed="rId1"/>
          <a:srcRect l="15256" t="0" r="17975" b="0"/>
          <a:stretch/>
        </p:blipFill>
        <p:spPr>
          <a:xfrm>
            <a:off x="2428920" y="3786120"/>
            <a:ext cx="1477800" cy="250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dd6deti.ucoz.ru/_fr/0/1606680.jpg"/>
          <p:cNvPicPr/>
          <p:nvPr/>
        </p:nvPicPr>
        <p:blipFill>
          <a:blip r:embed="rId2"/>
          <a:stretch/>
        </p:blipFill>
        <p:spPr>
          <a:xfrm>
            <a:off x="5715000" y="184320"/>
            <a:ext cx="32148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1060560" y="-36360"/>
            <a:ext cx="7265880" cy="258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iq-testy.ru/skin/smile/s4226.gif"/>
          <p:cNvPicPr/>
          <p:nvPr/>
        </p:nvPicPr>
        <p:blipFill>
          <a:blip r:embed="rId2"/>
          <a:stretch/>
        </p:blipFill>
        <p:spPr>
          <a:xfrm>
            <a:off x="2500200" y="3000240"/>
            <a:ext cx="442908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285840" y="214200"/>
            <a:ext cx="84294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резентации использованы картинки с сай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yandex.ru/images?parent-reqid=1487923636098271-884191910214830178223492-sfront8-019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yandex.ru/images?parent-reqid=1487924389009783-11906497361671298298232686-ws12-300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andex.ru/images?parent-reqid=1487924436367720-5673148670729834908222646-ws36-860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andex.ru/images?parent-reqid=1487924472692672-5988469898533715038229411-sfront3-039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yandex.ru/images?parent-reqid=1487924554437257-1738687293509366250228358-sfront3-006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yandex.ru/images?parent-reqid=1487924657856113-7114732324971275941229363-myt1-0788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yandex.ru/images?parent-reqid=1487924763480114-16798870691814488323225794-sfront3-031&amp;uinfo=sw-1366-sh-768-ww-1226-wh-566-pd-1.100000023841858-wp-16x10_1440x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28760" y="55440"/>
            <a:ext cx="82864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дной из главных проблем современной школы является низкая мотивация  школьников к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Игровые формы обучения как никакая другая технология способствует использованию различных способов мотив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. Мотивы об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) учащиеся, совместно решая задачи, участвуя в игре, учатся общаться, учитывать мнение товари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) в игре, при решении коллективных задач, используются разные возможности  учащихся: быстро соображающих,  и критически-оценивающих, и тщательно работающих, и осмотрительных, и рискованных сотовари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Моральные мотив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) В игре каждый ученик может проявить себя, свои знания, умения, свой  характер, волевые качества, свое отношение к деятельности, к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714240" y="285840"/>
            <a:ext cx="7715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3. Познавательные мотив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) Каждая игра имеет близкий результат (окончание игры) и стимулирует учащегося к достижению цели (победе) и осознанию пути достижения цели (нужно знать больше друг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) В игре все изначально равны (нет отличников и троечников, есть игро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) Ситуация успеха создает благоприятный эмоциональный фон для развития познавательного интереса. Неудача воспринимается не как личное поражение, а поражение в игре и стимулирует познавательную деятельность (реванш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) Состязательность – неотъемлемая часть игры – притягательна для детей. Удовольствие, полученное от игры, создает комфортное состояние усиливает желание изучать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357120" y="500040"/>
            <a:ext cx="82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вязи с этим, я активно использую  игровые технологии  на уроках  и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ставляю вашему вниманию  несколько  игр, которые  были проведены  в рамках  предметных недель  в 2014-2018 г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«ЗВЕЗДНЫЙ ЧАС»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истории России  для  8-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«АУКЦИОН  ЗНАНИЙ»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истории России для 6-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«САМЫЙ УМНЫЙ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истории России  для  7-8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401760" y="-311040"/>
            <a:ext cx="8126280" cy="26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playcast.ru/uploads/2013/11/14/6567571.gif"/>
          <p:cNvPicPr/>
          <p:nvPr/>
        </p:nvPicPr>
        <p:blipFill>
          <a:blip r:embed="rId2"/>
          <a:stretch/>
        </p:blipFill>
        <p:spPr>
          <a:xfrm>
            <a:off x="571680" y="2786040"/>
            <a:ext cx="7980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26640"/>
            <a:ext cx="873144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Calibri"/>
                <a:ea typeface="Calibri"/>
              </a:rPr>
              <a:t>Оборудование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  <a:ea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аблички с цифрами от 1 до 3 для иг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Лист учета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езд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тешительные призы для выбывших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из для зр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упер-приз для побед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омпьютер, прое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http://advantatravel.ru/userfiles/clauses/large/300_tablitsa-kategoriy-oteley.png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playcast.ru/uploads/2013/11/14/6567571.gif"/>
          <p:cNvPicPr/>
          <p:nvPr/>
        </p:nvPicPr>
        <p:blipFill>
          <a:blip r:embed="rId2"/>
          <a:stretch/>
        </p:blipFill>
        <p:spPr>
          <a:xfrm>
            <a:off x="4592520" y="5143680"/>
            <a:ext cx="455148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85840" y="29520"/>
            <a:ext cx="857232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гре участвуют 7 человек,  все остальные - зрители. Игра начинается с представления участников. Они стоят перед  игровыми дорожками в  виде 5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по числу туров иг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а состоит из 5-ми туров, каждый из которых содержит 10 вопросов. На каждый вопрос отводится определенное количество времени (до 10 се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 игроки стоят на исходной черте и поднимают табличку с номером ответа. За верный ответ дается один балл. Игрок, первым поднявший табличку с правильным ответом,  получает звездочку—дополнительный балл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лает  шаг на одну клетку впер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www.playcast.ru/uploads/2013/11/14/6567571.gif"/>
          <p:cNvPicPr/>
          <p:nvPr/>
        </p:nvPicPr>
        <p:blipFill>
          <a:blip r:embed="rId1"/>
          <a:stretch/>
        </p:blipFill>
        <p:spPr>
          <a:xfrm>
            <a:off x="5857920" y="5880240"/>
            <a:ext cx="3122640" cy="97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http://advantatravel.ru/userfiles/clauses/large/300_tablitsa-kategoriy-oteley.png"/>
          <p:cNvPicPr/>
          <p:nvPr/>
        </p:nvPicPr>
        <p:blipFill>
          <a:blip r:embed="rId2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85840" y="170640"/>
            <a:ext cx="83581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 вопросы, на которые никто из игроков  не ответил, предлагаются болельщикам.  В конце игры болельщик, получивший максимальное количество звездочек получает приз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ник игры, набравший наименьшее количество баллов в каждом туре, выбывает из игры и получает утешительный приз. Остальные игроки переходят в следующий т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 тур—финальный. В финале играют 3 учас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едителем становится  тот, кто наберет максимальное количество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3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http://advantatravel.ru/userfiles/clauses/large/300_tablitsa-kategoriy-oteley.png"/>
          <p:cNvPicPr/>
          <p:nvPr/>
        </p:nvPicPr>
        <p:blipFill>
          <a:blip r:embed="rId1"/>
          <a:stretch/>
        </p:blipFill>
        <p:spPr>
          <a:xfrm>
            <a:off x="84297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playcast.ru/uploads/2013/11/14/6567571.gif"/>
          <p:cNvPicPr/>
          <p:nvPr/>
        </p:nvPicPr>
        <p:blipFill>
          <a:blip r:embed="rId2"/>
          <a:stretch/>
        </p:blipFill>
        <p:spPr>
          <a:xfrm>
            <a:off x="5286240" y="5467320"/>
            <a:ext cx="385776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3:13:56Z</dcterms:created>
  <dc:creator>Tanya</dc:creator>
  <dc:description/>
  <dc:language>en-US</dc:language>
  <cp:lastModifiedBy>User</cp:lastModifiedBy>
  <dcterms:modified xsi:type="dcterms:W3CDTF">2019-03-28T16:21:25Z</dcterms:modified>
  <cp:revision>97</cp:revision>
  <dc:subject/>
  <dc:title>Слайд 1</dc:title>
</cp:coreProperties>
</file>