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5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7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C1C7B-E7F7-496A-B7AA-A639E6F71A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1B9D6-DC0F-4BE9-A7FD-073A0FCB1A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0429E-DE83-419B-89CE-93102790BF6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EE7A2-7271-43A3-96B8-1F9A5CB4DC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65B4C-DE90-4A2D-9EB8-DEAFBC974BB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68C65-E37F-47F0-ADF6-C9A93BE3E7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4D7D0-B19E-476E-A034-9D1394E9F6B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F8D53-F373-4934-96D1-76D4218729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B164E-83E5-42F5-BB83-1F6EB6B855C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F9759-9475-40B4-A5D1-53F142F6EF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278D2-E2DE-4834-8217-A19693A117C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51E64-7E80-48E3-9A38-7CC04D213E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2C77F-3AFA-49F1-AA1A-4DFB86B280A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A6F4C-6F8E-4226-85CE-6939AB29B3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1B89F-408F-429B-920A-65878925E8B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DB2BF-3DCF-490B-9B17-E697B8F137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BED1F-83B5-4B84-9B55-FFBAA3A8F94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60DC1-D426-4247-A468-6E40CB96F6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F4C60-B296-4EE7-8CB2-D3DBA06B8BE4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DD2CC-AEC9-4E7D-9D70-405598ACD9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14EAA-19F9-45DB-AA2E-66B6664195C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2BC6F-AE41-456E-AF40-BFF63C1FD1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983E3-06E0-4DED-B15D-E067183198C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403DF-038E-48D3-9E90-ECAEB58B39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4E822-D31F-4AEA-9F32-3F20A3E53E6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6CFDA-07F0-451E-98A0-9E6A30371C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7B74B-A9A8-4B73-9F41-9CE2DDBE34E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38F2D-70D2-4057-A674-87259E0A5F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B762D-C789-44D5-A565-20FDA3B8046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A24E9-A9FA-42D5-93D1-97B6B42DB1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F5B2F-0FBF-4102-8EF4-2F4225E535F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0E8B0-FB69-4DE5-A919-5913C08739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778FD-3A42-4607-BD92-850B7395A6B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EB493-A8D7-4B8C-8DBD-A9EB6E679C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C0D40-38BB-4F46-AE28-680133B2312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18A0-7CF6-4070-AAC5-64CE1C58C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5284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445284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0EE4-E6BC-4789-B430-63895CD29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8496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84960" y="436968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F89C-C470-4600-B989-B7B9A0940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08440" y="176832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13960" y="176832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08440" y="436968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13960" y="436968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3A0A-8E33-4119-A31B-FFBF5A132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5150F-C98C-4F14-9306-751E85B207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44528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809B9-414B-4EE0-98C8-6B4ABF7B04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5284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492AC-5080-4A54-9098-504A3D2854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17296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784960" y="1768320"/>
            <a:ext cx="217296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B13BC-AB9E-487D-BC42-298F463AB3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799A-0835-402D-9688-F6899A17B5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39E20-0DAA-491A-A4E1-8D3358F5B0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784960" y="1768320"/>
            <a:ext cx="217296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3D29E-D6E4-4BAD-9514-02A7CF42D0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44528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5002-9A7E-4D49-AF90-9026BB229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17296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78496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84960" y="436968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CFB2-156F-4043-8B3D-F5CFB64FA2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78496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5284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76A29-2327-4E28-9F34-76DDBB0DAA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5284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445284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DE9B0-8DF1-4ACB-B459-5A2DC633AC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78496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784960" y="436968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4A49E-7451-4E62-87DD-E76169D96E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08440" y="176832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13960" y="176832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08440" y="436968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513960" y="436968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AF9B8-A2E2-4C70-9934-1627F05445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2F8B-ACAA-4CC4-858E-50A33B0467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44528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6FC-4E6A-4E5E-ADA1-EFD3326CFC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5284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41D-683F-404A-8932-90F641D304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17296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784960" y="1768320"/>
            <a:ext cx="217296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251-E416-4770-A9F6-CF9D598AC1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5B2-511E-4AAD-BB54-3633EA278A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5284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CC5D-ADD5-43C0-83B2-010D3A2A43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2FA2-AC12-44CD-AAB6-EE3E09FAFA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784960" y="1768320"/>
            <a:ext cx="217296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212-8B4A-4A4A-A707-D4661A7F83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17296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78496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784960" y="436968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AC4-2613-4F85-9568-9D1CDF0B96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78496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5284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C41-493E-4D48-9E77-9F35586829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5284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445284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FC7-DB9C-4020-ABFA-7B15E3A202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78496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784960" y="436968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5EA0-A0FA-49A4-BA89-14B55AE342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008440" y="176832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513960" y="176832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008440" y="436968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513960" y="436968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F2A-4A0E-497F-A351-8A4759883E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2DF02-3EE9-4EE3-8C7F-E044E60F73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44528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6C802-DA91-453E-86DB-A21BDD18BD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5284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3F7D7-6CCD-4D2F-9EEC-A91C70623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17296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84960" y="1768320"/>
            <a:ext cx="217296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A4CB-36F1-413D-8520-DCD3D481D6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17296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784960" y="1768320"/>
            <a:ext cx="217296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20069-238F-417F-A2EB-147918E6C7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84B90-E83B-4AA9-AF25-32F34D073E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2AE76-4AE7-4B92-8455-2107302A57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784960" y="1768320"/>
            <a:ext cx="217296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087C4-B824-4DCD-9E1A-37AB781D51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17296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78496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784960" y="436968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98E9A-DD1F-481F-8B6D-8637FB6D61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78496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5284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FE396-4C94-47D7-AA71-43655CED15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5284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445284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EEFB5-D24B-4BB2-88CB-85EB6193D5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78496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2784960" y="436968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8B252-853F-4741-A97F-0D5EF54A69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008440" y="176832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513960" y="176832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008440" y="436968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3513960" y="4369680"/>
            <a:ext cx="143352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F7F23-A159-4317-93DF-FF5F0A09C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87D9-99DA-4D76-9818-89FD04793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2A6A-7E79-4AFF-9327-7CA6FF589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84960" y="1768320"/>
            <a:ext cx="217296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05DE-800A-4912-B8A0-DB671DC87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17296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8496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84960" y="436968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5E6C-D577-4B5B-8FF1-3A51ADD4F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84960" y="1768320"/>
            <a:ext cx="217296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52840" cy="23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9FF9-8F57-4001-A073-ECF77E251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445284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91880" indent="-1918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91880" indent="-1918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91880" indent="-1918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1880" indent="-1918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1880" indent="-1918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1880" indent="-1918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1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89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19F17-2B3E-44E1-85A5-6A4315A8E89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445284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7756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77560" indent="-2775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77560" indent="-2775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77560" indent="-2775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77560" indent="-2775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77560" indent="-2775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77560" indent="-2775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03280" y="6886440"/>
            <a:ext cx="2341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448080" y="6886440"/>
            <a:ext cx="3189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51890-C610-42A8-8DEE-70D05456600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445284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91880" indent="-1918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91880" indent="-1918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91880" indent="-1918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1880" indent="-1918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1880" indent="-1918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1880" indent="-1918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03280" y="6886440"/>
            <a:ext cx="2341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448080" y="6886440"/>
            <a:ext cx="3189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80B88-5949-4497-93CA-D6DB4CCCD4D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445284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7756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77560" indent="-2775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77560" indent="-2775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77560" indent="-2775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77560" indent="-2775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77560" indent="-2775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77560" indent="-2775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03280" y="6886440"/>
            <a:ext cx="2341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448080" y="6886440"/>
            <a:ext cx="3189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15BFB-F7BC-4D0B-82AF-024EA9293C1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2920" y="6094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8880" bIns="45000" anchor="t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СМИЧЕСКИЕ РОБО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38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0000"/>
          </a:bodyPr>
          <a:p>
            <a:pPr marL="108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атаринов Артем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Б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Школа № 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г. о. Подоль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урылева Е.П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0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3887640" y="2276640"/>
            <a:ext cx="5759640" cy="3843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3384720" y="6551640"/>
            <a:ext cx="44258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960" bIns="0" anchor="t">
            <a:normAutofit fontScale="29000"/>
          </a:bodyPr>
          <a:p>
            <a:pPr marL="124920" indent="-914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202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2920" y="156960"/>
            <a:ext cx="90709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uriosit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8520" y="576000"/>
            <a:ext cx="93218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" bIns="45000" anchor="t">
            <a:normAutofit/>
          </a:bodyPr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Марсоход третьего поколения  совершил посадку в августе 2012 года. В ходе своей миссии ему удалось измерить суточные колебания температур на планете, понаблюдать за солнечным затмением и проанализировать сотни образцов пород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674720" y="2862360"/>
            <a:ext cx="6769080" cy="4514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2920" y="431640"/>
            <a:ext cx="90709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ерсональный помощник астронав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295200" y="4029120"/>
            <a:ext cx="3664080" cy="3298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3"/>
          <a:stretch/>
        </p:blipFill>
        <p:spPr>
          <a:xfrm>
            <a:off x="295200" y="1332000"/>
            <a:ext cx="3689280" cy="26272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248000" y="1223640"/>
            <a:ext cx="5400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" bIns="45000" anchor="t">
            <a:normAutofit/>
          </a:bodyPr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Малоразмерное устройство, способное перемещаться внутри кораблей и станций за счет миниатюрных реактивных двигателей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nt-Ball, Япония. Масса: 1,4 кг. Размер: 15 см.  Подвижная камер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IMON, Германия. Масса: 5 кг. Размер: 32 см. Голосовой помощни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888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obonaut 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152000"/>
            <a:ext cx="4392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" bIns="45000" anchor="t">
            <a:normAutofit/>
          </a:bodyPr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Антропоморфный робот или человекоподобный робот, может получать команды от оператора или работать автономно, в соответствии с программой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Robonaut 2 в 2011 отправлен на МКС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5315040" y="1008000"/>
            <a:ext cx="4189320" cy="618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irob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76360" y="1079280"/>
            <a:ext cx="8928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" bIns="45000" anchor="t">
            <a:normAutofit/>
          </a:bodyPr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В 2013-м на станцию привезли японского робота Kirobo, который стал компаньоном для японского космонавта. Kirobo был высотой всего 34 см и весил 980 грамм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1800360" y="3024360"/>
            <a:ext cx="6370560" cy="403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Фёдо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31640" y="1117080"/>
            <a:ext cx="4354560" cy="61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" bIns="45000" anchor="t">
            <a:normAutofit/>
          </a:bodyPr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22 августа 2019 г. на МКС отправился российский антропоморфный робот "Фёдор". Это 1-й полёт 1-го российского антропоморфного робота в космос.  Фёдор в одиночку отправился на МКС на борту корабля Союз-МС-14. 1-й полёт  робота длился 15  суток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5148360" y="1079640"/>
            <a:ext cx="4716360" cy="6264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смический грумин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360" y="936360"/>
            <a:ext cx="892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" bIns="45000" anchor="t">
            <a:normAutofit/>
          </a:bodyPr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Инженеры разработали процедуру стрижки волос в космосе на специальном оборудовании. </a:t>
            </a: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 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1944720" y="2160720"/>
            <a:ext cx="5904000" cy="500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обот-груме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1498320"/>
            <a:ext cx="4176720" cy="49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" bIns="45000" anchor="t">
            <a:normAutofit fontScale="97000"/>
          </a:bodyPr>
          <a:p>
            <a:pPr marL="410760" indent="-309240">
              <a:lnSpc>
                <a:spcPct val="95000"/>
              </a:lnSpc>
              <a:spcAft>
                <a:spcPts val="1412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Создание ножниц в кисти робо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760" indent="-309240">
              <a:lnSpc>
                <a:spcPct val="95000"/>
              </a:lnSpc>
              <a:spcAft>
                <a:spcPts val="1412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Создание локтя робо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760" indent="-309240">
              <a:lnSpc>
                <a:spcPct val="95000"/>
              </a:lnSpc>
              <a:spcAft>
                <a:spcPts val="1412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Соединение “локтя” и “кисти” робо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760" indent="-309240">
              <a:lnSpc>
                <a:spcPct val="95000"/>
              </a:lnSpc>
              <a:spcAft>
                <a:spcPts val="1412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Добавление “пылесоса”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760" indent="-309240">
              <a:lnSpc>
                <a:spcPct val="95000"/>
              </a:lnSpc>
              <a:spcAft>
                <a:spcPts val="1412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Управление роботом с помощью пуль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Video 2020-12-05 at 20.26.57.mp4" descr=""/>
          <p:cNvPicPr/>
          <p:nvPr/>
        </p:nvPicPr>
        <p:blipFill>
          <a:blip r:embed="rId2"/>
          <a:stretch/>
        </p:blipFill>
        <p:spPr>
          <a:xfrm>
            <a:off x="5688000" y="1555920"/>
            <a:ext cx="3048120" cy="481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924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4360" y="144360"/>
            <a:ext cx="9070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ыводы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16000" y="791640"/>
            <a:ext cx="518472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/>
          </a:bodyPr>
          <a:p>
            <a:pPr marL="423720" indent="-318960" algn="just">
              <a:lnSpc>
                <a:spcPct val="95000"/>
              </a:lnSpc>
              <a:spcAft>
                <a:spcPts val="1412"/>
              </a:spcAft>
              <a:buClr>
                <a:srgbClr val="ffcc99"/>
              </a:buClr>
              <a:buSzPct val="45000"/>
              <a:buFont typeface="Symbol"/>
              <a:buChar char="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Изучил теоретические знания в области космической робототехник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 algn="just">
              <a:lnSpc>
                <a:spcPct val="95000"/>
              </a:lnSpc>
              <a:spcAft>
                <a:spcPts val="1412"/>
              </a:spcAft>
              <a:buClr>
                <a:srgbClr val="ffcc99"/>
              </a:buClr>
              <a:buSzPct val="45000"/>
              <a:buFont typeface="Symbol"/>
              <a:buChar char="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Познакомился с практическими проектами использования роботов в космосе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 algn="just">
              <a:lnSpc>
                <a:spcPct val="95000"/>
              </a:lnSpc>
              <a:spcAft>
                <a:spcPts val="1412"/>
              </a:spcAft>
              <a:buClr>
                <a:srgbClr val="ffcc99"/>
              </a:buClr>
              <a:buSzPct val="45000"/>
              <a:buFont typeface="Symbol"/>
              <a:buChar char="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Создал модель робота-манипулятора, способного выполнять сложные механические движения с помощью дистанционного управле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2"/>
          <a:stretch/>
        </p:blipFill>
        <p:spPr>
          <a:xfrm>
            <a:off x="5472000" y="1800360"/>
            <a:ext cx="453096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256680"/>
            <a:ext cx="907092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640" bIns="4500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Цель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екта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знать больше о космической робототехнике и создать модель робота-манипулято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87280" y="1655640"/>
            <a:ext cx="4751280" cy="628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4500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5000"/>
              </a:lnSpc>
              <a:spcAft>
                <a:spcPts val="1412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Изучить теоретический материал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5000"/>
              </a:lnSpc>
              <a:spcAft>
                <a:spcPts val="1412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Познакомиться с  практическими проектами использования роботов в космосе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5000"/>
              </a:lnSpc>
              <a:spcAft>
                <a:spcPts val="1412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Создать модель робота-манипулятора на основе конструктора lego mindstorms EV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5327640" y="2719440"/>
            <a:ext cx="4425840" cy="3760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смическая робототехни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9440" y="1295280"/>
            <a:ext cx="44262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" bIns="45000" anchor="t">
            <a:normAutofit fontScale="99000"/>
          </a:bodyPr>
          <a:p>
            <a:pPr marL="419400" indent="-315720">
              <a:lnSpc>
                <a:spcPct val="95000"/>
              </a:lnSpc>
              <a:spcAft>
                <a:spcPts val="1412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Робот – это устройство, частично или полностью заменяющее труд челове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400" indent="-315720">
              <a:lnSpc>
                <a:spcPct val="95000"/>
              </a:lnSpc>
              <a:spcAft>
                <a:spcPts val="1412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Косморобот – это роботы, приспособленные работать в космическом пространств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8578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" bIns="45000" anchor="t">
            <a:normAutofit/>
          </a:bodyPr>
          <a:p>
            <a:pPr marL="857160" indent="-642960" algn="just">
              <a:lnSpc>
                <a:spcPct val="95000"/>
              </a:lnSpc>
              <a:spcAft>
                <a:spcPts val="1412"/>
              </a:spcAft>
              <a:buClr>
                <a:srgbClr val="ffcc99"/>
              </a:buClr>
              <a:buSzPct val="45000"/>
              <a:buFont typeface="Courier New"/>
              <a:buChar char="o"/>
              <a:tabLst>
                <a:tab algn="l" pos="85716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космической робототехники на ближайшее время: техобслуживание спутников, сборка на орбите космических объектов, очистка околоземного космического пространства от техногенного мусор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104760"/>
            <a:ext cx="90709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45000" anchor="t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Бортовые манипуляторы “Canadarm” и </a:t>
            </a:r>
            <a:br>
              <a:rPr sz="3000"/>
            </a:b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Canadarm 2”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5218200" y="3456000"/>
            <a:ext cx="4573440" cy="3456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3"/>
          <a:stretch/>
        </p:blipFill>
        <p:spPr>
          <a:xfrm>
            <a:off x="503280" y="3456000"/>
            <a:ext cx="4575240" cy="3456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31640" y="1288800"/>
            <a:ext cx="9071280" cy="19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640" bIns="45000" anchor="t">
            <a:normAutofit/>
          </a:bodyPr>
          <a:p>
            <a:pPr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Предназначены для перемещения многотонных грузов, а такж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еремещения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астронавтов во время выходов в открытый космос.  Эксплуатируются в настоящее врем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45000" anchor="t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обот-манипулятор “ERA” (Europea Robotic Arm) и “Dextre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1280" y="1778040"/>
            <a:ext cx="44262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" bIns="45000" anchor="t">
            <a:normAutofit/>
          </a:bodyPr>
          <a:p>
            <a:pPr indent="0" algn="just">
              <a:lnSpc>
                <a:spcPct val="95000"/>
              </a:lnSpc>
              <a:spcAft>
                <a:spcPts val="83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Робот-манипулятор ERA и Dextre предназначены для проведения операций по сборке, монтажу и перемещению грузов на борту космических кораблей и орбитальных станций, а также проведения инспекции внешней поверхности космических аппаратов.</a:t>
            </a:r>
            <a:r>
              <a:rPr b="0" lang="en-GB" sz="3000" spc="-1" strike="noStrike">
                <a:solidFill>
                  <a:srgbClr val="ffffff"/>
                </a:solidFill>
                <a:latin typeface="YS Text Fallback;Aria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5327640" y="3384720"/>
            <a:ext cx="4392720" cy="3317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5240160" y="1797120"/>
            <a:ext cx="44262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080" bIns="0" anchor="t">
            <a:normAutofit/>
          </a:bodyPr>
          <a:p>
            <a:pPr algn="just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Точность "механической руки" Era 5 мм, точность Dextre   2 мм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1640" y="506520"/>
            <a:ext cx="90712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45000" anchor="t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 бортовых манипуляторов “Аист” и транспортирующие манипуляторы “Стрела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7280" y="1800360"/>
            <a:ext cx="442584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" bIns="45000" anchor="t">
            <a:normAutofit/>
          </a:bodyPr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Управление установкой “Аист”  в СССР было предусмотрено как из космоса, так и с Земли. "Аист" обладал такой же кинематической схемой, как и Canadarm, но был более точен при управлении (30 против 50 мм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400720" y="1800360"/>
            <a:ext cx="4425840" cy="19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080" bIns="0" anchor="t">
            <a:normAutofit/>
          </a:bodyPr>
          <a:p>
            <a:pPr algn="just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Грузовая система ”Стрела” предназначена для транспортировки грузов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5075280" y="3384720"/>
            <a:ext cx="4860720" cy="367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4360" y="682560"/>
            <a:ext cx="907092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45000" anchor="t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Луноход-1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" bIns="45000" anchor="t">
            <a:normAutofit/>
          </a:bodyPr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10 ноября 1970 года советские астрономы успешно запустили в космос первый в мире самоходный аппарат с дистанционным управлением - ”Луноход-1”. Он проехал 10 540 метров и изучил особенности лунного грун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5151600" y="2538360"/>
            <a:ext cx="4425840" cy="3448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31640" y="372960"/>
            <a:ext cx="90712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45000" anchor="t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journer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31640" y="1187280"/>
            <a:ext cx="391176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" bIns="45000" anchor="t">
            <a:normAutofit fontScale="63000"/>
          </a:bodyPr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4 июля 1997 года на Марс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овершила посадку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автоматическая станция Mars Pathfinder. На ее борту был крошечный марсоход. За 83 дня он успел сделать замеры атмосферы, давления, магнитного поля и отправить на Землю 550 фотографий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4757760" y="1944720"/>
            <a:ext cx="5035680" cy="4010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90709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pirit” и  “Opportunit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6000" y="1154160"/>
            <a:ext cx="907092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" bIns="45000" anchor="t">
            <a:normAutofit fontScale="96000"/>
          </a:bodyPr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Марсоходы были доставлены на Марс с разницей в три недели в 2004 году.</a:t>
            </a:r>
            <a:r>
              <a:rPr b="0" lang="en-GB" sz="3000" spc="-1" strike="noStrike">
                <a:solidFill>
                  <a:srgbClr val="000000"/>
                </a:solidFill>
                <a:latin typeface="Helvetica Neue;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В результате анализа поверхности планеты подтвердилась гипотеза о том, что когда-то на Марсе существовали благоприятные для жизни условия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2084400" y="3527280"/>
            <a:ext cx="6175440" cy="367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21-01-10T15:11:33Z</dcterms:modified>
  <cp:revision>8</cp:revision>
  <dc:subject/>
  <dc:title>КОСМИЧЕСКИЕ РОБОТЫ</dc:title>
</cp:coreProperties>
</file>